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8.wmf" ContentType="image/x-wmf"/>
  <Override PartName="/ppt/media/image10.wmf" ContentType="image/x-wmf"/>
  <Override PartName="/ppt/media/image2.png" ContentType="image/png"/>
  <Override PartName="/ppt/media/image25.png" ContentType="image/png"/>
  <Override PartName="/ppt/media/image9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17.jpeg" ContentType="image/jpeg"/>
  <Override PartName="/ppt/media/image26.png" ContentType="image/png"/>
  <Override PartName="/ppt/media/image6.wmf" ContentType="image/x-wmf"/>
  <Override PartName="/ppt/media/image5.gif" ContentType="image/gif"/>
  <Override PartName="/ppt/media/image28.png" ContentType="image/png"/>
  <Override PartName="/ppt/media/image1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BB58-22E7-464E-828E-068CE760D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1E79-DBC5-49D2-94C0-47710D27E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1CF0-1F75-4969-92FE-1C2D3A4DC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667C-8991-4791-81DF-749674B0D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C87E-CE62-46CC-8784-5A39590A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5EFC-60C9-4EF5-8A85-02986D020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77A9-07EF-4CC1-8AB1-024DD4E45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9FD0-52CB-4C35-A8B1-EF4C97977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732C-CD4B-4422-9424-5B68ACB4F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11A3-5879-47E8-B633-9682434B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06D9-167F-4ABF-91D1-357CA378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9CF3-F365-4A21-A410-39AF2EFC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B9DFC-C9DB-4BB9-8DEE-E8AE6D2D37A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83266"/>
          </a:solidFill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reeform 3"/>
          <p:cNvSpPr/>
          <p:nvPr/>
        </p:nvSpPr>
        <p:spPr>
          <a:xfrm rot="1014000">
            <a:off x="1692360" y="907560"/>
            <a:ext cx="5045040" cy="5523120"/>
          </a:xfrm>
          <a:custGeom>
            <a:avLst/>
            <a:gdLst>
              <a:gd name="textAreaLeft" fmla="*/ 0 w 5045040"/>
              <a:gd name="textAreaRight" fmla="*/ 5045400 w 5045040"/>
              <a:gd name="textAreaTop" fmla="*/ 0 h 5523120"/>
              <a:gd name="textAreaBottom" fmla="*/ 5523480 h 5523120"/>
            </a:gdLst>
            <a:ahLst/>
            <a:rect l="textAreaLeft" t="textAreaTop" r="textAreaRight" b="textAreaBottom"/>
            <a:pathLst>
              <a:path w="4688" h="4611">
                <a:moveTo>
                  <a:pt x="4668" y="1100"/>
                </a:moveTo>
                <a:lnTo>
                  <a:pt x="4670" y="1129"/>
                </a:lnTo>
                <a:lnTo>
                  <a:pt x="4674" y="1158"/>
                </a:lnTo>
                <a:lnTo>
                  <a:pt x="4676" y="1187"/>
                </a:lnTo>
                <a:lnTo>
                  <a:pt x="4680" y="1218"/>
                </a:lnTo>
                <a:lnTo>
                  <a:pt x="4682" y="1247"/>
                </a:lnTo>
                <a:lnTo>
                  <a:pt x="4684" y="1278"/>
                </a:lnTo>
                <a:lnTo>
                  <a:pt x="4686" y="1307"/>
                </a:lnTo>
                <a:lnTo>
                  <a:pt x="4688" y="1338"/>
                </a:lnTo>
                <a:lnTo>
                  <a:pt x="4686" y="1367"/>
                </a:lnTo>
                <a:lnTo>
                  <a:pt x="4686" y="1396"/>
                </a:lnTo>
                <a:lnTo>
                  <a:pt x="4684" y="1425"/>
                </a:lnTo>
                <a:lnTo>
                  <a:pt x="4682" y="1456"/>
                </a:lnTo>
                <a:lnTo>
                  <a:pt x="4678" y="1486"/>
                </a:lnTo>
                <a:lnTo>
                  <a:pt x="4676" y="1515"/>
                </a:lnTo>
                <a:lnTo>
                  <a:pt x="4674" y="1544"/>
                </a:lnTo>
                <a:lnTo>
                  <a:pt x="4672" y="1575"/>
                </a:lnTo>
                <a:lnTo>
                  <a:pt x="4666" y="1604"/>
                </a:lnTo>
                <a:lnTo>
                  <a:pt x="4663" y="1633"/>
                </a:lnTo>
                <a:lnTo>
                  <a:pt x="4657" y="1662"/>
                </a:lnTo>
                <a:lnTo>
                  <a:pt x="4651" y="1691"/>
                </a:lnTo>
                <a:lnTo>
                  <a:pt x="4643" y="1720"/>
                </a:lnTo>
                <a:lnTo>
                  <a:pt x="4637" y="1749"/>
                </a:lnTo>
                <a:lnTo>
                  <a:pt x="4630" y="1778"/>
                </a:lnTo>
                <a:lnTo>
                  <a:pt x="4624" y="1807"/>
                </a:lnTo>
                <a:lnTo>
                  <a:pt x="4614" y="1835"/>
                </a:lnTo>
                <a:lnTo>
                  <a:pt x="4604" y="1864"/>
                </a:lnTo>
                <a:lnTo>
                  <a:pt x="4595" y="1891"/>
                </a:lnTo>
                <a:lnTo>
                  <a:pt x="4587" y="1920"/>
                </a:lnTo>
                <a:lnTo>
                  <a:pt x="4575" y="1947"/>
                </a:lnTo>
                <a:lnTo>
                  <a:pt x="4566" y="1976"/>
                </a:lnTo>
                <a:lnTo>
                  <a:pt x="4554" y="2005"/>
                </a:lnTo>
                <a:lnTo>
                  <a:pt x="4544" y="2034"/>
                </a:lnTo>
                <a:lnTo>
                  <a:pt x="4531" y="2059"/>
                </a:lnTo>
                <a:lnTo>
                  <a:pt x="4517" y="2088"/>
                </a:lnTo>
                <a:lnTo>
                  <a:pt x="4504" y="2114"/>
                </a:lnTo>
                <a:lnTo>
                  <a:pt x="4490" y="2143"/>
                </a:lnTo>
                <a:lnTo>
                  <a:pt x="4474" y="2168"/>
                </a:lnTo>
                <a:lnTo>
                  <a:pt x="4461" y="2195"/>
                </a:lnTo>
                <a:lnTo>
                  <a:pt x="4445" y="2222"/>
                </a:lnTo>
                <a:lnTo>
                  <a:pt x="4430" y="2249"/>
                </a:lnTo>
                <a:lnTo>
                  <a:pt x="4412" y="2275"/>
                </a:lnTo>
                <a:lnTo>
                  <a:pt x="4395" y="2302"/>
                </a:lnTo>
                <a:lnTo>
                  <a:pt x="4377" y="2327"/>
                </a:lnTo>
                <a:lnTo>
                  <a:pt x="4360" y="2354"/>
                </a:lnTo>
                <a:lnTo>
                  <a:pt x="4341" y="2379"/>
                </a:lnTo>
                <a:lnTo>
                  <a:pt x="4323" y="2406"/>
                </a:lnTo>
                <a:lnTo>
                  <a:pt x="4304" y="2432"/>
                </a:lnTo>
                <a:lnTo>
                  <a:pt x="4286" y="2459"/>
                </a:lnTo>
                <a:lnTo>
                  <a:pt x="4265" y="2482"/>
                </a:lnTo>
                <a:lnTo>
                  <a:pt x="4244" y="2507"/>
                </a:lnTo>
                <a:lnTo>
                  <a:pt x="4222" y="2532"/>
                </a:lnTo>
                <a:lnTo>
                  <a:pt x="4201" y="2558"/>
                </a:lnTo>
                <a:lnTo>
                  <a:pt x="4178" y="2581"/>
                </a:lnTo>
                <a:lnTo>
                  <a:pt x="4154" y="2606"/>
                </a:lnTo>
                <a:lnTo>
                  <a:pt x="4131" y="2631"/>
                </a:lnTo>
                <a:lnTo>
                  <a:pt x="4110" y="2657"/>
                </a:lnTo>
                <a:lnTo>
                  <a:pt x="4085" y="2680"/>
                </a:lnTo>
                <a:lnTo>
                  <a:pt x="4059" y="2703"/>
                </a:lnTo>
                <a:lnTo>
                  <a:pt x="4034" y="2726"/>
                </a:lnTo>
                <a:lnTo>
                  <a:pt x="4009" y="2752"/>
                </a:lnTo>
                <a:lnTo>
                  <a:pt x="3982" y="2775"/>
                </a:lnTo>
                <a:lnTo>
                  <a:pt x="3957" y="2798"/>
                </a:lnTo>
                <a:lnTo>
                  <a:pt x="3929" y="2821"/>
                </a:lnTo>
                <a:lnTo>
                  <a:pt x="3904" y="2847"/>
                </a:lnTo>
                <a:lnTo>
                  <a:pt x="3881" y="2862"/>
                </a:lnTo>
                <a:lnTo>
                  <a:pt x="3862" y="2880"/>
                </a:lnTo>
                <a:lnTo>
                  <a:pt x="3838" y="2899"/>
                </a:lnTo>
                <a:lnTo>
                  <a:pt x="3819" y="2920"/>
                </a:lnTo>
                <a:lnTo>
                  <a:pt x="3796" y="2942"/>
                </a:lnTo>
                <a:lnTo>
                  <a:pt x="3776" y="2965"/>
                </a:lnTo>
                <a:lnTo>
                  <a:pt x="3753" y="2988"/>
                </a:lnTo>
                <a:lnTo>
                  <a:pt x="3734" y="3013"/>
                </a:lnTo>
                <a:lnTo>
                  <a:pt x="3710" y="3037"/>
                </a:lnTo>
                <a:lnTo>
                  <a:pt x="3689" y="3064"/>
                </a:lnTo>
                <a:lnTo>
                  <a:pt x="3668" y="3091"/>
                </a:lnTo>
                <a:lnTo>
                  <a:pt x="3646" y="3120"/>
                </a:lnTo>
                <a:lnTo>
                  <a:pt x="3623" y="3149"/>
                </a:lnTo>
                <a:lnTo>
                  <a:pt x="3602" y="3178"/>
                </a:lnTo>
                <a:lnTo>
                  <a:pt x="3580" y="3207"/>
                </a:lnTo>
                <a:lnTo>
                  <a:pt x="3559" y="3240"/>
                </a:lnTo>
                <a:lnTo>
                  <a:pt x="3536" y="3269"/>
                </a:lnTo>
                <a:lnTo>
                  <a:pt x="3514" y="3302"/>
                </a:lnTo>
                <a:lnTo>
                  <a:pt x="3493" y="3333"/>
                </a:lnTo>
                <a:lnTo>
                  <a:pt x="3472" y="3366"/>
                </a:lnTo>
                <a:lnTo>
                  <a:pt x="3449" y="3399"/>
                </a:lnTo>
                <a:lnTo>
                  <a:pt x="3427" y="3432"/>
                </a:lnTo>
                <a:lnTo>
                  <a:pt x="3406" y="3465"/>
                </a:lnTo>
                <a:lnTo>
                  <a:pt x="3386" y="3500"/>
                </a:lnTo>
                <a:lnTo>
                  <a:pt x="3363" y="3533"/>
                </a:lnTo>
                <a:lnTo>
                  <a:pt x="3344" y="3568"/>
                </a:lnTo>
                <a:lnTo>
                  <a:pt x="3322" y="3601"/>
                </a:lnTo>
                <a:lnTo>
                  <a:pt x="3303" y="3636"/>
                </a:lnTo>
                <a:lnTo>
                  <a:pt x="3282" y="3669"/>
                </a:lnTo>
                <a:lnTo>
                  <a:pt x="3262" y="3703"/>
                </a:lnTo>
                <a:lnTo>
                  <a:pt x="3243" y="3738"/>
                </a:lnTo>
                <a:lnTo>
                  <a:pt x="3225" y="3773"/>
                </a:lnTo>
                <a:lnTo>
                  <a:pt x="3204" y="3806"/>
                </a:lnTo>
                <a:lnTo>
                  <a:pt x="3185" y="3839"/>
                </a:lnTo>
                <a:lnTo>
                  <a:pt x="3167" y="3872"/>
                </a:lnTo>
                <a:lnTo>
                  <a:pt x="3150" y="3905"/>
                </a:lnTo>
                <a:lnTo>
                  <a:pt x="3130" y="3936"/>
                </a:lnTo>
                <a:lnTo>
                  <a:pt x="3113" y="3969"/>
                </a:lnTo>
                <a:lnTo>
                  <a:pt x="3096" y="4000"/>
                </a:lnTo>
                <a:lnTo>
                  <a:pt x="3080" y="4033"/>
                </a:lnTo>
                <a:lnTo>
                  <a:pt x="3063" y="4062"/>
                </a:lnTo>
                <a:lnTo>
                  <a:pt x="3047" y="4093"/>
                </a:lnTo>
                <a:lnTo>
                  <a:pt x="3032" y="4122"/>
                </a:lnTo>
                <a:lnTo>
                  <a:pt x="3018" y="4153"/>
                </a:lnTo>
                <a:lnTo>
                  <a:pt x="3002" y="4180"/>
                </a:lnTo>
                <a:lnTo>
                  <a:pt x="2989" y="4209"/>
                </a:lnTo>
                <a:lnTo>
                  <a:pt x="2977" y="4237"/>
                </a:lnTo>
                <a:lnTo>
                  <a:pt x="2966" y="4264"/>
                </a:lnTo>
                <a:lnTo>
                  <a:pt x="2952" y="4287"/>
                </a:lnTo>
                <a:lnTo>
                  <a:pt x="2940" y="4312"/>
                </a:lnTo>
                <a:lnTo>
                  <a:pt x="2929" y="4335"/>
                </a:lnTo>
                <a:lnTo>
                  <a:pt x="2919" y="4359"/>
                </a:lnTo>
                <a:lnTo>
                  <a:pt x="2907" y="4378"/>
                </a:lnTo>
                <a:lnTo>
                  <a:pt x="2900" y="4399"/>
                </a:lnTo>
                <a:lnTo>
                  <a:pt x="2890" y="4419"/>
                </a:lnTo>
                <a:lnTo>
                  <a:pt x="2884" y="4438"/>
                </a:lnTo>
                <a:lnTo>
                  <a:pt x="2876" y="4454"/>
                </a:lnTo>
                <a:lnTo>
                  <a:pt x="2871" y="4469"/>
                </a:lnTo>
                <a:lnTo>
                  <a:pt x="2865" y="4483"/>
                </a:lnTo>
                <a:lnTo>
                  <a:pt x="2861" y="4498"/>
                </a:lnTo>
                <a:lnTo>
                  <a:pt x="2855" y="4508"/>
                </a:lnTo>
                <a:lnTo>
                  <a:pt x="2853" y="4520"/>
                </a:lnTo>
                <a:lnTo>
                  <a:pt x="2849" y="4527"/>
                </a:lnTo>
                <a:lnTo>
                  <a:pt x="2849" y="4537"/>
                </a:lnTo>
                <a:lnTo>
                  <a:pt x="2840" y="4611"/>
                </a:lnTo>
                <a:lnTo>
                  <a:pt x="2785" y="4557"/>
                </a:lnTo>
                <a:lnTo>
                  <a:pt x="2772" y="4539"/>
                </a:lnTo>
                <a:lnTo>
                  <a:pt x="2756" y="4522"/>
                </a:lnTo>
                <a:lnTo>
                  <a:pt x="2745" y="4508"/>
                </a:lnTo>
                <a:lnTo>
                  <a:pt x="2735" y="4496"/>
                </a:lnTo>
                <a:lnTo>
                  <a:pt x="2723" y="4483"/>
                </a:lnTo>
                <a:lnTo>
                  <a:pt x="2712" y="4469"/>
                </a:lnTo>
                <a:lnTo>
                  <a:pt x="2696" y="4452"/>
                </a:lnTo>
                <a:lnTo>
                  <a:pt x="2682" y="4436"/>
                </a:lnTo>
                <a:lnTo>
                  <a:pt x="2667" y="4419"/>
                </a:lnTo>
                <a:lnTo>
                  <a:pt x="2651" y="4403"/>
                </a:lnTo>
                <a:lnTo>
                  <a:pt x="2634" y="4384"/>
                </a:lnTo>
                <a:lnTo>
                  <a:pt x="2617" y="4365"/>
                </a:lnTo>
                <a:lnTo>
                  <a:pt x="2597" y="4345"/>
                </a:lnTo>
                <a:lnTo>
                  <a:pt x="2580" y="4326"/>
                </a:lnTo>
                <a:lnTo>
                  <a:pt x="2558" y="4303"/>
                </a:lnTo>
                <a:lnTo>
                  <a:pt x="2537" y="4281"/>
                </a:lnTo>
                <a:lnTo>
                  <a:pt x="2516" y="4258"/>
                </a:lnTo>
                <a:lnTo>
                  <a:pt x="2494" y="4235"/>
                </a:lnTo>
                <a:lnTo>
                  <a:pt x="2471" y="4209"/>
                </a:lnTo>
                <a:lnTo>
                  <a:pt x="2448" y="4186"/>
                </a:lnTo>
                <a:lnTo>
                  <a:pt x="2425" y="4163"/>
                </a:lnTo>
                <a:lnTo>
                  <a:pt x="2401" y="4140"/>
                </a:lnTo>
                <a:lnTo>
                  <a:pt x="2374" y="4113"/>
                </a:lnTo>
                <a:lnTo>
                  <a:pt x="2349" y="4087"/>
                </a:lnTo>
                <a:lnTo>
                  <a:pt x="2324" y="4060"/>
                </a:lnTo>
                <a:lnTo>
                  <a:pt x="2298" y="4035"/>
                </a:lnTo>
                <a:lnTo>
                  <a:pt x="2269" y="4008"/>
                </a:lnTo>
                <a:lnTo>
                  <a:pt x="2244" y="3983"/>
                </a:lnTo>
                <a:lnTo>
                  <a:pt x="2215" y="3955"/>
                </a:lnTo>
                <a:lnTo>
                  <a:pt x="2190" y="3930"/>
                </a:lnTo>
                <a:lnTo>
                  <a:pt x="2161" y="3901"/>
                </a:lnTo>
                <a:lnTo>
                  <a:pt x="2132" y="3874"/>
                </a:lnTo>
                <a:lnTo>
                  <a:pt x="2103" y="3847"/>
                </a:lnTo>
                <a:lnTo>
                  <a:pt x="2073" y="3822"/>
                </a:lnTo>
                <a:lnTo>
                  <a:pt x="2042" y="3793"/>
                </a:lnTo>
                <a:lnTo>
                  <a:pt x="2013" y="3767"/>
                </a:lnTo>
                <a:lnTo>
                  <a:pt x="1984" y="3740"/>
                </a:lnTo>
                <a:lnTo>
                  <a:pt x="1955" y="3715"/>
                </a:lnTo>
                <a:lnTo>
                  <a:pt x="1924" y="3688"/>
                </a:lnTo>
                <a:lnTo>
                  <a:pt x="1895" y="3663"/>
                </a:lnTo>
                <a:lnTo>
                  <a:pt x="1864" y="3638"/>
                </a:lnTo>
                <a:lnTo>
                  <a:pt x="1835" y="3614"/>
                </a:lnTo>
                <a:lnTo>
                  <a:pt x="1804" y="3589"/>
                </a:lnTo>
                <a:lnTo>
                  <a:pt x="1775" y="3564"/>
                </a:lnTo>
                <a:lnTo>
                  <a:pt x="1746" y="3541"/>
                </a:lnTo>
                <a:lnTo>
                  <a:pt x="1717" y="3519"/>
                </a:lnTo>
                <a:lnTo>
                  <a:pt x="1686" y="3496"/>
                </a:lnTo>
                <a:lnTo>
                  <a:pt x="1657" y="3473"/>
                </a:lnTo>
                <a:lnTo>
                  <a:pt x="1627" y="3451"/>
                </a:lnTo>
                <a:lnTo>
                  <a:pt x="1598" y="3432"/>
                </a:lnTo>
                <a:lnTo>
                  <a:pt x="1569" y="3411"/>
                </a:lnTo>
                <a:lnTo>
                  <a:pt x="1540" y="3391"/>
                </a:lnTo>
                <a:lnTo>
                  <a:pt x="1513" y="3374"/>
                </a:lnTo>
                <a:lnTo>
                  <a:pt x="1486" y="3356"/>
                </a:lnTo>
                <a:lnTo>
                  <a:pt x="1457" y="3339"/>
                </a:lnTo>
                <a:lnTo>
                  <a:pt x="1428" y="3322"/>
                </a:lnTo>
                <a:lnTo>
                  <a:pt x="1401" y="3306"/>
                </a:lnTo>
                <a:lnTo>
                  <a:pt x="1375" y="3292"/>
                </a:lnTo>
                <a:lnTo>
                  <a:pt x="1348" y="3277"/>
                </a:lnTo>
                <a:lnTo>
                  <a:pt x="1323" y="3265"/>
                </a:lnTo>
                <a:lnTo>
                  <a:pt x="1298" y="3254"/>
                </a:lnTo>
                <a:lnTo>
                  <a:pt x="1274" y="3246"/>
                </a:lnTo>
                <a:lnTo>
                  <a:pt x="1240" y="3230"/>
                </a:lnTo>
                <a:lnTo>
                  <a:pt x="1207" y="3217"/>
                </a:lnTo>
                <a:lnTo>
                  <a:pt x="1174" y="3203"/>
                </a:lnTo>
                <a:lnTo>
                  <a:pt x="1143" y="3190"/>
                </a:lnTo>
                <a:lnTo>
                  <a:pt x="1110" y="3174"/>
                </a:lnTo>
                <a:lnTo>
                  <a:pt x="1079" y="3159"/>
                </a:lnTo>
                <a:lnTo>
                  <a:pt x="1048" y="3143"/>
                </a:lnTo>
                <a:lnTo>
                  <a:pt x="1018" y="3130"/>
                </a:lnTo>
                <a:lnTo>
                  <a:pt x="987" y="3112"/>
                </a:lnTo>
                <a:lnTo>
                  <a:pt x="958" y="3097"/>
                </a:lnTo>
                <a:lnTo>
                  <a:pt x="929" y="3081"/>
                </a:lnTo>
                <a:lnTo>
                  <a:pt x="902" y="3066"/>
                </a:lnTo>
                <a:lnTo>
                  <a:pt x="873" y="3048"/>
                </a:lnTo>
                <a:lnTo>
                  <a:pt x="844" y="3031"/>
                </a:lnTo>
                <a:lnTo>
                  <a:pt x="817" y="3013"/>
                </a:lnTo>
                <a:lnTo>
                  <a:pt x="792" y="2996"/>
                </a:lnTo>
                <a:lnTo>
                  <a:pt x="762" y="2976"/>
                </a:lnTo>
                <a:lnTo>
                  <a:pt x="737" y="2957"/>
                </a:lnTo>
                <a:lnTo>
                  <a:pt x="710" y="2938"/>
                </a:lnTo>
                <a:lnTo>
                  <a:pt x="687" y="2920"/>
                </a:lnTo>
                <a:lnTo>
                  <a:pt x="660" y="2901"/>
                </a:lnTo>
                <a:lnTo>
                  <a:pt x="636" y="2881"/>
                </a:lnTo>
                <a:lnTo>
                  <a:pt x="613" y="2862"/>
                </a:lnTo>
                <a:lnTo>
                  <a:pt x="590" y="2843"/>
                </a:lnTo>
                <a:lnTo>
                  <a:pt x="567" y="2821"/>
                </a:lnTo>
                <a:lnTo>
                  <a:pt x="543" y="2800"/>
                </a:lnTo>
                <a:lnTo>
                  <a:pt x="520" y="2779"/>
                </a:lnTo>
                <a:lnTo>
                  <a:pt x="499" y="2759"/>
                </a:lnTo>
                <a:lnTo>
                  <a:pt x="475" y="2736"/>
                </a:lnTo>
                <a:lnTo>
                  <a:pt x="456" y="2715"/>
                </a:lnTo>
                <a:lnTo>
                  <a:pt x="435" y="2693"/>
                </a:lnTo>
                <a:lnTo>
                  <a:pt x="417" y="2672"/>
                </a:lnTo>
                <a:lnTo>
                  <a:pt x="396" y="2647"/>
                </a:lnTo>
                <a:lnTo>
                  <a:pt x="377" y="2624"/>
                </a:lnTo>
                <a:lnTo>
                  <a:pt x="357" y="2600"/>
                </a:lnTo>
                <a:lnTo>
                  <a:pt x="340" y="2577"/>
                </a:lnTo>
                <a:lnTo>
                  <a:pt x="320" y="2552"/>
                </a:lnTo>
                <a:lnTo>
                  <a:pt x="303" y="2529"/>
                </a:lnTo>
                <a:lnTo>
                  <a:pt x="287" y="2503"/>
                </a:lnTo>
                <a:lnTo>
                  <a:pt x="272" y="2480"/>
                </a:lnTo>
                <a:lnTo>
                  <a:pt x="254" y="2453"/>
                </a:lnTo>
                <a:lnTo>
                  <a:pt x="237" y="2430"/>
                </a:lnTo>
                <a:lnTo>
                  <a:pt x="221" y="2403"/>
                </a:lnTo>
                <a:lnTo>
                  <a:pt x="208" y="2379"/>
                </a:lnTo>
                <a:lnTo>
                  <a:pt x="192" y="2352"/>
                </a:lnTo>
                <a:lnTo>
                  <a:pt x="179" y="2327"/>
                </a:lnTo>
                <a:lnTo>
                  <a:pt x="167" y="2300"/>
                </a:lnTo>
                <a:lnTo>
                  <a:pt x="155" y="2275"/>
                </a:lnTo>
                <a:lnTo>
                  <a:pt x="142" y="2246"/>
                </a:lnTo>
                <a:lnTo>
                  <a:pt x="130" y="2218"/>
                </a:lnTo>
                <a:lnTo>
                  <a:pt x="119" y="2191"/>
                </a:lnTo>
                <a:lnTo>
                  <a:pt x="109" y="2164"/>
                </a:lnTo>
                <a:lnTo>
                  <a:pt x="97" y="2135"/>
                </a:lnTo>
                <a:lnTo>
                  <a:pt x="88" y="2108"/>
                </a:lnTo>
                <a:lnTo>
                  <a:pt x="78" y="2079"/>
                </a:lnTo>
                <a:lnTo>
                  <a:pt x="70" y="2052"/>
                </a:lnTo>
                <a:lnTo>
                  <a:pt x="60" y="2023"/>
                </a:lnTo>
                <a:lnTo>
                  <a:pt x="53" y="1994"/>
                </a:lnTo>
                <a:lnTo>
                  <a:pt x="47" y="1964"/>
                </a:lnTo>
                <a:lnTo>
                  <a:pt x="41" y="1935"/>
                </a:lnTo>
                <a:lnTo>
                  <a:pt x="33" y="1906"/>
                </a:lnTo>
                <a:lnTo>
                  <a:pt x="27" y="1877"/>
                </a:lnTo>
                <a:lnTo>
                  <a:pt x="24" y="1848"/>
                </a:lnTo>
                <a:lnTo>
                  <a:pt x="20" y="1819"/>
                </a:lnTo>
                <a:lnTo>
                  <a:pt x="14" y="1784"/>
                </a:lnTo>
                <a:lnTo>
                  <a:pt x="8" y="1751"/>
                </a:lnTo>
                <a:lnTo>
                  <a:pt x="4" y="1718"/>
                </a:lnTo>
                <a:lnTo>
                  <a:pt x="2" y="1685"/>
                </a:lnTo>
                <a:lnTo>
                  <a:pt x="0" y="1650"/>
                </a:lnTo>
                <a:lnTo>
                  <a:pt x="0" y="1619"/>
                </a:lnTo>
                <a:lnTo>
                  <a:pt x="0" y="1586"/>
                </a:lnTo>
                <a:lnTo>
                  <a:pt x="2" y="1555"/>
                </a:lnTo>
                <a:lnTo>
                  <a:pt x="2" y="1520"/>
                </a:lnTo>
                <a:lnTo>
                  <a:pt x="6" y="1489"/>
                </a:lnTo>
                <a:lnTo>
                  <a:pt x="8" y="1456"/>
                </a:lnTo>
                <a:lnTo>
                  <a:pt x="14" y="1425"/>
                </a:lnTo>
                <a:lnTo>
                  <a:pt x="18" y="1394"/>
                </a:lnTo>
                <a:lnTo>
                  <a:pt x="24" y="1363"/>
                </a:lnTo>
                <a:lnTo>
                  <a:pt x="29" y="1332"/>
                </a:lnTo>
                <a:lnTo>
                  <a:pt x="37" y="1303"/>
                </a:lnTo>
                <a:lnTo>
                  <a:pt x="43" y="1272"/>
                </a:lnTo>
                <a:lnTo>
                  <a:pt x="53" y="1241"/>
                </a:lnTo>
                <a:lnTo>
                  <a:pt x="60" y="1210"/>
                </a:lnTo>
                <a:lnTo>
                  <a:pt x="70" y="1181"/>
                </a:lnTo>
                <a:lnTo>
                  <a:pt x="80" y="1152"/>
                </a:lnTo>
                <a:lnTo>
                  <a:pt x="91" y="1123"/>
                </a:lnTo>
                <a:lnTo>
                  <a:pt x="103" y="1094"/>
                </a:lnTo>
                <a:lnTo>
                  <a:pt x="117" y="1067"/>
                </a:lnTo>
                <a:lnTo>
                  <a:pt x="128" y="1038"/>
                </a:lnTo>
                <a:lnTo>
                  <a:pt x="142" y="1011"/>
                </a:lnTo>
                <a:lnTo>
                  <a:pt x="155" y="983"/>
                </a:lnTo>
                <a:lnTo>
                  <a:pt x="173" y="958"/>
                </a:lnTo>
                <a:lnTo>
                  <a:pt x="188" y="929"/>
                </a:lnTo>
                <a:lnTo>
                  <a:pt x="204" y="904"/>
                </a:lnTo>
                <a:lnTo>
                  <a:pt x="221" y="879"/>
                </a:lnTo>
                <a:lnTo>
                  <a:pt x="241" y="855"/>
                </a:lnTo>
                <a:lnTo>
                  <a:pt x="258" y="828"/>
                </a:lnTo>
                <a:lnTo>
                  <a:pt x="276" y="803"/>
                </a:lnTo>
                <a:lnTo>
                  <a:pt x="293" y="780"/>
                </a:lnTo>
                <a:lnTo>
                  <a:pt x="314" y="757"/>
                </a:lnTo>
                <a:lnTo>
                  <a:pt x="332" y="733"/>
                </a:lnTo>
                <a:lnTo>
                  <a:pt x="353" y="710"/>
                </a:lnTo>
                <a:lnTo>
                  <a:pt x="375" y="689"/>
                </a:lnTo>
                <a:lnTo>
                  <a:pt x="398" y="669"/>
                </a:lnTo>
                <a:lnTo>
                  <a:pt x="419" y="646"/>
                </a:lnTo>
                <a:lnTo>
                  <a:pt x="441" y="627"/>
                </a:lnTo>
                <a:lnTo>
                  <a:pt x="464" y="605"/>
                </a:lnTo>
                <a:lnTo>
                  <a:pt x="489" y="588"/>
                </a:lnTo>
                <a:lnTo>
                  <a:pt x="512" y="570"/>
                </a:lnTo>
                <a:lnTo>
                  <a:pt x="538" y="553"/>
                </a:lnTo>
                <a:lnTo>
                  <a:pt x="563" y="536"/>
                </a:lnTo>
                <a:lnTo>
                  <a:pt x="590" y="520"/>
                </a:lnTo>
                <a:lnTo>
                  <a:pt x="615" y="503"/>
                </a:lnTo>
                <a:lnTo>
                  <a:pt x="642" y="487"/>
                </a:lnTo>
                <a:lnTo>
                  <a:pt x="667" y="472"/>
                </a:lnTo>
                <a:lnTo>
                  <a:pt x="697" y="458"/>
                </a:lnTo>
                <a:lnTo>
                  <a:pt x="724" y="444"/>
                </a:lnTo>
                <a:lnTo>
                  <a:pt x="753" y="431"/>
                </a:lnTo>
                <a:lnTo>
                  <a:pt x="782" y="419"/>
                </a:lnTo>
                <a:lnTo>
                  <a:pt x="811" y="410"/>
                </a:lnTo>
                <a:lnTo>
                  <a:pt x="840" y="398"/>
                </a:lnTo>
                <a:lnTo>
                  <a:pt x="869" y="388"/>
                </a:lnTo>
                <a:lnTo>
                  <a:pt x="898" y="379"/>
                </a:lnTo>
                <a:lnTo>
                  <a:pt x="931" y="371"/>
                </a:lnTo>
                <a:lnTo>
                  <a:pt x="960" y="363"/>
                </a:lnTo>
                <a:lnTo>
                  <a:pt x="993" y="355"/>
                </a:lnTo>
                <a:lnTo>
                  <a:pt x="1024" y="349"/>
                </a:lnTo>
                <a:lnTo>
                  <a:pt x="1057" y="346"/>
                </a:lnTo>
                <a:lnTo>
                  <a:pt x="1079" y="340"/>
                </a:lnTo>
                <a:lnTo>
                  <a:pt x="1102" y="338"/>
                </a:lnTo>
                <a:lnTo>
                  <a:pt x="1123" y="334"/>
                </a:lnTo>
                <a:lnTo>
                  <a:pt x="1146" y="334"/>
                </a:lnTo>
                <a:lnTo>
                  <a:pt x="1168" y="330"/>
                </a:lnTo>
                <a:lnTo>
                  <a:pt x="1191" y="330"/>
                </a:lnTo>
                <a:lnTo>
                  <a:pt x="1212" y="330"/>
                </a:lnTo>
                <a:lnTo>
                  <a:pt x="1236" y="330"/>
                </a:lnTo>
                <a:lnTo>
                  <a:pt x="1257" y="330"/>
                </a:lnTo>
                <a:lnTo>
                  <a:pt x="1280" y="330"/>
                </a:lnTo>
                <a:lnTo>
                  <a:pt x="1302" y="330"/>
                </a:lnTo>
                <a:lnTo>
                  <a:pt x="1325" y="332"/>
                </a:lnTo>
                <a:lnTo>
                  <a:pt x="1346" y="332"/>
                </a:lnTo>
                <a:lnTo>
                  <a:pt x="1370" y="336"/>
                </a:lnTo>
                <a:lnTo>
                  <a:pt x="1391" y="338"/>
                </a:lnTo>
                <a:lnTo>
                  <a:pt x="1414" y="342"/>
                </a:lnTo>
                <a:lnTo>
                  <a:pt x="1433" y="344"/>
                </a:lnTo>
                <a:lnTo>
                  <a:pt x="1457" y="348"/>
                </a:lnTo>
                <a:lnTo>
                  <a:pt x="1476" y="351"/>
                </a:lnTo>
                <a:lnTo>
                  <a:pt x="1499" y="357"/>
                </a:lnTo>
                <a:lnTo>
                  <a:pt x="1521" y="361"/>
                </a:lnTo>
                <a:lnTo>
                  <a:pt x="1542" y="367"/>
                </a:lnTo>
                <a:lnTo>
                  <a:pt x="1563" y="373"/>
                </a:lnTo>
                <a:lnTo>
                  <a:pt x="1587" y="379"/>
                </a:lnTo>
                <a:lnTo>
                  <a:pt x="1606" y="384"/>
                </a:lnTo>
                <a:lnTo>
                  <a:pt x="1627" y="390"/>
                </a:lnTo>
                <a:lnTo>
                  <a:pt x="1649" y="398"/>
                </a:lnTo>
                <a:lnTo>
                  <a:pt x="1670" y="408"/>
                </a:lnTo>
                <a:lnTo>
                  <a:pt x="1689" y="413"/>
                </a:lnTo>
                <a:lnTo>
                  <a:pt x="1711" y="423"/>
                </a:lnTo>
                <a:lnTo>
                  <a:pt x="1732" y="431"/>
                </a:lnTo>
                <a:lnTo>
                  <a:pt x="1753" y="443"/>
                </a:lnTo>
                <a:lnTo>
                  <a:pt x="1771" y="450"/>
                </a:lnTo>
                <a:lnTo>
                  <a:pt x="1792" y="460"/>
                </a:lnTo>
                <a:lnTo>
                  <a:pt x="1810" y="470"/>
                </a:lnTo>
                <a:lnTo>
                  <a:pt x="1831" y="481"/>
                </a:lnTo>
                <a:lnTo>
                  <a:pt x="1849" y="491"/>
                </a:lnTo>
                <a:lnTo>
                  <a:pt x="1870" y="503"/>
                </a:lnTo>
                <a:lnTo>
                  <a:pt x="1887" y="514"/>
                </a:lnTo>
                <a:lnTo>
                  <a:pt x="1909" y="526"/>
                </a:lnTo>
                <a:lnTo>
                  <a:pt x="1926" y="538"/>
                </a:lnTo>
                <a:lnTo>
                  <a:pt x="1944" y="549"/>
                </a:lnTo>
                <a:lnTo>
                  <a:pt x="1961" y="561"/>
                </a:lnTo>
                <a:lnTo>
                  <a:pt x="1980" y="576"/>
                </a:lnTo>
                <a:lnTo>
                  <a:pt x="1998" y="588"/>
                </a:lnTo>
                <a:lnTo>
                  <a:pt x="2015" y="603"/>
                </a:lnTo>
                <a:lnTo>
                  <a:pt x="2033" y="617"/>
                </a:lnTo>
                <a:lnTo>
                  <a:pt x="2052" y="633"/>
                </a:lnTo>
                <a:lnTo>
                  <a:pt x="2068" y="646"/>
                </a:lnTo>
                <a:lnTo>
                  <a:pt x="2083" y="662"/>
                </a:lnTo>
                <a:lnTo>
                  <a:pt x="2099" y="675"/>
                </a:lnTo>
                <a:lnTo>
                  <a:pt x="2116" y="693"/>
                </a:lnTo>
                <a:lnTo>
                  <a:pt x="2132" y="708"/>
                </a:lnTo>
                <a:lnTo>
                  <a:pt x="2147" y="724"/>
                </a:lnTo>
                <a:lnTo>
                  <a:pt x="2163" y="741"/>
                </a:lnTo>
                <a:lnTo>
                  <a:pt x="2180" y="759"/>
                </a:lnTo>
                <a:lnTo>
                  <a:pt x="2194" y="776"/>
                </a:lnTo>
                <a:lnTo>
                  <a:pt x="2209" y="793"/>
                </a:lnTo>
                <a:lnTo>
                  <a:pt x="2223" y="811"/>
                </a:lnTo>
                <a:lnTo>
                  <a:pt x="2238" y="830"/>
                </a:lnTo>
                <a:lnTo>
                  <a:pt x="2252" y="848"/>
                </a:lnTo>
                <a:lnTo>
                  <a:pt x="2265" y="867"/>
                </a:lnTo>
                <a:lnTo>
                  <a:pt x="2279" y="886"/>
                </a:lnTo>
                <a:lnTo>
                  <a:pt x="2295" y="908"/>
                </a:lnTo>
                <a:lnTo>
                  <a:pt x="2231" y="918"/>
                </a:lnTo>
                <a:lnTo>
                  <a:pt x="2236" y="894"/>
                </a:lnTo>
                <a:lnTo>
                  <a:pt x="2242" y="871"/>
                </a:lnTo>
                <a:lnTo>
                  <a:pt x="2248" y="850"/>
                </a:lnTo>
                <a:lnTo>
                  <a:pt x="2258" y="828"/>
                </a:lnTo>
                <a:lnTo>
                  <a:pt x="2264" y="805"/>
                </a:lnTo>
                <a:lnTo>
                  <a:pt x="2273" y="786"/>
                </a:lnTo>
                <a:lnTo>
                  <a:pt x="2281" y="764"/>
                </a:lnTo>
                <a:lnTo>
                  <a:pt x="2291" y="745"/>
                </a:lnTo>
                <a:lnTo>
                  <a:pt x="2298" y="722"/>
                </a:lnTo>
                <a:lnTo>
                  <a:pt x="2308" y="702"/>
                </a:lnTo>
                <a:lnTo>
                  <a:pt x="2318" y="681"/>
                </a:lnTo>
                <a:lnTo>
                  <a:pt x="2329" y="662"/>
                </a:lnTo>
                <a:lnTo>
                  <a:pt x="2341" y="642"/>
                </a:lnTo>
                <a:lnTo>
                  <a:pt x="2353" y="623"/>
                </a:lnTo>
                <a:lnTo>
                  <a:pt x="2364" y="603"/>
                </a:lnTo>
                <a:lnTo>
                  <a:pt x="2376" y="586"/>
                </a:lnTo>
                <a:lnTo>
                  <a:pt x="2388" y="567"/>
                </a:lnTo>
                <a:lnTo>
                  <a:pt x="2399" y="547"/>
                </a:lnTo>
                <a:lnTo>
                  <a:pt x="2411" y="528"/>
                </a:lnTo>
                <a:lnTo>
                  <a:pt x="2425" y="510"/>
                </a:lnTo>
                <a:lnTo>
                  <a:pt x="2436" y="493"/>
                </a:lnTo>
                <a:lnTo>
                  <a:pt x="2452" y="475"/>
                </a:lnTo>
                <a:lnTo>
                  <a:pt x="2465" y="458"/>
                </a:lnTo>
                <a:lnTo>
                  <a:pt x="2481" y="443"/>
                </a:lnTo>
                <a:lnTo>
                  <a:pt x="2494" y="425"/>
                </a:lnTo>
                <a:lnTo>
                  <a:pt x="2510" y="408"/>
                </a:lnTo>
                <a:lnTo>
                  <a:pt x="2523" y="390"/>
                </a:lnTo>
                <a:lnTo>
                  <a:pt x="2539" y="377"/>
                </a:lnTo>
                <a:lnTo>
                  <a:pt x="2554" y="359"/>
                </a:lnTo>
                <a:lnTo>
                  <a:pt x="2570" y="346"/>
                </a:lnTo>
                <a:lnTo>
                  <a:pt x="2587" y="330"/>
                </a:lnTo>
                <a:lnTo>
                  <a:pt x="2605" y="316"/>
                </a:lnTo>
                <a:lnTo>
                  <a:pt x="2620" y="299"/>
                </a:lnTo>
                <a:lnTo>
                  <a:pt x="2636" y="285"/>
                </a:lnTo>
                <a:lnTo>
                  <a:pt x="2653" y="270"/>
                </a:lnTo>
                <a:lnTo>
                  <a:pt x="2671" y="258"/>
                </a:lnTo>
                <a:lnTo>
                  <a:pt x="2688" y="243"/>
                </a:lnTo>
                <a:lnTo>
                  <a:pt x="2706" y="229"/>
                </a:lnTo>
                <a:lnTo>
                  <a:pt x="2723" y="218"/>
                </a:lnTo>
                <a:lnTo>
                  <a:pt x="2743" y="206"/>
                </a:lnTo>
                <a:lnTo>
                  <a:pt x="2760" y="194"/>
                </a:lnTo>
                <a:lnTo>
                  <a:pt x="2777" y="183"/>
                </a:lnTo>
                <a:lnTo>
                  <a:pt x="2797" y="171"/>
                </a:lnTo>
                <a:lnTo>
                  <a:pt x="2816" y="159"/>
                </a:lnTo>
                <a:lnTo>
                  <a:pt x="2834" y="148"/>
                </a:lnTo>
                <a:lnTo>
                  <a:pt x="2855" y="138"/>
                </a:lnTo>
                <a:lnTo>
                  <a:pt x="2874" y="128"/>
                </a:lnTo>
                <a:lnTo>
                  <a:pt x="2896" y="121"/>
                </a:lnTo>
                <a:lnTo>
                  <a:pt x="2913" y="109"/>
                </a:lnTo>
                <a:lnTo>
                  <a:pt x="2935" y="101"/>
                </a:lnTo>
                <a:lnTo>
                  <a:pt x="2954" y="92"/>
                </a:lnTo>
                <a:lnTo>
                  <a:pt x="2975" y="86"/>
                </a:lnTo>
                <a:lnTo>
                  <a:pt x="2995" y="76"/>
                </a:lnTo>
                <a:lnTo>
                  <a:pt x="3018" y="68"/>
                </a:lnTo>
                <a:lnTo>
                  <a:pt x="3037" y="63"/>
                </a:lnTo>
                <a:lnTo>
                  <a:pt x="3061" y="57"/>
                </a:lnTo>
                <a:lnTo>
                  <a:pt x="3082" y="49"/>
                </a:lnTo>
                <a:lnTo>
                  <a:pt x="3103" y="43"/>
                </a:lnTo>
                <a:lnTo>
                  <a:pt x="3125" y="37"/>
                </a:lnTo>
                <a:lnTo>
                  <a:pt x="3148" y="33"/>
                </a:lnTo>
                <a:lnTo>
                  <a:pt x="3169" y="28"/>
                </a:lnTo>
                <a:lnTo>
                  <a:pt x="3193" y="24"/>
                </a:lnTo>
                <a:lnTo>
                  <a:pt x="3216" y="20"/>
                </a:lnTo>
                <a:lnTo>
                  <a:pt x="3239" y="18"/>
                </a:lnTo>
                <a:lnTo>
                  <a:pt x="3270" y="12"/>
                </a:lnTo>
                <a:lnTo>
                  <a:pt x="3301" y="6"/>
                </a:lnTo>
                <a:lnTo>
                  <a:pt x="3332" y="2"/>
                </a:lnTo>
                <a:lnTo>
                  <a:pt x="3365" y="2"/>
                </a:lnTo>
                <a:lnTo>
                  <a:pt x="3396" y="0"/>
                </a:lnTo>
                <a:lnTo>
                  <a:pt x="3427" y="0"/>
                </a:lnTo>
                <a:lnTo>
                  <a:pt x="3458" y="0"/>
                </a:lnTo>
                <a:lnTo>
                  <a:pt x="3491" y="2"/>
                </a:lnTo>
                <a:lnTo>
                  <a:pt x="3520" y="2"/>
                </a:lnTo>
                <a:lnTo>
                  <a:pt x="3551" y="6"/>
                </a:lnTo>
                <a:lnTo>
                  <a:pt x="3582" y="8"/>
                </a:lnTo>
                <a:lnTo>
                  <a:pt x="3613" y="14"/>
                </a:lnTo>
                <a:lnTo>
                  <a:pt x="3642" y="18"/>
                </a:lnTo>
                <a:lnTo>
                  <a:pt x="3673" y="24"/>
                </a:lnTo>
                <a:lnTo>
                  <a:pt x="3705" y="30"/>
                </a:lnTo>
                <a:lnTo>
                  <a:pt x="3736" y="39"/>
                </a:lnTo>
                <a:lnTo>
                  <a:pt x="3763" y="45"/>
                </a:lnTo>
                <a:lnTo>
                  <a:pt x="3792" y="55"/>
                </a:lnTo>
                <a:lnTo>
                  <a:pt x="3821" y="64"/>
                </a:lnTo>
                <a:lnTo>
                  <a:pt x="3850" y="76"/>
                </a:lnTo>
                <a:lnTo>
                  <a:pt x="3877" y="86"/>
                </a:lnTo>
                <a:lnTo>
                  <a:pt x="3906" y="97"/>
                </a:lnTo>
                <a:lnTo>
                  <a:pt x="3933" y="111"/>
                </a:lnTo>
                <a:lnTo>
                  <a:pt x="3962" y="125"/>
                </a:lnTo>
                <a:lnTo>
                  <a:pt x="3988" y="136"/>
                </a:lnTo>
                <a:lnTo>
                  <a:pt x="4015" y="152"/>
                </a:lnTo>
                <a:lnTo>
                  <a:pt x="4042" y="165"/>
                </a:lnTo>
                <a:lnTo>
                  <a:pt x="4069" y="183"/>
                </a:lnTo>
                <a:lnTo>
                  <a:pt x="4094" y="200"/>
                </a:lnTo>
                <a:lnTo>
                  <a:pt x="4120" y="218"/>
                </a:lnTo>
                <a:lnTo>
                  <a:pt x="4145" y="235"/>
                </a:lnTo>
                <a:lnTo>
                  <a:pt x="4172" y="254"/>
                </a:lnTo>
                <a:lnTo>
                  <a:pt x="4193" y="272"/>
                </a:lnTo>
                <a:lnTo>
                  <a:pt x="4217" y="289"/>
                </a:lnTo>
                <a:lnTo>
                  <a:pt x="4240" y="309"/>
                </a:lnTo>
                <a:lnTo>
                  <a:pt x="4263" y="330"/>
                </a:lnTo>
                <a:lnTo>
                  <a:pt x="4284" y="351"/>
                </a:lnTo>
                <a:lnTo>
                  <a:pt x="4308" y="373"/>
                </a:lnTo>
                <a:lnTo>
                  <a:pt x="4329" y="396"/>
                </a:lnTo>
                <a:lnTo>
                  <a:pt x="4350" y="419"/>
                </a:lnTo>
                <a:lnTo>
                  <a:pt x="4370" y="441"/>
                </a:lnTo>
                <a:lnTo>
                  <a:pt x="4389" y="464"/>
                </a:lnTo>
                <a:lnTo>
                  <a:pt x="4408" y="489"/>
                </a:lnTo>
                <a:lnTo>
                  <a:pt x="4428" y="514"/>
                </a:lnTo>
                <a:lnTo>
                  <a:pt x="4445" y="538"/>
                </a:lnTo>
                <a:lnTo>
                  <a:pt x="4463" y="565"/>
                </a:lnTo>
                <a:lnTo>
                  <a:pt x="4480" y="590"/>
                </a:lnTo>
                <a:lnTo>
                  <a:pt x="4498" y="619"/>
                </a:lnTo>
                <a:lnTo>
                  <a:pt x="4511" y="644"/>
                </a:lnTo>
                <a:lnTo>
                  <a:pt x="4527" y="671"/>
                </a:lnTo>
                <a:lnTo>
                  <a:pt x="4540" y="698"/>
                </a:lnTo>
                <a:lnTo>
                  <a:pt x="4556" y="728"/>
                </a:lnTo>
                <a:lnTo>
                  <a:pt x="4568" y="755"/>
                </a:lnTo>
                <a:lnTo>
                  <a:pt x="4579" y="784"/>
                </a:lnTo>
                <a:lnTo>
                  <a:pt x="4591" y="815"/>
                </a:lnTo>
                <a:lnTo>
                  <a:pt x="4604" y="846"/>
                </a:lnTo>
                <a:lnTo>
                  <a:pt x="4614" y="875"/>
                </a:lnTo>
                <a:lnTo>
                  <a:pt x="4624" y="904"/>
                </a:lnTo>
                <a:lnTo>
                  <a:pt x="4632" y="935"/>
                </a:lnTo>
                <a:lnTo>
                  <a:pt x="4641" y="968"/>
                </a:lnTo>
                <a:lnTo>
                  <a:pt x="4647" y="999"/>
                </a:lnTo>
                <a:lnTo>
                  <a:pt x="4655" y="1032"/>
                </a:lnTo>
                <a:lnTo>
                  <a:pt x="4661" y="1065"/>
                </a:lnTo>
                <a:lnTo>
                  <a:pt x="4668" y="1100"/>
                </a:lnTo>
                <a:close/>
              </a:path>
            </a:pathLst>
          </a:custGeom>
          <a:solidFill>
            <a:srgbClr val="ff0066">
              <a:alpha val="78000"/>
            </a:srgbClr>
          </a:solidFill>
          <a:ln w="936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reeform 4"/>
          <p:cNvSpPr/>
          <p:nvPr/>
        </p:nvSpPr>
        <p:spPr>
          <a:xfrm rot="1014000">
            <a:off x="1810800" y="1022040"/>
            <a:ext cx="4843800" cy="5181480"/>
          </a:xfrm>
          <a:custGeom>
            <a:avLst/>
            <a:gdLst>
              <a:gd name="textAreaLeft" fmla="*/ 0 w 4843800"/>
              <a:gd name="textAreaRight" fmla="*/ 4844160 w 4843800"/>
              <a:gd name="textAreaTop" fmla="*/ 0 h 5181480"/>
              <a:gd name="textAreaBottom" fmla="*/ 5181480 h 5181480"/>
            </a:gdLst>
            <a:ahLst/>
            <a:rect l="textAreaLeft" t="textAreaTop" r="textAreaRight" b="textAreaBottom"/>
            <a:pathLst>
              <a:path w="4502" h="4325">
                <a:moveTo>
                  <a:pt x="3154" y="15"/>
                </a:moveTo>
                <a:lnTo>
                  <a:pt x="3130" y="17"/>
                </a:lnTo>
                <a:lnTo>
                  <a:pt x="3111" y="21"/>
                </a:lnTo>
                <a:lnTo>
                  <a:pt x="3090" y="23"/>
                </a:lnTo>
                <a:lnTo>
                  <a:pt x="3070" y="29"/>
                </a:lnTo>
                <a:lnTo>
                  <a:pt x="3049" y="33"/>
                </a:lnTo>
                <a:lnTo>
                  <a:pt x="3030" y="38"/>
                </a:lnTo>
                <a:lnTo>
                  <a:pt x="3008" y="44"/>
                </a:lnTo>
                <a:lnTo>
                  <a:pt x="2991" y="50"/>
                </a:lnTo>
                <a:lnTo>
                  <a:pt x="2971" y="56"/>
                </a:lnTo>
                <a:lnTo>
                  <a:pt x="2952" y="62"/>
                </a:lnTo>
                <a:lnTo>
                  <a:pt x="2933" y="67"/>
                </a:lnTo>
                <a:lnTo>
                  <a:pt x="2915" y="75"/>
                </a:lnTo>
                <a:lnTo>
                  <a:pt x="2896" y="81"/>
                </a:lnTo>
                <a:lnTo>
                  <a:pt x="2876" y="91"/>
                </a:lnTo>
                <a:lnTo>
                  <a:pt x="2859" y="98"/>
                </a:lnTo>
                <a:lnTo>
                  <a:pt x="2842" y="108"/>
                </a:lnTo>
                <a:lnTo>
                  <a:pt x="2822" y="116"/>
                </a:lnTo>
                <a:lnTo>
                  <a:pt x="2805" y="126"/>
                </a:lnTo>
                <a:lnTo>
                  <a:pt x="2785" y="133"/>
                </a:lnTo>
                <a:lnTo>
                  <a:pt x="2768" y="145"/>
                </a:lnTo>
                <a:lnTo>
                  <a:pt x="2750" y="153"/>
                </a:lnTo>
                <a:lnTo>
                  <a:pt x="2733" y="164"/>
                </a:lnTo>
                <a:lnTo>
                  <a:pt x="2715" y="176"/>
                </a:lnTo>
                <a:lnTo>
                  <a:pt x="2700" y="188"/>
                </a:lnTo>
                <a:lnTo>
                  <a:pt x="2682" y="197"/>
                </a:lnTo>
                <a:lnTo>
                  <a:pt x="2665" y="209"/>
                </a:lnTo>
                <a:lnTo>
                  <a:pt x="2650" y="221"/>
                </a:lnTo>
                <a:lnTo>
                  <a:pt x="2634" y="234"/>
                </a:lnTo>
                <a:lnTo>
                  <a:pt x="2617" y="246"/>
                </a:lnTo>
                <a:lnTo>
                  <a:pt x="2603" y="259"/>
                </a:lnTo>
                <a:lnTo>
                  <a:pt x="2587" y="273"/>
                </a:lnTo>
                <a:lnTo>
                  <a:pt x="2574" y="288"/>
                </a:lnTo>
                <a:lnTo>
                  <a:pt x="2556" y="300"/>
                </a:lnTo>
                <a:lnTo>
                  <a:pt x="2543" y="314"/>
                </a:lnTo>
                <a:lnTo>
                  <a:pt x="2527" y="327"/>
                </a:lnTo>
                <a:lnTo>
                  <a:pt x="2514" y="343"/>
                </a:lnTo>
                <a:lnTo>
                  <a:pt x="2498" y="356"/>
                </a:lnTo>
                <a:lnTo>
                  <a:pt x="2485" y="372"/>
                </a:lnTo>
                <a:lnTo>
                  <a:pt x="2471" y="387"/>
                </a:lnTo>
                <a:lnTo>
                  <a:pt x="2459" y="405"/>
                </a:lnTo>
                <a:lnTo>
                  <a:pt x="2444" y="420"/>
                </a:lnTo>
                <a:lnTo>
                  <a:pt x="2430" y="436"/>
                </a:lnTo>
                <a:lnTo>
                  <a:pt x="2419" y="451"/>
                </a:lnTo>
                <a:lnTo>
                  <a:pt x="2407" y="469"/>
                </a:lnTo>
                <a:lnTo>
                  <a:pt x="2395" y="486"/>
                </a:lnTo>
                <a:lnTo>
                  <a:pt x="2384" y="504"/>
                </a:lnTo>
                <a:lnTo>
                  <a:pt x="2372" y="521"/>
                </a:lnTo>
                <a:lnTo>
                  <a:pt x="2362" y="540"/>
                </a:lnTo>
                <a:lnTo>
                  <a:pt x="2351" y="558"/>
                </a:lnTo>
                <a:lnTo>
                  <a:pt x="2339" y="575"/>
                </a:lnTo>
                <a:lnTo>
                  <a:pt x="2328" y="593"/>
                </a:lnTo>
                <a:lnTo>
                  <a:pt x="2320" y="610"/>
                </a:lnTo>
                <a:lnTo>
                  <a:pt x="2308" y="628"/>
                </a:lnTo>
                <a:lnTo>
                  <a:pt x="2300" y="647"/>
                </a:lnTo>
                <a:lnTo>
                  <a:pt x="2291" y="666"/>
                </a:lnTo>
                <a:lnTo>
                  <a:pt x="2283" y="688"/>
                </a:lnTo>
                <a:lnTo>
                  <a:pt x="2273" y="705"/>
                </a:lnTo>
                <a:lnTo>
                  <a:pt x="2266" y="727"/>
                </a:lnTo>
                <a:lnTo>
                  <a:pt x="2258" y="746"/>
                </a:lnTo>
                <a:lnTo>
                  <a:pt x="2252" y="767"/>
                </a:lnTo>
                <a:lnTo>
                  <a:pt x="2244" y="787"/>
                </a:lnTo>
                <a:lnTo>
                  <a:pt x="2238" y="808"/>
                </a:lnTo>
                <a:lnTo>
                  <a:pt x="2233" y="827"/>
                </a:lnTo>
                <a:lnTo>
                  <a:pt x="2227" y="851"/>
                </a:lnTo>
                <a:lnTo>
                  <a:pt x="2190" y="969"/>
                </a:lnTo>
                <a:lnTo>
                  <a:pt x="2116" y="860"/>
                </a:lnTo>
                <a:lnTo>
                  <a:pt x="2103" y="841"/>
                </a:lnTo>
                <a:lnTo>
                  <a:pt x="2091" y="824"/>
                </a:lnTo>
                <a:lnTo>
                  <a:pt x="2077" y="806"/>
                </a:lnTo>
                <a:lnTo>
                  <a:pt x="2066" y="789"/>
                </a:lnTo>
                <a:lnTo>
                  <a:pt x="2052" y="771"/>
                </a:lnTo>
                <a:lnTo>
                  <a:pt x="2039" y="754"/>
                </a:lnTo>
                <a:lnTo>
                  <a:pt x="2025" y="738"/>
                </a:lnTo>
                <a:lnTo>
                  <a:pt x="2013" y="725"/>
                </a:lnTo>
                <a:lnTo>
                  <a:pt x="1998" y="707"/>
                </a:lnTo>
                <a:lnTo>
                  <a:pt x="1984" y="692"/>
                </a:lnTo>
                <a:lnTo>
                  <a:pt x="1969" y="676"/>
                </a:lnTo>
                <a:lnTo>
                  <a:pt x="1955" y="663"/>
                </a:lnTo>
                <a:lnTo>
                  <a:pt x="1940" y="647"/>
                </a:lnTo>
                <a:lnTo>
                  <a:pt x="1924" y="634"/>
                </a:lnTo>
                <a:lnTo>
                  <a:pt x="1909" y="620"/>
                </a:lnTo>
                <a:lnTo>
                  <a:pt x="1895" y="608"/>
                </a:lnTo>
                <a:lnTo>
                  <a:pt x="1878" y="593"/>
                </a:lnTo>
                <a:lnTo>
                  <a:pt x="1862" y="579"/>
                </a:lnTo>
                <a:lnTo>
                  <a:pt x="1845" y="568"/>
                </a:lnTo>
                <a:lnTo>
                  <a:pt x="1829" y="556"/>
                </a:lnTo>
                <a:lnTo>
                  <a:pt x="1812" y="542"/>
                </a:lnTo>
                <a:lnTo>
                  <a:pt x="1796" y="531"/>
                </a:lnTo>
                <a:lnTo>
                  <a:pt x="1779" y="519"/>
                </a:lnTo>
                <a:lnTo>
                  <a:pt x="1763" y="509"/>
                </a:lnTo>
                <a:lnTo>
                  <a:pt x="1744" y="498"/>
                </a:lnTo>
                <a:lnTo>
                  <a:pt x="1726" y="486"/>
                </a:lnTo>
                <a:lnTo>
                  <a:pt x="1709" y="476"/>
                </a:lnTo>
                <a:lnTo>
                  <a:pt x="1691" y="469"/>
                </a:lnTo>
                <a:lnTo>
                  <a:pt x="1672" y="457"/>
                </a:lnTo>
                <a:lnTo>
                  <a:pt x="1655" y="449"/>
                </a:lnTo>
                <a:lnTo>
                  <a:pt x="1637" y="440"/>
                </a:lnTo>
                <a:lnTo>
                  <a:pt x="1620" y="434"/>
                </a:lnTo>
                <a:lnTo>
                  <a:pt x="1598" y="424"/>
                </a:lnTo>
                <a:lnTo>
                  <a:pt x="1581" y="416"/>
                </a:lnTo>
                <a:lnTo>
                  <a:pt x="1560" y="407"/>
                </a:lnTo>
                <a:lnTo>
                  <a:pt x="1542" y="401"/>
                </a:lnTo>
                <a:lnTo>
                  <a:pt x="1521" y="393"/>
                </a:lnTo>
                <a:lnTo>
                  <a:pt x="1503" y="387"/>
                </a:lnTo>
                <a:lnTo>
                  <a:pt x="1482" y="381"/>
                </a:lnTo>
                <a:lnTo>
                  <a:pt x="1465" y="376"/>
                </a:lnTo>
                <a:lnTo>
                  <a:pt x="1443" y="370"/>
                </a:lnTo>
                <a:lnTo>
                  <a:pt x="1424" y="364"/>
                </a:lnTo>
                <a:lnTo>
                  <a:pt x="1404" y="358"/>
                </a:lnTo>
                <a:lnTo>
                  <a:pt x="1385" y="354"/>
                </a:lnTo>
                <a:lnTo>
                  <a:pt x="1364" y="349"/>
                </a:lnTo>
                <a:lnTo>
                  <a:pt x="1344" y="347"/>
                </a:lnTo>
                <a:lnTo>
                  <a:pt x="1325" y="343"/>
                </a:lnTo>
                <a:lnTo>
                  <a:pt x="1306" y="341"/>
                </a:lnTo>
                <a:lnTo>
                  <a:pt x="1284" y="337"/>
                </a:lnTo>
                <a:lnTo>
                  <a:pt x="1265" y="335"/>
                </a:lnTo>
                <a:lnTo>
                  <a:pt x="1243" y="331"/>
                </a:lnTo>
                <a:lnTo>
                  <a:pt x="1224" y="331"/>
                </a:lnTo>
                <a:lnTo>
                  <a:pt x="1203" y="329"/>
                </a:lnTo>
                <a:lnTo>
                  <a:pt x="1183" y="329"/>
                </a:lnTo>
                <a:lnTo>
                  <a:pt x="1162" y="329"/>
                </a:lnTo>
                <a:lnTo>
                  <a:pt x="1143" y="329"/>
                </a:lnTo>
                <a:lnTo>
                  <a:pt x="1121" y="329"/>
                </a:lnTo>
                <a:lnTo>
                  <a:pt x="1102" y="329"/>
                </a:lnTo>
                <a:lnTo>
                  <a:pt x="1081" y="329"/>
                </a:lnTo>
                <a:lnTo>
                  <a:pt x="1061" y="331"/>
                </a:lnTo>
                <a:lnTo>
                  <a:pt x="1040" y="331"/>
                </a:lnTo>
                <a:lnTo>
                  <a:pt x="1020" y="335"/>
                </a:lnTo>
                <a:lnTo>
                  <a:pt x="999" y="337"/>
                </a:lnTo>
                <a:lnTo>
                  <a:pt x="980" y="341"/>
                </a:lnTo>
                <a:lnTo>
                  <a:pt x="949" y="345"/>
                </a:lnTo>
                <a:lnTo>
                  <a:pt x="920" y="350"/>
                </a:lnTo>
                <a:lnTo>
                  <a:pt x="891" y="356"/>
                </a:lnTo>
                <a:lnTo>
                  <a:pt x="863" y="364"/>
                </a:lnTo>
                <a:lnTo>
                  <a:pt x="834" y="370"/>
                </a:lnTo>
                <a:lnTo>
                  <a:pt x="805" y="380"/>
                </a:lnTo>
                <a:lnTo>
                  <a:pt x="778" y="389"/>
                </a:lnTo>
                <a:lnTo>
                  <a:pt x="753" y="401"/>
                </a:lnTo>
                <a:lnTo>
                  <a:pt x="724" y="411"/>
                </a:lnTo>
                <a:lnTo>
                  <a:pt x="699" y="422"/>
                </a:lnTo>
                <a:lnTo>
                  <a:pt x="671" y="434"/>
                </a:lnTo>
                <a:lnTo>
                  <a:pt x="648" y="445"/>
                </a:lnTo>
                <a:lnTo>
                  <a:pt x="621" y="457"/>
                </a:lnTo>
                <a:lnTo>
                  <a:pt x="596" y="473"/>
                </a:lnTo>
                <a:lnTo>
                  <a:pt x="572" y="486"/>
                </a:lnTo>
                <a:lnTo>
                  <a:pt x="549" y="504"/>
                </a:lnTo>
                <a:lnTo>
                  <a:pt x="524" y="517"/>
                </a:lnTo>
                <a:lnTo>
                  <a:pt x="501" y="533"/>
                </a:lnTo>
                <a:lnTo>
                  <a:pt x="477" y="550"/>
                </a:lnTo>
                <a:lnTo>
                  <a:pt x="456" y="568"/>
                </a:lnTo>
                <a:lnTo>
                  <a:pt x="433" y="585"/>
                </a:lnTo>
                <a:lnTo>
                  <a:pt x="411" y="602"/>
                </a:lnTo>
                <a:lnTo>
                  <a:pt x="390" y="622"/>
                </a:lnTo>
                <a:lnTo>
                  <a:pt x="371" y="641"/>
                </a:lnTo>
                <a:lnTo>
                  <a:pt x="349" y="659"/>
                </a:lnTo>
                <a:lnTo>
                  <a:pt x="330" y="680"/>
                </a:lnTo>
                <a:lnTo>
                  <a:pt x="309" y="699"/>
                </a:lnTo>
                <a:lnTo>
                  <a:pt x="291" y="723"/>
                </a:lnTo>
                <a:lnTo>
                  <a:pt x="274" y="744"/>
                </a:lnTo>
                <a:lnTo>
                  <a:pt x="256" y="767"/>
                </a:lnTo>
                <a:lnTo>
                  <a:pt x="239" y="791"/>
                </a:lnTo>
                <a:lnTo>
                  <a:pt x="223" y="814"/>
                </a:lnTo>
                <a:lnTo>
                  <a:pt x="206" y="837"/>
                </a:lnTo>
                <a:lnTo>
                  <a:pt x="188" y="860"/>
                </a:lnTo>
                <a:lnTo>
                  <a:pt x="173" y="884"/>
                </a:lnTo>
                <a:lnTo>
                  <a:pt x="159" y="909"/>
                </a:lnTo>
                <a:lnTo>
                  <a:pt x="146" y="932"/>
                </a:lnTo>
                <a:lnTo>
                  <a:pt x="132" y="957"/>
                </a:lnTo>
                <a:lnTo>
                  <a:pt x="121" y="982"/>
                </a:lnTo>
                <a:lnTo>
                  <a:pt x="109" y="1010"/>
                </a:lnTo>
                <a:lnTo>
                  <a:pt x="97" y="1035"/>
                </a:lnTo>
                <a:lnTo>
                  <a:pt x="86" y="1062"/>
                </a:lnTo>
                <a:lnTo>
                  <a:pt x="74" y="1087"/>
                </a:lnTo>
                <a:lnTo>
                  <a:pt x="66" y="1116"/>
                </a:lnTo>
                <a:lnTo>
                  <a:pt x="57" y="1143"/>
                </a:lnTo>
                <a:lnTo>
                  <a:pt x="49" y="1171"/>
                </a:lnTo>
                <a:lnTo>
                  <a:pt x="41" y="1200"/>
                </a:lnTo>
                <a:lnTo>
                  <a:pt x="35" y="1229"/>
                </a:lnTo>
                <a:lnTo>
                  <a:pt x="27" y="1256"/>
                </a:lnTo>
                <a:lnTo>
                  <a:pt x="22" y="1285"/>
                </a:lnTo>
                <a:lnTo>
                  <a:pt x="16" y="1314"/>
                </a:lnTo>
                <a:lnTo>
                  <a:pt x="12" y="1343"/>
                </a:lnTo>
                <a:lnTo>
                  <a:pt x="6" y="1372"/>
                </a:lnTo>
                <a:lnTo>
                  <a:pt x="4" y="1401"/>
                </a:lnTo>
                <a:lnTo>
                  <a:pt x="2" y="1430"/>
                </a:lnTo>
                <a:lnTo>
                  <a:pt x="2" y="1461"/>
                </a:lnTo>
                <a:lnTo>
                  <a:pt x="0" y="1490"/>
                </a:lnTo>
                <a:lnTo>
                  <a:pt x="0" y="1520"/>
                </a:lnTo>
                <a:lnTo>
                  <a:pt x="0" y="1551"/>
                </a:lnTo>
                <a:lnTo>
                  <a:pt x="2" y="1582"/>
                </a:lnTo>
                <a:lnTo>
                  <a:pt x="2" y="1611"/>
                </a:lnTo>
                <a:lnTo>
                  <a:pt x="6" y="1642"/>
                </a:lnTo>
                <a:lnTo>
                  <a:pt x="10" y="1673"/>
                </a:lnTo>
                <a:lnTo>
                  <a:pt x="16" y="1706"/>
                </a:lnTo>
                <a:lnTo>
                  <a:pt x="18" y="1733"/>
                </a:lnTo>
                <a:lnTo>
                  <a:pt x="24" y="1760"/>
                </a:lnTo>
                <a:lnTo>
                  <a:pt x="29" y="1787"/>
                </a:lnTo>
                <a:lnTo>
                  <a:pt x="35" y="1816"/>
                </a:lnTo>
                <a:lnTo>
                  <a:pt x="41" y="1843"/>
                </a:lnTo>
                <a:lnTo>
                  <a:pt x="47" y="1870"/>
                </a:lnTo>
                <a:lnTo>
                  <a:pt x="55" y="1898"/>
                </a:lnTo>
                <a:lnTo>
                  <a:pt x="64" y="1927"/>
                </a:lnTo>
                <a:lnTo>
                  <a:pt x="70" y="1952"/>
                </a:lnTo>
                <a:lnTo>
                  <a:pt x="80" y="1979"/>
                </a:lnTo>
                <a:lnTo>
                  <a:pt x="88" y="2004"/>
                </a:lnTo>
                <a:lnTo>
                  <a:pt x="99" y="2031"/>
                </a:lnTo>
                <a:lnTo>
                  <a:pt x="109" y="2057"/>
                </a:lnTo>
                <a:lnTo>
                  <a:pt x="121" y="2084"/>
                </a:lnTo>
                <a:lnTo>
                  <a:pt x="132" y="2109"/>
                </a:lnTo>
                <a:lnTo>
                  <a:pt x="144" y="2136"/>
                </a:lnTo>
                <a:lnTo>
                  <a:pt x="155" y="2159"/>
                </a:lnTo>
                <a:lnTo>
                  <a:pt x="167" y="2184"/>
                </a:lnTo>
                <a:lnTo>
                  <a:pt x="179" y="2210"/>
                </a:lnTo>
                <a:lnTo>
                  <a:pt x="194" y="2235"/>
                </a:lnTo>
                <a:lnTo>
                  <a:pt x="206" y="2258"/>
                </a:lnTo>
                <a:lnTo>
                  <a:pt x="221" y="2283"/>
                </a:lnTo>
                <a:lnTo>
                  <a:pt x="235" y="2307"/>
                </a:lnTo>
                <a:lnTo>
                  <a:pt x="252" y="2332"/>
                </a:lnTo>
                <a:lnTo>
                  <a:pt x="268" y="2353"/>
                </a:lnTo>
                <a:lnTo>
                  <a:pt x="283" y="2376"/>
                </a:lnTo>
                <a:lnTo>
                  <a:pt x="301" y="2400"/>
                </a:lnTo>
                <a:lnTo>
                  <a:pt x="318" y="2423"/>
                </a:lnTo>
                <a:lnTo>
                  <a:pt x="336" y="2444"/>
                </a:lnTo>
                <a:lnTo>
                  <a:pt x="353" y="2468"/>
                </a:lnTo>
                <a:lnTo>
                  <a:pt x="373" y="2491"/>
                </a:lnTo>
                <a:lnTo>
                  <a:pt x="392" y="2514"/>
                </a:lnTo>
                <a:lnTo>
                  <a:pt x="410" y="2533"/>
                </a:lnTo>
                <a:lnTo>
                  <a:pt x="429" y="2555"/>
                </a:lnTo>
                <a:lnTo>
                  <a:pt x="448" y="2574"/>
                </a:lnTo>
                <a:lnTo>
                  <a:pt x="470" y="2596"/>
                </a:lnTo>
                <a:lnTo>
                  <a:pt x="489" y="2615"/>
                </a:lnTo>
                <a:lnTo>
                  <a:pt x="510" y="2636"/>
                </a:lnTo>
                <a:lnTo>
                  <a:pt x="532" y="2656"/>
                </a:lnTo>
                <a:lnTo>
                  <a:pt x="555" y="2677"/>
                </a:lnTo>
                <a:lnTo>
                  <a:pt x="576" y="2694"/>
                </a:lnTo>
                <a:lnTo>
                  <a:pt x="600" y="2714"/>
                </a:lnTo>
                <a:lnTo>
                  <a:pt x="623" y="2733"/>
                </a:lnTo>
                <a:lnTo>
                  <a:pt x="648" y="2753"/>
                </a:lnTo>
                <a:lnTo>
                  <a:pt x="671" y="2770"/>
                </a:lnTo>
                <a:lnTo>
                  <a:pt x="695" y="2789"/>
                </a:lnTo>
                <a:lnTo>
                  <a:pt x="720" y="2807"/>
                </a:lnTo>
                <a:lnTo>
                  <a:pt x="747" y="2826"/>
                </a:lnTo>
                <a:lnTo>
                  <a:pt x="770" y="2842"/>
                </a:lnTo>
                <a:lnTo>
                  <a:pt x="797" y="2859"/>
                </a:lnTo>
                <a:lnTo>
                  <a:pt x="823" y="2875"/>
                </a:lnTo>
                <a:lnTo>
                  <a:pt x="852" y="2892"/>
                </a:lnTo>
                <a:lnTo>
                  <a:pt x="879" y="2908"/>
                </a:lnTo>
                <a:lnTo>
                  <a:pt x="906" y="2923"/>
                </a:lnTo>
                <a:lnTo>
                  <a:pt x="935" y="2939"/>
                </a:lnTo>
                <a:lnTo>
                  <a:pt x="964" y="2956"/>
                </a:lnTo>
                <a:lnTo>
                  <a:pt x="993" y="2970"/>
                </a:lnTo>
                <a:lnTo>
                  <a:pt x="1022" y="2985"/>
                </a:lnTo>
                <a:lnTo>
                  <a:pt x="1051" y="2999"/>
                </a:lnTo>
                <a:lnTo>
                  <a:pt x="1083" y="3014"/>
                </a:lnTo>
                <a:lnTo>
                  <a:pt x="1112" y="3028"/>
                </a:lnTo>
                <a:lnTo>
                  <a:pt x="1143" y="3041"/>
                </a:lnTo>
                <a:lnTo>
                  <a:pt x="1174" y="3055"/>
                </a:lnTo>
                <a:lnTo>
                  <a:pt x="1207" y="3070"/>
                </a:lnTo>
                <a:lnTo>
                  <a:pt x="1228" y="3076"/>
                </a:lnTo>
                <a:lnTo>
                  <a:pt x="1251" y="3086"/>
                </a:lnTo>
                <a:lnTo>
                  <a:pt x="1275" y="3098"/>
                </a:lnTo>
                <a:lnTo>
                  <a:pt x="1300" y="3109"/>
                </a:lnTo>
                <a:lnTo>
                  <a:pt x="1323" y="3121"/>
                </a:lnTo>
                <a:lnTo>
                  <a:pt x="1346" y="3134"/>
                </a:lnTo>
                <a:lnTo>
                  <a:pt x="1371" y="3148"/>
                </a:lnTo>
                <a:lnTo>
                  <a:pt x="1399" y="3164"/>
                </a:lnTo>
                <a:lnTo>
                  <a:pt x="1422" y="3177"/>
                </a:lnTo>
                <a:lnTo>
                  <a:pt x="1447" y="3193"/>
                </a:lnTo>
                <a:lnTo>
                  <a:pt x="1472" y="3210"/>
                </a:lnTo>
                <a:lnTo>
                  <a:pt x="1499" y="3228"/>
                </a:lnTo>
                <a:lnTo>
                  <a:pt x="1525" y="3245"/>
                </a:lnTo>
                <a:lnTo>
                  <a:pt x="1554" y="3262"/>
                </a:lnTo>
                <a:lnTo>
                  <a:pt x="1579" y="3282"/>
                </a:lnTo>
                <a:lnTo>
                  <a:pt x="1608" y="3303"/>
                </a:lnTo>
                <a:lnTo>
                  <a:pt x="1633" y="3321"/>
                </a:lnTo>
                <a:lnTo>
                  <a:pt x="1660" y="3342"/>
                </a:lnTo>
                <a:lnTo>
                  <a:pt x="1688" y="3361"/>
                </a:lnTo>
                <a:lnTo>
                  <a:pt x="1717" y="3385"/>
                </a:lnTo>
                <a:lnTo>
                  <a:pt x="1744" y="3404"/>
                </a:lnTo>
                <a:lnTo>
                  <a:pt x="1771" y="3427"/>
                </a:lnTo>
                <a:lnTo>
                  <a:pt x="1798" y="3450"/>
                </a:lnTo>
                <a:lnTo>
                  <a:pt x="1827" y="3474"/>
                </a:lnTo>
                <a:lnTo>
                  <a:pt x="1852" y="3495"/>
                </a:lnTo>
                <a:lnTo>
                  <a:pt x="1882" y="3518"/>
                </a:lnTo>
                <a:lnTo>
                  <a:pt x="1907" y="3542"/>
                </a:lnTo>
                <a:lnTo>
                  <a:pt x="1936" y="3565"/>
                </a:lnTo>
                <a:lnTo>
                  <a:pt x="1961" y="3588"/>
                </a:lnTo>
                <a:lnTo>
                  <a:pt x="1990" y="3613"/>
                </a:lnTo>
                <a:lnTo>
                  <a:pt x="2015" y="3639"/>
                </a:lnTo>
                <a:lnTo>
                  <a:pt x="2044" y="3664"/>
                </a:lnTo>
                <a:lnTo>
                  <a:pt x="2070" y="3687"/>
                </a:lnTo>
                <a:lnTo>
                  <a:pt x="2095" y="3710"/>
                </a:lnTo>
                <a:lnTo>
                  <a:pt x="2120" y="3734"/>
                </a:lnTo>
                <a:lnTo>
                  <a:pt x="2147" y="3759"/>
                </a:lnTo>
                <a:lnTo>
                  <a:pt x="2172" y="3782"/>
                </a:lnTo>
                <a:lnTo>
                  <a:pt x="2198" y="3805"/>
                </a:lnTo>
                <a:lnTo>
                  <a:pt x="2223" y="3829"/>
                </a:lnTo>
                <a:lnTo>
                  <a:pt x="2248" y="3854"/>
                </a:lnTo>
                <a:lnTo>
                  <a:pt x="2271" y="3877"/>
                </a:lnTo>
                <a:lnTo>
                  <a:pt x="2295" y="3900"/>
                </a:lnTo>
                <a:lnTo>
                  <a:pt x="2318" y="3924"/>
                </a:lnTo>
                <a:lnTo>
                  <a:pt x="2343" y="3947"/>
                </a:lnTo>
                <a:lnTo>
                  <a:pt x="2364" y="3968"/>
                </a:lnTo>
                <a:lnTo>
                  <a:pt x="2388" y="3991"/>
                </a:lnTo>
                <a:lnTo>
                  <a:pt x="2409" y="4015"/>
                </a:lnTo>
                <a:lnTo>
                  <a:pt x="2432" y="4038"/>
                </a:lnTo>
                <a:lnTo>
                  <a:pt x="2452" y="4057"/>
                </a:lnTo>
                <a:lnTo>
                  <a:pt x="2471" y="4079"/>
                </a:lnTo>
                <a:lnTo>
                  <a:pt x="2490" y="4100"/>
                </a:lnTo>
                <a:lnTo>
                  <a:pt x="2512" y="4121"/>
                </a:lnTo>
                <a:lnTo>
                  <a:pt x="2529" y="4141"/>
                </a:lnTo>
                <a:lnTo>
                  <a:pt x="2549" y="4160"/>
                </a:lnTo>
                <a:lnTo>
                  <a:pt x="2566" y="4179"/>
                </a:lnTo>
                <a:lnTo>
                  <a:pt x="2586" y="4199"/>
                </a:lnTo>
                <a:lnTo>
                  <a:pt x="2601" y="4214"/>
                </a:lnTo>
                <a:lnTo>
                  <a:pt x="2617" y="4232"/>
                </a:lnTo>
                <a:lnTo>
                  <a:pt x="2632" y="4249"/>
                </a:lnTo>
                <a:lnTo>
                  <a:pt x="2648" y="4267"/>
                </a:lnTo>
                <a:lnTo>
                  <a:pt x="2661" y="4280"/>
                </a:lnTo>
                <a:lnTo>
                  <a:pt x="2675" y="4296"/>
                </a:lnTo>
                <a:lnTo>
                  <a:pt x="2686" y="4309"/>
                </a:lnTo>
                <a:lnTo>
                  <a:pt x="2700" y="4325"/>
                </a:lnTo>
                <a:lnTo>
                  <a:pt x="2706" y="4307"/>
                </a:lnTo>
                <a:lnTo>
                  <a:pt x="2712" y="4290"/>
                </a:lnTo>
                <a:lnTo>
                  <a:pt x="2719" y="4271"/>
                </a:lnTo>
                <a:lnTo>
                  <a:pt x="2727" y="4253"/>
                </a:lnTo>
                <a:lnTo>
                  <a:pt x="2735" y="4232"/>
                </a:lnTo>
                <a:lnTo>
                  <a:pt x="2745" y="4212"/>
                </a:lnTo>
                <a:lnTo>
                  <a:pt x="2754" y="4191"/>
                </a:lnTo>
                <a:lnTo>
                  <a:pt x="2766" y="4170"/>
                </a:lnTo>
                <a:lnTo>
                  <a:pt x="2776" y="4145"/>
                </a:lnTo>
                <a:lnTo>
                  <a:pt x="2785" y="4121"/>
                </a:lnTo>
                <a:lnTo>
                  <a:pt x="2797" y="4096"/>
                </a:lnTo>
                <a:lnTo>
                  <a:pt x="2810" y="4073"/>
                </a:lnTo>
                <a:lnTo>
                  <a:pt x="2822" y="4046"/>
                </a:lnTo>
                <a:lnTo>
                  <a:pt x="2834" y="4020"/>
                </a:lnTo>
                <a:lnTo>
                  <a:pt x="2847" y="3995"/>
                </a:lnTo>
                <a:lnTo>
                  <a:pt x="2863" y="3970"/>
                </a:lnTo>
                <a:lnTo>
                  <a:pt x="2874" y="3941"/>
                </a:lnTo>
                <a:lnTo>
                  <a:pt x="2890" y="3914"/>
                </a:lnTo>
                <a:lnTo>
                  <a:pt x="2904" y="3885"/>
                </a:lnTo>
                <a:lnTo>
                  <a:pt x="2919" y="3858"/>
                </a:lnTo>
                <a:lnTo>
                  <a:pt x="2935" y="3829"/>
                </a:lnTo>
                <a:lnTo>
                  <a:pt x="2950" y="3799"/>
                </a:lnTo>
                <a:lnTo>
                  <a:pt x="2966" y="3770"/>
                </a:lnTo>
                <a:lnTo>
                  <a:pt x="2983" y="3741"/>
                </a:lnTo>
                <a:lnTo>
                  <a:pt x="2999" y="3710"/>
                </a:lnTo>
                <a:lnTo>
                  <a:pt x="3016" y="3679"/>
                </a:lnTo>
                <a:lnTo>
                  <a:pt x="3034" y="3648"/>
                </a:lnTo>
                <a:lnTo>
                  <a:pt x="3051" y="3619"/>
                </a:lnTo>
                <a:lnTo>
                  <a:pt x="3068" y="3588"/>
                </a:lnTo>
                <a:lnTo>
                  <a:pt x="3086" y="3559"/>
                </a:lnTo>
                <a:lnTo>
                  <a:pt x="3105" y="3528"/>
                </a:lnTo>
                <a:lnTo>
                  <a:pt x="3125" y="3499"/>
                </a:lnTo>
                <a:lnTo>
                  <a:pt x="3142" y="3466"/>
                </a:lnTo>
                <a:lnTo>
                  <a:pt x="3160" y="3435"/>
                </a:lnTo>
                <a:lnTo>
                  <a:pt x="3179" y="3404"/>
                </a:lnTo>
                <a:lnTo>
                  <a:pt x="3198" y="3375"/>
                </a:lnTo>
                <a:lnTo>
                  <a:pt x="3216" y="3344"/>
                </a:lnTo>
                <a:lnTo>
                  <a:pt x="3235" y="3313"/>
                </a:lnTo>
                <a:lnTo>
                  <a:pt x="3255" y="3282"/>
                </a:lnTo>
                <a:lnTo>
                  <a:pt x="3276" y="3253"/>
                </a:lnTo>
                <a:lnTo>
                  <a:pt x="3293" y="3222"/>
                </a:lnTo>
                <a:lnTo>
                  <a:pt x="3315" y="3193"/>
                </a:lnTo>
                <a:lnTo>
                  <a:pt x="3332" y="3164"/>
                </a:lnTo>
                <a:lnTo>
                  <a:pt x="3354" y="3136"/>
                </a:lnTo>
                <a:lnTo>
                  <a:pt x="3373" y="3107"/>
                </a:lnTo>
                <a:lnTo>
                  <a:pt x="3394" y="3078"/>
                </a:lnTo>
                <a:lnTo>
                  <a:pt x="3414" y="3051"/>
                </a:lnTo>
                <a:lnTo>
                  <a:pt x="3435" y="3026"/>
                </a:lnTo>
                <a:lnTo>
                  <a:pt x="3454" y="2997"/>
                </a:lnTo>
                <a:lnTo>
                  <a:pt x="3474" y="2972"/>
                </a:lnTo>
                <a:lnTo>
                  <a:pt x="3493" y="2944"/>
                </a:lnTo>
                <a:lnTo>
                  <a:pt x="3514" y="2921"/>
                </a:lnTo>
                <a:lnTo>
                  <a:pt x="3534" y="2896"/>
                </a:lnTo>
                <a:lnTo>
                  <a:pt x="3555" y="2873"/>
                </a:lnTo>
                <a:lnTo>
                  <a:pt x="3575" y="2849"/>
                </a:lnTo>
                <a:lnTo>
                  <a:pt x="3596" y="2828"/>
                </a:lnTo>
                <a:lnTo>
                  <a:pt x="3615" y="2805"/>
                </a:lnTo>
                <a:lnTo>
                  <a:pt x="3635" y="2786"/>
                </a:lnTo>
                <a:lnTo>
                  <a:pt x="3654" y="2764"/>
                </a:lnTo>
                <a:lnTo>
                  <a:pt x="3675" y="2747"/>
                </a:lnTo>
                <a:lnTo>
                  <a:pt x="3695" y="2727"/>
                </a:lnTo>
                <a:lnTo>
                  <a:pt x="3714" y="2710"/>
                </a:lnTo>
                <a:lnTo>
                  <a:pt x="3734" y="2692"/>
                </a:lnTo>
                <a:lnTo>
                  <a:pt x="3755" y="2679"/>
                </a:lnTo>
                <a:lnTo>
                  <a:pt x="3780" y="2656"/>
                </a:lnTo>
                <a:lnTo>
                  <a:pt x="3805" y="2634"/>
                </a:lnTo>
                <a:lnTo>
                  <a:pt x="3831" y="2611"/>
                </a:lnTo>
                <a:lnTo>
                  <a:pt x="3856" y="2590"/>
                </a:lnTo>
                <a:lnTo>
                  <a:pt x="3879" y="2566"/>
                </a:lnTo>
                <a:lnTo>
                  <a:pt x="3902" y="2545"/>
                </a:lnTo>
                <a:lnTo>
                  <a:pt x="3926" y="2522"/>
                </a:lnTo>
                <a:lnTo>
                  <a:pt x="3951" y="2501"/>
                </a:lnTo>
                <a:lnTo>
                  <a:pt x="3972" y="2477"/>
                </a:lnTo>
                <a:lnTo>
                  <a:pt x="3994" y="2454"/>
                </a:lnTo>
                <a:lnTo>
                  <a:pt x="4015" y="2431"/>
                </a:lnTo>
                <a:lnTo>
                  <a:pt x="4038" y="2407"/>
                </a:lnTo>
                <a:lnTo>
                  <a:pt x="4058" y="2384"/>
                </a:lnTo>
                <a:lnTo>
                  <a:pt x="4079" y="2361"/>
                </a:lnTo>
                <a:lnTo>
                  <a:pt x="4098" y="2338"/>
                </a:lnTo>
                <a:lnTo>
                  <a:pt x="4120" y="2314"/>
                </a:lnTo>
                <a:lnTo>
                  <a:pt x="4137" y="2289"/>
                </a:lnTo>
                <a:lnTo>
                  <a:pt x="4154" y="2264"/>
                </a:lnTo>
                <a:lnTo>
                  <a:pt x="4172" y="2239"/>
                </a:lnTo>
                <a:lnTo>
                  <a:pt x="4191" y="2214"/>
                </a:lnTo>
                <a:lnTo>
                  <a:pt x="4207" y="2188"/>
                </a:lnTo>
                <a:lnTo>
                  <a:pt x="4224" y="2163"/>
                </a:lnTo>
                <a:lnTo>
                  <a:pt x="4240" y="2138"/>
                </a:lnTo>
                <a:lnTo>
                  <a:pt x="4257" y="2115"/>
                </a:lnTo>
                <a:lnTo>
                  <a:pt x="4271" y="2088"/>
                </a:lnTo>
                <a:lnTo>
                  <a:pt x="4286" y="2062"/>
                </a:lnTo>
                <a:lnTo>
                  <a:pt x="4300" y="2037"/>
                </a:lnTo>
                <a:lnTo>
                  <a:pt x="4315" y="2012"/>
                </a:lnTo>
                <a:lnTo>
                  <a:pt x="4329" y="1985"/>
                </a:lnTo>
                <a:lnTo>
                  <a:pt x="4343" y="1960"/>
                </a:lnTo>
                <a:lnTo>
                  <a:pt x="4354" y="1934"/>
                </a:lnTo>
                <a:lnTo>
                  <a:pt x="4368" y="1909"/>
                </a:lnTo>
                <a:lnTo>
                  <a:pt x="4377" y="1880"/>
                </a:lnTo>
                <a:lnTo>
                  <a:pt x="4389" y="1855"/>
                </a:lnTo>
                <a:lnTo>
                  <a:pt x="4399" y="1826"/>
                </a:lnTo>
                <a:lnTo>
                  <a:pt x="4409" y="1801"/>
                </a:lnTo>
                <a:lnTo>
                  <a:pt x="4416" y="1773"/>
                </a:lnTo>
                <a:lnTo>
                  <a:pt x="4426" y="1746"/>
                </a:lnTo>
                <a:lnTo>
                  <a:pt x="4434" y="1719"/>
                </a:lnTo>
                <a:lnTo>
                  <a:pt x="4443" y="1694"/>
                </a:lnTo>
                <a:lnTo>
                  <a:pt x="4449" y="1665"/>
                </a:lnTo>
                <a:lnTo>
                  <a:pt x="4457" y="1638"/>
                </a:lnTo>
                <a:lnTo>
                  <a:pt x="4463" y="1611"/>
                </a:lnTo>
                <a:lnTo>
                  <a:pt x="4471" y="1583"/>
                </a:lnTo>
                <a:lnTo>
                  <a:pt x="4474" y="1554"/>
                </a:lnTo>
                <a:lnTo>
                  <a:pt x="4480" y="1529"/>
                </a:lnTo>
                <a:lnTo>
                  <a:pt x="4484" y="1500"/>
                </a:lnTo>
                <a:lnTo>
                  <a:pt x="4490" y="1475"/>
                </a:lnTo>
                <a:lnTo>
                  <a:pt x="4492" y="1446"/>
                </a:lnTo>
                <a:lnTo>
                  <a:pt x="4494" y="1417"/>
                </a:lnTo>
                <a:lnTo>
                  <a:pt x="4496" y="1388"/>
                </a:lnTo>
                <a:lnTo>
                  <a:pt x="4500" y="1361"/>
                </a:lnTo>
                <a:lnTo>
                  <a:pt x="4500" y="1331"/>
                </a:lnTo>
                <a:lnTo>
                  <a:pt x="4500" y="1304"/>
                </a:lnTo>
                <a:lnTo>
                  <a:pt x="4500" y="1275"/>
                </a:lnTo>
                <a:lnTo>
                  <a:pt x="4502" y="1248"/>
                </a:lnTo>
                <a:lnTo>
                  <a:pt x="4500" y="1219"/>
                </a:lnTo>
                <a:lnTo>
                  <a:pt x="4500" y="1192"/>
                </a:lnTo>
                <a:lnTo>
                  <a:pt x="4498" y="1163"/>
                </a:lnTo>
                <a:lnTo>
                  <a:pt x="4496" y="1136"/>
                </a:lnTo>
                <a:lnTo>
                  <a:pt x="4492" y="1107"/>
                </a:lnTo>
                <a:lnTo>
                  <a:pt x="4488" y="1079"/>
                </a:lnTo>
                <a:lnTo>
                  <a:pt x="4484" y="1050"/>
                </a:lnTo>
                <a:lnTo>
                  <a:pt x="4482" y="1023"/>
                </a:lnTo>
                <a:lnTo>
                  <a:pt x="4474" y="990"/>
                </a:lnTo>
                <a:lnTo>
                  <a:pt x="4469" y="959"/>
                </a:lnTo>
                <a:lnTo>
                  <a:pt x="4463" y="930"/>
                </a:lnTo>
                <a:lnTo>
                  <a:pt x="4457" y="901"/>
                </a:lnTo>
                <a:lnTo>
                  <a:pt x="4447" y="870"/>
                </a:lnTo>
                <a:lnTo>
                  <a:pt x="4440" y="841"/>
                </a:lnTo>
                <a:lnTo>
                  <a:pt x="4430" y="814"/>
                </a:lnTo>
                <a:lnTo>
                  <a:pt x="4422" y="787"/>
                </a:lnTo>
                <a:lnTo>
                  <a:pt x="4410" y="758"/>
                </a:lnTo>
                <a:lnTo>
                  <a:pt x="4399" y="729"/>
                </a:lnTo>
                <a:lnTo>
                  <a:pt x="4387" y="701"/>
                </a:lnTo>
                <a:lnTo>
                  <a:pt x="4376" y="676"/>
                </a:lnTo>
                <a:lnTo>
                  <a:pt x="4362" y="647"/>
                </a:lnTo>
                <a:lnTo>
                  <a:pt x="4348" y="622"/>
                </a:lnTo>
                <a:lnTo>
                  <a:pt x="4335" y="597"/>
                </a:lnTo>
                <a:lnTo>
                  <a:pt x="4321" y="573"/>
                </a:lnTo>
                <a:lnTo>
                  <a:pt x="4304" y="548"/>
                </a:lnTo>
                <a:lnTo>
                  <a:pt x="4288" y="523"/>
                </a:lnTo>
                <a:lnTo>
                  <a:pt x="4271" y="500"/>
                </a:lnTo>
                <a:lnTo>
                  <a:pt x="4255" y="476"/>
                </a:lnTo>
                <a:lnTo>
                  <a:pt x="4238" y="453"/>
                </a:lnTo>
                <a:lnTo>
                  <a:pt x="4220" y="430"/>
                </a:lnTo>
                <a:lnTo>
                  <a:pt x="4201" y="409"/>
                </a:lnTo>
                <a:lnTo>
                  <a:pt x="4184" y="389"/>
                </a:lnTo>
                <a:lnTo>
                  <a:pt x="4162" y="366"/>
                </a:lnTo>
                <a:lnTo>
                  <a:pt x="4143" y="347"/>
                </a:lnTo>
                <a:lnTo>
                  <a:pt x="4123" y="325"/>
                </a:lnTo>
                <a:lnTo>
                  <a:pt x="4104" y="308"/>
                </a:lnTo>
                <a:lnTo>
                  <a:pt x="4083" y="288"/>
                </a:lnTo>
                <a:lnTo>
                  <a:pt x="4061" y="269"/>
                </a:lnTo>
                <a:lnTo>
                  <a:pt x="4040" y="252"/>
                </a:lnTo>
                <a:lnTo>
                  <a:pt x="4019" y="236"/>
                </a:lnTo>
                <a:lnTo>
                  <a:pt x="3994" y="219"/>
                </a:lnTo>
                <a:lnTo>
                  <a:pt x="3970" y="201"/>
                </a:lnTo>
                <a:lnTo>
                  <a:pt x="3947" y="184"/>
                </a:lnTo>
                <a:lnTo>
                  <a:pt x="3924" y="170"/>
                </a:lnTo>
                <a:lnTo>
                  <a:pt x="3898" y="155"/>
                </a:lnTo>
                <a:lnTo>
                  <a:pt x="3873" y="141"/>
                </a:lnTo>
                <a:lnTo>
                  <a:pt x="3848" y="128"/>
                </a:lnTo>
                <a:lnTo>
                  <a:pt x="3825" y="116"/>
                </a:lnTo>
                <a:lnTo>
                  <a:pt x="3798" y="102"/>
                </a:lnTo>
                <a:lnTo>
                  <a:pt x="3772" y="91"/>
                </a:lnTo>
                <a:lnTo>
                  <a:pt x="3747" y="79"/>
                </a:lnTo>
                <a:lnTo>
                  <a:pt x="3722" y="69"/>
                </a:lnTo>
                <a:lnTo>
                  <a:pt x="3695" y="58"/>
                </a:lnTo>
                <a:lnTo>
                  <a:pt x="3668" y="50"/>
                </a:lnTo>
                <a:lnTo>
                  <a:pt x="3641" y="42"/>
                </a:lnTo>
                <a:lnTo>
                  <a:pt x="3615" y="36"/>
                </a:lnTo>
                <a:lnTo>
                  <a:pt x="3586" y="29"/>
                </a:lnTo>
                <a:lnTo>
                  <a:pt x="3559" y="23"/>
                </a:lnTo>
                <a:lnTo>
                  <a:pt x="3530" y="17"/>
                </a:lnTo>
                <a:lnTo>
                  <a:pt x="3503" y="13"/>
                </a:lnTo>
                <a:lnTo>
                  <a:pt x="3474" y="7"/>
                </a:lnTo>
                <a:lnTo>
                  <a:pt x="3445" y="5"/>
                </a:lnTo>
                <a:lnTo>
                  <a:pt x="3416" y="1"/>
                </a:lnTo>
                <a:lnTo>
                  <a:pt x="3388" y="1"/>
                </a:lnTo>
                <a:lnTo>
                  <a:pt x="3357" y="0"/>
                </a:lnTo>
                <a:lnTo>
                  <a:pt x="3328" y="0"/>
                </a:lnTo>
                <a:lnTo>
                  <a:pt x="3299" y="0"/>
                </a:lnTo>
                <a:lnTo>
                  <a:pt x="3270" y="1"/>
                </a:lnTo>
                <a:lnTo>
                  <a:pt x="3241" y="1"/>
                </a:lnTo>
                <a:lnTo>
                  <a:pt x="3212" y="5"/>
                </a:lnTo>
                <a:lnTo>
                  <a:pt x="3183" y="9"/>
                </a:lnTo>
                <a:lnTo>
                  <a:pt x="3154" y="15"/>
                </a:lnTo>
                <a:close/>
              </a:path>
            </a:pathLst>
          </a:custGeom>
          <a:solidFill>
            <a:srgbClr val="f49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5"/>
          <p:cNvSpPr/>
          <p:nvPr/>
        </p:nvSpPr>
        <p:spPr>
          <a:xfrm rot="1014000">
            <a:off x="5680080" y="1844640"/>
            <a:ext cx="1082520" cy="1658880"/>
          </a:xfrm>
          <a:custGeom>
            <a:avLst/>
            <a:gdLst>
              <a:gd name="textAreaLeft" fmla="*/ 0 w 1082520"/>
              <a:gd name="textAreaRight" fmla="*/ 1082880 w 1082520"/>
              <a:gd name="textAreaTop" fmla="*/ 0 h 1658880"/>
              <a:gd name="textAreaBottom" fmla="*/ 1659240 h 1658880"/>
            </a:gdLst>
            <a:ahLst/>
            <a:rect l="textAreaLeft" t="textAreaTop" r="textAreaRight" b="textAreaBottom"/>
            <a:pathLst>
              <a:path w="1007" h="1385">
                <a:moveTo>
                  <a:pt x="0" y="49"/>
                </a:moveTo>
                <a:lnTo>
                  <a:pt x="0" y="47"/>
                </a:lnTo>
                <a:lnTo>
                  <a:pt x="6" y="45"/>
                </a:lnTo>
                <a:lnTo>
                  <a:pt x="12" y="41"/>
                </a:lnTo>
                <a:lnTo>
                  <a:pt x="23" y="39"/>
                </a:lnTo>
                <a:lnTo>
                  <a:pt x="35" y="33"/>
                </a:lnTo>
                <a:lnTo>
                  <a:pt x="51" y="29"/>
                </a:lnTo>
                <a:lnTo>
                  <a:pt x="58" y="26"/>
                </a:lnTo>
                <a:lnTo>
                  <a:pt x="68" y="24"/>
                </a:lnTo>
                <a:lnTo>
                  <a:pt x="80" y="20"/>
                </a:lnTo>
                <a:lnTo>
                  <a:pt x="91" y="20"/>
                </a:lnTo>
                <a:lnTo>
                  <a:pt x="101" y="16"/>
                </a:lnTo>
                <a:lnTo>
                  <a:pt x="113" y="14"/>
                </a:lnTo>
                <a:lnTo>
                  <a:pt x="124" y="12"/>
                </a:lnTo>
                <a:lnTo>
                  <a:pt x="136" y="10"/>
                </a:lnTo>
                <a:lnTo>
                  <a:pt x="148" y="8"/>
                </a:lnTo>
                <a:lnTo>
                  <a:pt x="163" y="6"/>
                </a:lnTo>
                <a:lnTo>
                  <a:pt x="177" y="4"/>
                </a:lnTo>
                <a:lnTo>
                  <a:pt x="192" y="4"/>
                </a:lnTo>
                <a:lnTo>
                  <a:pt x="206" y="2"/>
                </a:lnTo>
                <a:lnTo>
                  <a:pt x="221" y="0"/>
                </a:lnTo>
                <a:lnTo>
                  <a:pt x="235" y="0"/>
                </a:lnTo>
                <a:lnTo>
                  <a:pt x="252" y="0"/>
                </a:lnTo>
                <a:lnTo>
                  <a:pt x="268" y="0"/>
                </a:lnTo>
                <a:lnTo>
                  <a:pt x="285" y="0"/>
                </a:lnTo>
                <a:lnTo>
                  <a:pt x="303" y="2"/>
                </a:lnTo>
                <a:lnTo>
                  <a:pt x="320" y="6"/>
                </a:lnTo>
                <a:lnTo>
                  <a:pt x="336" y="6"/>
                </a:lnTo>
                <a:lnTo>
                  <a:pt x="353" y="8"/>
                </a:lnTo>
                <a:lnTo>
                  <a:pt x="371" y="10"/>
                </a:lnTo>
                <a:lnTo>
                  <a:pt x="388" y="16"/>
                </a:lnTo>
                <a:lnTo>
                  <a:pt x="406" y="18"/>
                </a:lnTo>
                <a:lnTo>
                  <a:pt x="425" y="24"/>
                </a:lnTo>
                <a:lnTo>
                  <a:pt x="442" y="29"/>
                </a:lnTo>
                <a:lnTo>
                  <a:pt x="462" y="35"/>
                </a:lnTo>
                <a:lnTo>
                  <a:pt x="479" y="41"/>
                </a:lnTo>
                <a:lnTo>
                  <a:pt x="499" y="47"/>
                </a:lnTo>
                <a:lnTo>
                  <a:pt x="518" y="55"/>
                </a:lnTo>
                <a:lnTo>
                  <a:pt x="537" y="66"/>
                </a:lnTo>
                <a:lnTo>
                  <a:pt x="555" y="74"/>
                </a:lnTo>
                <a:lnTo>
                  <a:pt x="574" y="84"/>
                </a:lnTo>
                <a:lnTo>
                  <a:pt x="594" y="95"/>
                </a:lnTo>
                <a:lnTo>
                  <a:pt x="613" y="109"/>
                </a:lnTo>
                <a:lnTo>
                  <a:pt x="631" y="121"/>
                </a:lnTo>
                <a:lnTo>
                  <a:pt x="650" y="132"/>
                </a:lnTo>
                <a:lnTo>
                  <a:pt x="667" y="146"/>
                </a:lnTo>
                <a:lnTo>
                  <a:pt x="687" y="163"/>
                </a:lnTo>
                <a:lnTo>
                  <a:pt x="704" y="179"/>
                </a:lnTo>
                <a:lnTo>
                  <a:pt x="724" y="196"/>
                </a:lnTo>
                <a:lnTo>
                  <a:pt x="743" y="214"/>
                </a:lnTo>
                <a:lnTo>
                  <a:pt x="762" y="235"/>
                </a:lnTo>
                <a:lnTo>
                  <a:pt x="780" y="252"/>
                </a:lnTo>
                <a:lnTo>
                  <a:pt x="797" y="276"/>
                </a:lnTo>
                <a:lnTo>
                  <a:pt x="815" y="297"/>
                </a:lnTo>
                <a:lnTo>
                  <a:pt x="832" y="322"/>
                </a:lnTo>
                <a:lnTo>
                  <a:pt x="850" y="345"/>
                </a:lnTo>
                <a:lnTo>
                  <a:pt x="867" y="373"/>
                </a:lnTo>
                <a:lnTo>
                  <a:pt x="885" y="402"/>
                </a:lnTo>
                <a:lnTo>
                  <a:pt x="902" y="431"/>
                </a:lnTo>
                <a:lnTo>
                  <a:pt x="912" y="452"/>
                </a:lnTo>
                <a:lnTo>
                  <a:pt x="923" y="475"/>
                </a:lnTo>
                <a:lnTo>
                  <a:pt x="933" y="499"/>
                </a:lnTo>
                <a:lnTo>
                  <a:pt x="945" y="522"/>
                </a:lnTo>
                <a:lnTo>
                  <a:pt x="952" y="543"/>
                </a:lnTo>
                <a:lnTo>
                  <a:pt x="960" y="567"/>
                </a:lnTo>
                <a:lnTo>
                  <a:pt x="968" y="590"/>
                </a:lnTo>
                <a:lnTo>
                  <a:pt x="976" y="613"/>
                </a:lnTo>
                <a:lnTo>
                  <a:pt x="980" y="634"/>
                </a:lnTo>
                <a:lnTo>
                  <a:pt x="985" y="658"/>
                </a:lnTo>
                <a:lnTo>
                  <a:pt x="989" y="679"/>
                </a:lnTo>
                <a:lnTo>
                  <a:pt x="995" y="702"/>
                </a:lnTo>
                <a:lnTo>
                  <a:pt x="997" y="724"/>
                </a:lnTo>
                <a:lnTo>
                  <a:pt x="1001" y="745"/>
                </a:lnTo>
                <a:lnTo>
                  <a:pt x="1003" y="766"/>
                </a:lnTo>
                <a:lnTo>
                  <a:pt x="1007" y="789"/>
                </a:lnTo>
                <a:lnTo>
                  <a:pt x="1007" y="809"/>
                </a:lnTo>
                <a:lnTo>
                  <a:pt x="1007" y="830"/>
                </a:lnTo>
                <a:lnTo>
                  <a:pt x="1007" y="850"/>
                </a:lnTo>
                <a:lnTo>
                  <a:pt x="1007" y="871"/>
                </a:lnTo>
                <a:lnTo>
                  <a:pt x="1005" y="890"/>
                </a:lnTo>
                <a:lnTo>
                  <a:pt x="1005" y="910"/>
                </a:lnTo>
                <a:lnTo>
                  <a:pt x="1003" y="929"/>
                </a:lnTo>
                <a:lnTo>
                  <a:pt x="1003" y="950"/>
                </a:lnTo>
                <a:lnTo>
                  <a:pt x="999" y="968"/>
                </a:lnTo>
                <a:lnTo>
                  <a:pt x="997" y="987"/>
                </a:lnTo>
                <a:lnTo>
                  <a:pt x="993" y="1005"/>
                </a:lnTo>
                <a:lnTo>
                  <a:pt x="991" y="1024"/>
                </a:lnTo>
                <a:lnTo>
                  <a:pt x="985" y="1041"/>
                </a:lnTo>
                <a:lnTo>
                  <a:pt x="983" y="1059"/>
                </a:lnTo>
                <a:lnTo>
                  <a:pt x="978" y="1076"/>
                </a:lnTo>
                <a:lnTo>
                  <a:pt x="976" y="1094"/>
                </a:lnTo>
                <a:lnTo>
                  <a:pt x="970" y="1107"/>
                </a:lnTo>
                <a:lnTo>
                  <a:pt x="964" y="1125"/>
                </a:lnTo>
                <a:lnTo>
                  <a:pt x="958" y="1138"/>
                </a:lnTo>
                <a:lnTo>
                  <a:pt x="954" y="1156"/>
                </a:lnTo>
                <a:lnTo>
                  <a:pt x="949" y="1169"/>
                </a:lnTo>
                <a:lnTo>
                  <a:pt x="945" y="1183"/>
                </a:lnTo>
                <a:lnTo>
                  <a:pt x="939" y="1197"/>
                </a:lnTo>
                <a:lnTo>
                  <a:pt x="935" y="1212"/>
                </a:lnTo>
                <a:lnTo>
                  <a:pt x="929" y="1224"/>
                </a:lnTo>
                <a:lnTo>
                  <a:pt x="923" y="1237"/>
                </a:lnTo>
                <a:lnTo>
                  <a:pt x="918" y="1249"/>
                </a:lnTo>
                <a:lnTo>
                  <a:pt x="914" y="1263"/>
                </a:lnTo>
                <a:lnTo>
                  <a:pt x="908" y="1272"/>
                </a:lnTo>
                <a:lnTo>
                  <a:pt x="902" y="1284"/>
                </a:lnTo>
                <a:lnTo>
                  <a:pt x="898" y="1294"/>
                </a:lnTo>
                <a:lnTo>
                  <a:pt x="894" y="1305"/>
                </a:lnTo>
                <a:lnTo>
                  <a:pt x="883" y="1321"/>
                </a:lnTo>
                <a:lnTo>
                  <a:pt x="875" y="1338"/>
                </a:lnTo>
                <a:lnTo>
                  <a:pt x="865" y="1350"/>
                </a:lnTo>
                <a:lnTo>
                  <a:pt x="859" y="1363"/>
                </a:lnTo>
                <a:lnTo>
                  <a:pt x="850" y="1379"/>
                </a:lnTo>
                <a:lnTo>
                  <a:pt x="848" y="1385"/>
                </a:lnTo>
                <a:lnTo>
                  <a:pt x="848" y="1381"/>
                </a:lnTo>
                <a:lnTo>
                  <a:pt x="848" y="1371"/>
                </a:lnTo>
                <a:lnTo>
                  <a:pt x="850" y="1356"/>
                </a:lnTo>
                <a:lnTo>
                  <a:pt x="854" y="1338"/>
                </a:lnTo>
                <a:lnTo>
                  <a:pt x="854" y="1325"/>
                </a:lnTo>
                <a:lnTo>
                  <a:pt x="854" y="1313"/>
                </a:lnTo>
                <a:lnTo>
                  <a:pt x="855" y="1297"/>
                </a:lnTo>
                <a:lnTo>
                  <a:pt x="857" y="1284"/>
                </a:lnTo>
                <a:lnTo>
                  <a:pt x="857" y="1266"/>
                </a:lnTo>
                <a:lnTo>
                  <a:pt x="857" y="1249"/>
                </a:lnTo>
                <a:lnTo>
                  <a:pt x="859" y="1231"/>
                </a:lnTo>
                <a:lnTo>
                  <a:pt x="861" y="1214"/>
                </a:lnTo>
                <a:lnTo>
                  <a:pt x="859" y="1193"/>
                </a:lnTo>
                <a:lnTo>
                  <a:pt x="859" y="1171"/>
                </a:lnTo>
                <a:lnTo>
                  <a:pt x="859" y="1150"/>
                </a:lnTo>
                <a:lnTo>
                  <a:pt x="859" y="1129"/>
                </a:lnTo>
                <a:lnTo>
                  <a:pt x="857" y="1105"/>
                </a:lnTo>
                <a:lnTo>
                  <a:pt x="855" y="1082"/>
                </a:lnTo>
                <a:lnTo>
                  <a:pt x="854" y="1057"/>
                </a:lnTo>
                <a:lnTo>
                  <a:pt x="854" y="1034"/>
                </a:lnTo>
                <a:lnTo>
                  <a:pt x="850" y="1007"/>
                </a:lnTo>
                <a:lnTo>
                  <a:pt x="846" y="981"/>
                </a:lnTo>
                <a:lnTo>
                  <a:pt x="842" y="954"/>
                </a:lnTo>
                <a:lnTo>
                  <a:pt x="840" y="929"/>
                </a:lnTo>
                <a:lnTo>
                  <a:pt x="834" y="902"/>
                </a:lnTo>
                <a:lnTo>
                  <a:pt x="828" y="875"/>
                </a:lnTo>
                <a:lnTo>
                  <a:pt x="823" y="848"/>
                </a:lnTo>
                <a:lnTo>
                  <a:pt x="817" y="820"/>
                </a:lnTo>
                <a:lnTo>
                  <a:pt x="807" y="791"/>
                </a:lnTo>
                <a:lnTo>
                  <a:pt x="797" y="762"/>
                </a:lnTo>
                <a:lnTo>
                  <a:pt x="788" y="733"/>
                </a:lnTo>
                <a:lnTo>
                  <a:pt x="778" y="706"/>
                </a:lnTo>
                <a:lnTo>
                  <a:pt x="764" y="677"/>
                </a:lnTo>
                <a:lnTo>
                  <a:pt x="753" y="648"/>
                </a:lnTo>
                <a:lnTo>
                  <a:pt x="739" y="619"/>
                </a:lnTo>
                <a:lnTo>
                  <a:pt x="727" y="592"/>
                </a:lnTo>
                <a:lnTo>
                  <a:pt x="710" y="563"/>
                </a:lnTo>
                <a:lnTo>
                  <a:pt x="695" y="534"/>
                </a:lnTo>
                <a:lnTo>
                  <a:pt x="677" y="506"/>
                </a:lnTo>
                <a:lnTo>
                  <a:pt x="660" y="479"/>
                </a:lnTo>
                <a:lnTo>
                  <a:pt x="638" y="450"/>
                </a:lnTo>
                <a:lnTo>
                  <a:pt x="619" y="425"/>
                </a:lnTo>
                <a:lnTo>
                  <a:pt x="596" y="398"/>
                </a:lnTo>
                <a:lnTo>
                  <a:pt x="574" y="375"/>
                </a:lnTo>
                <a:lnTo>
                  <a:pt x="547" y="347"/>
                </a:lnTo>
                <a:lnTo>
                  <a:pt x="522" y="322"/>
                </a:lnTo>
                <a:lnTo>
                  <a:pt x="493" y="297"/>
                </a:lnTo>
                <a:lnTo>
                  <a:pt x="466" y="274"/>
                </a:lnTo>
                <a:lnTo>
                  <a:pt x="433" y="250"/>
                </a:lnTo>
                <a:lnTo>
                  <a:pt x="402" y="227"/>
                </a:lnTo>
                <a:lnTo>
                  <a:pt x="369" y="204"/>
                </a:lnTo>
                <a:lnTo>
                  <a:pt x="336" y="185"/>
                </a:lnTo>
                <a:lnTo>
                  <a:pt x="297" y="163"/>
                </a:lnTo>
                <a:lnTo>
                  <a:pt x="260" y="144"/>
                </a:lnTo>
                <a:lnTo>
                  <a:pt x="219" y="126"/>
                </a:lnTo>
                <a:lnTo>
                  <a:pt x="181" y="109"/>
                </a:lnTo>
                <a:lnTo>
                  <a:pt x="136" y="92"/>
                </a:lnTo>
                <a:lnTo>
                  <a:pt x="93" y="76"/>
                </a:lnTo>
                <a:lnTo>
                  <a:pt x="47" y="60"/>
                </a:lnTo>
                <a:lnTo>
                  <a:pt x="0" y="49"/>
                </a:lnTo>
                <a:close/>
              </a:path>
            </a:pathLst>
          </a:custGeom>
          <a:solidFill>
            <a:srgbClr val="ffccf2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6"/>
          <p:cNvGrpSpPr/>
          <p:nvPr/>
        </p:nvGrpSpPr>
        <p:grpSpPr>
          <a:xfrm>
            <a:off x="2771640" y="5013360"/>
            <a:ext cx="1944360" cy="1510920"/>
            <a:chOff x="2771640" y="5013360"/>
            <a:chExt cx="1944360" cy="1510920"/>
          </a:xfrm>
        </p:grpSpPr>
        <p:sp>
          <p:nvSpPr>
            <p:cNvPr id="46" name="Freeform 7"/>
            <p:cNvSpPr/>
            <p:nvPr/>
          </p:nvSpPr>
          <p:spPr>
            <a:xfrm>
              <a:off x="4004640" y="5341680"/>
              <a:ext cx="567360" cy="3549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54960"/>
                <a:gd name="textAreaBottom" fmla="*/ 355320 h 354960"/>
              </a:gdLst>
              <a:ahLst/>
              <a:rect l="textAreaLeft" t="textAreaTop" r="textAreaRight" b="textAreaBottom"/>
              <a:pathLst>
                <a:path w="2630" h="1499">
                  <a:moveTo>
                    <a:pt x="0" y="1499"/>
                  </a:moveTo>
                  <a:lnTo>
                    <a:pt x="218" y="1089"/>
                  </a:lnTo>
                  <a:lnTo>
                    <a:pt x="504" y="694"/>
                  </a:lnTo>
                  <a:lnTo>
                    <a:pt x="843" y="349"/>
                  </a:lnTo>
                  <a:lnTo>
                    <a:pt x="1213" y="104"/>
                  </a:lnTo>
                  <a:lnTo>
                    <a:pt x="1590" y="0"/>
                  </a:lnTo>
                  <a:lnTo>
                    <a:pt x="1966" y="86"/>
                  </a:lnTo>
                  <a:lnTo>
                    <a:pt x="2319" y="401"/>
                  </a:lnTo>
                  <a:lnTo>
                    <a:pt x="2630" y="1005"/>
                  </a:lnTo>
                  <a:lnTo>
                    <a:pt x="2188" y="663"/>
                  </a:lnTo>
                  <a:lnTo>
                    <a:pt x="1797" y="494"/>
                  </a:lnTo>
                  <a:lnTo>
                    <a:pt x="1445" y="473"/>
                  </a:lnTo>
                  <a:lnTo>
                    <a:pt x="1129" y="573"/>
                  </a:lnTo>
                  <a:lnTo>
                    <a:pt x="836" y="743"/>
                  </a:lnTo>
                  <a:lnTo>
                    <a:pt x="553" y="981"/>
                  </a:lnTo>
                  <a:lnTo>
                    <a:pt x="276" y="1237"/>
                  </a:lnTo>
                  <a:lnTo>
                    <a:pt x="0" y="1499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4004640" y="5343120"/>
              <a:ext cx="558360" cy="353880"/>
            </a:xfrm>
            <a:custGeom>
              <a:avLst/>
              <a:gdLst>
                <a:gd name="textAreaLeft" fmla="*/ 0 w 558360"/>
                <a:gd name="textAreaRight" fmla="*/ 558720 w 55836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2589" h="1493">
                  <a:moveTo>
                    <a:pt x="0" y="1493"/>
                  </a:moveTo>
                  <a:lnTo>
                    <a:pt x="210" y="1092"/>
                  </a:lnTo>
                  <a:lnTo>
                    <a:pt x="494" y="702"/>
                  </a:lnTo>
                  <a:lnTo>
                    <a:pt x="829" y="360"/>
                  </a:lnTo>
                  <a:lnTo>
                    <a:pt x="1192" y="111"/>
                  </a:lnTo>
                  <a:lnTo>
                    <a:pt x="1566" y="0"/>
                  </a:lnTo>
                  <a:lnTo>
                    <a:pt x="1938" y="70"/>
                  </a:lnTo>
                  <a:lnTo>
                    <a:pt x="2281" y="374"/>
                  </a:lnTo>
                  <a:lnTo>
                    <a:pt x="2589" y="944"/>
                  </a:lnTo>
                  <a:lnTo>
                    <a:pt x="2157" y="612"/>
                  </a:lnTo>
                  <a:lnTo>
                    <a:pt x="1773" y="453"/>
                  </a:lnTo>
                  <a:lnTo>
                    <a:pt x="1428" y="439"/>
                  </a:lnTo>
                  <a:lnTo>
                    <a:pt x="1116" y="543"/>
                  </a:lnTo>
                  <a:lnTo>
                    <a:pt x="823" y="723"/>
                  </a:lnTo>
                  <a:lnTo>
                    <a:pt x="546" y="962"/>
                  </a:lnTo>
                  <a:lnTo>
                    <a:pt x="270" y="1227"/>
                  </a:lnTo>
                  <a:lnTo>
                    <a:pt x="0" y="1493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4004640" y="5344200"/>
              <a:ext cx="550800" cy="352440"/>
            </a:xfrm>
            <a:custGeom>
              <a:avLst/>
              <a:gdLst>
                <a:gd name="textAreaLeft" fmla="*/ 0 w 550800"/>
                <a:gd name="textAreaRight" fmla="*/ 551160 w 550800"/>
                <a:gd name="textAreaTop" fmla="*/ 0 h 352440"/>
                <a:gd name="textAreaBottom" fmla="*/ 352440 h 352440"/>
              </a:gdLst>
              <a:ahLst/>
              <a:rect l="textAreaLeft" t="textAreaTop" r="textAreaRight" b="textAreaBottom"/>
              <a:pathLst>
                <a:path w="2551" h="1486">
                  <a:moveTo>
                    <a:pt x="0" y="1486"/>
                  </a:moveTo>
                  <a:lnTo>
                    <a:pt x="207" y="1093"/>
                  </a:lnTo>
                  <a:lnTo>
                    <a:pt x="487" y="708"/>
                  </a:lnTo>
                  <a:lnTo>
                    <a:pt x="812" y="367"/>
                  </a:lnTo>
                  <a:lnTo>
                    <a:pt x="1172" y="118"/>
                  </a:lnTo>
                  <a:lnTo>
                    <a:pt x="1541" y="0"/>
                  </a:lnTo>
                  <a:lnTo>
                    <a:pt x="1907" y="59"/>
                  </a:lnTo>
                  <a:lnTo>
                    <a:pt x="2249" y="339"/>
                  </a:lnTo>
                  <a:lnTo>
                    <a:pt x="2551" y="881"/>
                  </a:lnTo>
                  <a:lnTo>
                    <a:pt x="2125" y="560"/>
                  </a:lnTo>
                  <a:lnTo>
                    <a:pt x="1748" y="415"/>
                  </a:lnTo>
                  <a:lnTo>
                    <a:pt x="1406" y="405"/>
                  </a:lnTo>
                  <a:lnTo>
                    <a:pt x="1099" y="515"/>
                  </a:lnTo>
                  <a:lnTo>
                    <a:pt x="812" y="699"/>
                  </a:lnTo>
                  <a:lnTo>
                    <a:pt x="535" y="947"/>
                  </a:lnTo>
                  <a:lnTo>
                    <a:pt x="265" y="1217"/>
                  </a:lnTo>
                  <a:lnTo>
                    <a:pt x="0" y="1486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4004640" y="5347080"/>
              <a:ext cx="541800" cy="349560"/>
            </a:xfrm>
            <a:custGeom>
              <a:avLst/>
              <a:gdLst>
                <a:gd name="textAreaLeft" fmla="*/ 0 w 541800"/>
                <a:gd name="textAreaRight" fmla="*/ 542160 w 541800"/>
                <a:gd name="textAreaTop" fmla="*/ 0 h 349560"/>
                <a:gd name="textAreaBottom" fmla="*/ 349920 h 349560"/>
              </a:gdLst>
              <a:ahLst/>
              <a:rect l="textAreaLeft" t="textAreaTop" r="textAreaRight" b="textAreaBottom"/>
              <a:pathLst>
                <a:path w="2505" h="1479">
                  <a:moveTo>
                    <a:pt x="0" y="1479"/>
                  </a:moveTo>
                  <a:lnTo>
                    <a:pt x="204" y="1096"/>
                  </a:lnTo>
                  <a:lnTo>
                    <a:pt x="473" y="719"/>
                  </a:lnTo>
                  <a:lnTo>
                    <a:pt x="798" y="381"/>
                  </a:lnTo>
                  <a:lnTo>
                    <a:pt x="1147" y="128"/>
                  </a:lnTo>
                  <a:lnTo>
                    <a:pt x="1514" y="0"/>
                  </a:lnTo>
                  <a:lnTo>
                    <a:pt x="1877" y="49"/>
                  </a:lnTo>
                  <a:lnTo>
                    <a:pt x="2212" y="304"/>
                  </a:lnTo>
                  <a:lnTo>
                    <a:pt x="2505" y="822"/>
                  </a:lnTo>
                  <a:lnTo>
                    <a:pt x="2087" y="511"/>
                  </a:lnTo>
                  <a:lnTo>
                    <a:pt x="1721" y="373"/>
                  </a:lnTo>
                  <a:lnTo>
                    <a:pt x="1382" y="367"/>
                  </a:lnTo>
                  <a:lnTo>
                    <a:pt x="1082" y="484"/>
                  </a:lnTo>
                  <a:lnTo>
                    <a:pt x="798" y="678"/>
                  </a:lnTo>
                  <a:lnTo>
                    <a:pt x="529" y="926"/>
                  </a:lnTo>
                  <a:lnTo>
                    <a:pt x="262" y="1199"/>
                  </a:lnTo>
                  <a:lnTo>
                    <a:pt x="0" y="1479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4004640" y="5348880"/>
              <a:ext cx="532440" cy="348120"/>
            </a:xfrm>
            <a:custGeom>
              <a:avLst/>
              <a:gdLst>
                <a:gd name="textAreaLeft" fmla="*/ 0 w 532440"/>
                <a:gd name="textAreaRight" fmla="*/ 532800 w 532440"/>
                <a:gd name="textAreaTop" fmla="*/ 0 h 348120"/>
                <a:gd name="textAreaBottom" fmla="*/ 348480 h 348120"/>
              </a:gdLst>
              <a:ahLst/>
              <a:rect l="textAreaLeft" t="textAreaTop" r="textAreaRight" b="textAreaBottom"/>
              <a:pathLst>
                <a:path w="2468" h="1472">
                  <a:moveTo>
                    <a:pt x="0" y="1472"/>
                  </a:moveTo>
                  <a:lnTo>
                    <a:pt x="193" y="1099"/>
                  </a:lnTo>
                  <a:lnTo>
                    <a:pt x="463" y="726"/>
                  </a:lnTo>
                  <a:lnTo>
                    <a:pt x="777" y="388"/>
                  </a:lnTo>
                  <a:lnTo>
                    <a:pt x="1129" y="135"/>
                  </a:lnTo>
                  <a:lnTo>
                    <a:pt x="1489" y="0"/>
                  </a:lnTo>
                  <a:lnTo>
                    <a:pt x="1849" y="31"/>
                  </a:lnTo>
                  <a:lnTo>
                    <a:pt x="2177" y="270"/>
                  </a:lnTo>
                  <a:lnTo>
                    <a:pt x="2468" y="760"/>
                  </a:lnTo>
                  <a:lnTo>
                    <a:pt x="2056" y="460"/>
                  </a:lnTo>
                  <a:lnTo>
                    <a:pt x="1693" y="328"/>
                  </a:lnTo>
                  <a:lnTo>
                    <a:pt x="1365" y="332"/>
                  </a:lnTo>
                  <a:lnTo>
                    <a:pt x="1065" y="457"/>
                  </a:lnTo>
                  <a:lnTo>
                    <a:pt x="784" y="653"/>
                  </a:lnTo>
                  <a:lnTo>
                    <a:pt x="518" y="909"/>
                  </a:lnTo>
                  <a:lnTo>
                    <a:pt x="256" y="1189"/>
                  </a:lnTo>
                  <a:lnTo>
                    <a:pt x="0" y="1472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3865680" y="5856120"/>
              <a:ext cx="278640" cy="550080"/>
            </a:xfrm>
            <a:custGeom>
              <a:avLst/>
              <a:gdLst>
                <a:gd name="textAreaLeft" fmla="*/ 0 w 278640"/>
                <a:gd name="textAreaRight" fmla="*/ 278640 w 27864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1293" h="2320">
                  <a:moveTo>
                    <a:pt x="0" y="31"/>
                  </a:moveTo>
                  <a:lnTo>
                    <a:pt x="197" y="166"/>
                  </a:lnTo>
                  <a:lnTo>
                    <a:pt x="360" y="360"/>
                  </a:lnTo>
                  <a:lnTo>
                    <a:pt x="487" y="595"/>
                  </a:lnTo>
                  <a:lnTo>
                    <a:pt x="584" y="871"/>
                  </a:lnTo>
                  <a:lnTo>
                    <a:pt x="654" y="1165"/>
                  </a:lnTo>
                  <a:lnTo>
                    <a:pt x="698" y="1469"/>
                  </a:lnTo>
                  <a:lnTo>
                    <a:pt x="718" y="1773"/>
                  </a:lnTo>
                  <a:lnTo>
                    <a:pt x="726" y="2074"/>
                  </a:lnTo>
                  <a:lnTo>
                    <a:pt x="726" y="2102"/>
                  </a:lnTo>
                  <a:lnTo>
                    <a:pt x="726" y="2133"/>
                  </a:lnTo>
                  <a:lnTo>
                    <a:pt x="726" y="2164"/>
                  </a:lnTo>
                  <a:lnTo>
                    <a:pt x="726" y="2194"/>
                  </a:lnTo>
                  <a:lnTo>
                    <a:pt x="726" y="2223"/>
                  </a:lnTo>
                  <a:lnTo>
                    <a:pt x="726" y="2254"/>
                  </a:lnTo>
                  <a:lnTo>
                    <a:pt x="726" y="2285"/>
                  </a:lnTo>
                  <a:lnTo>
                    <a:pt x="729" y="2320"/>
                  </a:lnTo>
                  <a:lnTo>
                    <a:pt x="1106" y="1825"/>
                  </a:lnTo>
                  <a:lnTo>
                    <a:pt x="1282" y="1362"/>
                  </a:lnTo>
                  <a:lnTo>
                    <a:pt x="1293" y="941"/>
                  </a:lnTo>
                  <a:lnTo>
                    <a:pt x="1164" y="581"/>
                  </a:lnTo>
                  <a:lnTo>
                    <a:pt x="937" y="287"/>
                  </a:lnTo>
                  <a:lnTo>
                    <a:pt x="643" y="94"/>
                  </a:lnTo>
                  <a:lnTo>
                    <a:pt x="321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877200" y="5860440"/>
              <a:ext cx="261720" cy="54576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545760"/>
                <a:gd name="textAreaBottom" fmla="*/ 546120 h 545760"/>
              </a:gdLst>
              <a:ahLst/>
              <a:rect l="textAreaLeft" t="textAreaTop" r="textAreaRight" b="textAreaBottom"/>
              <a:pathLst>
                <a:path w="1213" h="2306">
                  <a:moveTo>
                    <a:pt x="0" y="28"/>
                  </a:moveTo>
                  <a:lnTo>
                    <a:pt x="201" y="163"/>
                  </a:lnTo>
                  <a:lnTo>
                    <a:pt x="374" y="360"/>
                  </a:lnTo>
                  <a:lnTo>
                    <a:pt x="508" y="595"/>
                  </a:lnTo>
                  <a:lnTo>
                    <a:pt x="608" y="867"/>
                  </a:lnTo>
                  <a:lnTo>
                    <a:pt x="671" y="1154"/>
                  </a:lnTo>
                  <a:lnTo>
                    <a:pt x="705" y="1462"/>
                  </a:lnTo>
                  <a:lnTo>
                    <a:pt x="709" y="1763"/>
                  </a:lnTo>
                  <a:lnTo>
                    <a:pt x="688" y="2050"/>
                  </a:lnTo>
                  <a:lnTo>
                    <a:pt x="685" y="2077"/>
                  </a:lnTo>
                  <a:lnTo>
                    <a:pt x="677" y="2111"/>
                  </a:lnTo>
                  <a:lnTo>
                    <a:pt x="677" y="2139"/>
                  </a:lnTo>
                  <a:lnTo>
                    <a:pt x="677" y="2177"/>
                  </a:lnTo>
                  <a:lnTo>
                    <a:pt x="674" y="2209"/>
                  </a:lnTo>
                  <a:lnTo>
                    <a:pt x="674" y="2240"/>
                  </a:lnTo>
                  <a:lnTo>
                    <a:pt x="674" y="2271"/>
                  </a:lnTo>
                  <a:lnTo>
                    <a:pt x="674" y="2306"/>
                  </a:lnTo>
                  <a:lnTo>
                    <a:pt x="1034" y="1822"/>
                  </a:lnTo>
                  <a:lnTo>
                    <a:pt x="1210" y="1365"/>
                  </a:lnTo>
                  <a:lnTo>
                    <a:pt x="1213" y="947"/>
                  </a:lnTo>
                  <a:lnTo>
                    <a:pt x="1103" y="595"/>
                  </a:lnTo>
                  <a:lnTo>
                    <a:pt x="885" y="301"/>
                  </a:lnTo>
                  <a:lnTo>
                    <a:pt x="612" y="97"/>
                  </a:lnTo>
                  <a:lnTo>
                    <a:pt x="300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3887640" y="5864760"/>
              <a:ext cx="249840" cy="541800"/>
            </a:xfrm>
            <a:custGeom>
              <a:avLst/>
              <a:gdLst>
                <a:gd name="textAreaLeft" fmla="*/ 0 w 249840"/>
                <a:gd name="textAreaRight" fmla="*/ 250200 w 249840"/>
                <a:gd name="textAreaTop" fmla="*/ 0 h 541800"/>
                <a:gd name="textAreaBottom" fmla="*/ 542160 h 541800"/>
              </a:gdLst>
              <a:ahLst/>
              <a:rect l="textAreaLeft" t="textAreaTop" r="textAreaRight" b="textAreaBottom"/>
              <a:pathLst>
                <a:path w="1158" h="2289">
                  <a:moveTo>
                    <a:pt x="0" y="25"/>
                  </a:moveTo>
                  <a:lnTo>
                    <a:pt x="217" y="159"/>
                  </a:lnTo>
                  <a:lnTo>
                    <a:pt x="390" y="353"/>
                  </a:lnTo>
                  <a:lnTo>
                    <a:pt x="532" y="585"/>
                  </a:lnTo>
                  <a:lnTo>
                    <a:pt x="636" y="861"/>
                  </a:lnTo>
                  <a:lnTo>
                    <a:pt x="698" y="1148"/>
                  </a:lnTo>
                  <a:lnTo>
                    <a:pt x="718" y="1449"/>
                  </a:lnTo>
                  <a:lnTo>
                    <a:pt x="705" y="1746"/>
                  </a:lnTo>
                  <a:lnTo>
                    <a:pt x="656" y="2030"/>
                  </a:lnTo>
                  <a:lnTo>
                    <a:pt x="649" y="2057"/>
                  </a:lnTo>
                  <a:lnTo>
                    <a:pt x="642" y="2091"/>
                  </a:lnTo>
                  <a:lnTo>
                    <a:pt x="639" y="2119"/>
                  </a:lnTo>
                  <a:lnTo>
                    <a:pt x="636" y="2154"/>
                  </a:lnTo>
                  <a:lnTo>
                    <a:pt x="628" y="2185"/>
                  </a:lnTo>
                  <a:lnTo>
                    <a:pt x="625" y="2223"/>
                  </a:lnTo>
                  <a:lnTo>
                    <a:pt x="625" y="2254"/>
                  </a:lnTo>
                  <a:lnTo>
                    <a:pt x="625" y="2289"/>
                  </a:lnTo>
                  <a:lnTo>
                    <a:pt x="977" y="1811"/>
                  </a:lnTo>
                  <a:lnTo>
                    <a:pt x="1147" y="1369"/>
                  </a:lnTo>
                  <a:lnTo>
                    <a:pt x="1158" y="951"/>
                  </a:lnTo>
                  <a:lnTo>
                    <a:pt x="1046" y="595"/>
                  </a:lnTo>
                  <a:lnTo>
                    <a:pt x="839" y="308"/>
                  </a:lnTo>
                  <a:lnTo>
                    <a:pt x="580" y="104"/>
                  </a:lnTo>
                  <a:lnTo>
                    <a:pt x="286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3899160" y="5867640"/>
              <a:ext cx="235800" cy="538920"/>
            </a:xfrm>
            <a:custGeom>
              <a:avLst/>
              <a:gdLst>
                <a:gd name="textAreaLeft" fmla="*/ 0 w 235800"/>
                <a:gd name="textAreaRight" fmla="*/ 236160 w 235800"/>
                <a:gd name="textAreaTop" fmla="*/ 0 h 538920"/>
                <a:gd name="textAreaBottom" fmla="*/ 539280 h 538920"/>
              </a:gdLst>
              <a:ahLst/>
              <a:rect l="textAreaLeft" t="textAreaTop" r="textAreaRight" b="textAreaBottom"/>
              <a:pathLst>
                <a:path w="1089" h="2271">
                  <a:moveTo>
                    <a:pt x="0" y="24"/>
                  </a:moveTo>
                  <a:lnTo>
                    <a:pt x="221" y="158"/>
                  </a:lnTo>
                  <a:lnTo>
                    <a:pt x="408" y="353"/>
                  </a:lnTo>
                  <a:lnTo>
                    <a:pt x="553" y="590"/>
                  </a:lnTo>
                  <a:lnTo>
                    <a:pt x="657" y="860"/>
                  </a:lnTo>
                  <a:lnTo>
                    <a:pt x="708" y="1143"/>
                  </a:lnTo>
                  <a:lnTo>
                    <a:pt x="729" y="1441"/>
                  </a:lnTo>
                  <a:lnTo>
                    <a:pt x="691" y="1728"/>
                  </a:lnTo>
                  <a:lnTo>
                    <a:pt x="616" y="2007"/>
                  </a:lnTo>
                  <a:lnTo>
                    <a:pt x="605" y="2039"/>
                  </a:lnTo>
                  <a:lnTo>
                    <a:pt x="601" y="2070"/>
                  </a:lnTo>
                  <a:lnTo>
                    <a:pt x="594" y="2101"/>
                  </a:lnTo>
                  <a:lnTo>
                    <a:pt x="594" y="2136"/>
                  </a:lnTo>
                  <a:lnTo>
                    <a:pt x="584" y="2167"/>
                  </a:lnTo>
                  <a:lnTo>
                    <a:pt x="581" y="2205"/>
                  </a:lnTo>
                  <a:lnTo>
                    <a:pt x="570" y="2236"/>
                  </a:lnTo>
                  <a:lnTo>
                    <a:pt x="570" y="2271"/>
                  </a:lnTo>
                  <a:lnTo>
                    <a:pt x="909" y="1804"/>
                  </a:lnTo>
                  <a:lnTo>
                    <a:pt x="1075" y="1358"/>
                  </a:lnTo>
                  <a:lnTo>
                    <a:pt x="1089" y="950"/>
                  </a:lnTo>
                  <a:lnTo>
                    <a:pt x="988" y="595"/>
                  </a:lnTo>
                  <a:lnTo>
                    <a:pt x="795" y="307"/>
                  </a:lnTo>
                  <a:lnTo>
                    <a:pt x="550" y="103"/>
                  </a:lnTo>
                  <a:lnTo>
                    <a:pt x="27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3909960" y="5871600"/>
              <a:ext cx="219960" cy="534600"/>
            </a:xfrm>
            <a:custGeom>
              <a:avLst/>
              <a:gdLst>
                <a:gd name="textAreaLeft" fmla="*/ 0 w 219960"/>
                <a:gd name="textAreaRight" fmla="*/ 220320 w 219960"/>
                <a:gd name="textAreaTop" fmla="*/ 0 h 534600"/>
                <a:gd name="textAreaBottom" fmla="*/ 534960 h 534600"/>
              </a:gdLst>
              <a:ahLst/>
              <a:rect l="textAreaLeft" t="textAreaTop" r="textAreaRight" b="textAreaBottom"/>
              <a:pathLst>
                <a:path w="1020" h="2254">
                  <a:moveTo>
                    <a:pt x="0" y="20"/>
                  </a:moveTo>
                  <a:lnTo>
                    <a:pt x="228" y="159"/>
                  </a:lnTo>
                  <a:lnTo>
                    <a:pt x="429" y="353"/>
                  </a:lnTo>
                  <a:lnTo>
                    <a:pt x="577" y="587"/>
                  </a:lnTo>
                  <a:lnTo>
                    <a:pt x="684" y="857"/>
                  </a:lnTo>
                  <a:lnTo>
                    <a:pt x="736" y="1134"/>
                  </a:lnTo>
                  <a:lnTo>
                    <a:pt x="744" y="1428"/>
                  </a:lnTo>
                  <a:lnTo>
                    <a:pt x="688" y="1711"/>
                  </a:lnTo>
                  <a:lnTo>
                    <a:pt x="585" y="1981"/>
                  </a:lnTo>
                  <a:lnTo>
                    <a:pt x="577" y="2012"/>
                  </a:lnTo>
                  <a:lnTo>
                    <a:pt x="568" y="2050"/>
                  </a:lnTo>
                  <a:lnTo>
                    <a:pt x="557" y="2081"/>
                  </a:lnTo>
                  <a:lnTo>
                    <a:pt x="553" y="2116"/>
                  </a:lnTo>
                  <a:lnTo>
                    <a:pt x="539" y="2146"/>
                  </a:lnTo>
                  <a:lnTo>
                    <a:pt x="536" y="2185"/>
                  </a:lnTo>
                  <a:lnTo>
                    <a:pt x="525" y="2219"/>
                  </a:lnTo>
                  <a:lnTo>
                    <a:pt x="522" y="2254"/>
                  </a:lnTo>
                  <a:lnTo>
                    <a:pt x="847" y="1797"/>
                  </a:lnTo>
                  <a:lnTo>
                    <a:pt x="1009" y="1358"/>
                  </a:lnTo>
                  <a:lnTo>
                    <a:pt x="1020" y="953"/>
                  </a:lnTo>
                  <a:lnTo>
                    <a:pt x="930" y="605"/>
                  </a:lnTo>
                  <a:lnTo>
                    <a:pt x="750" y="311"/>
                  </a:lnTo>
                  <a:lnTo>
                    <a:pt x="519" y="111"/>
                  </a:lnTo>
                  <a:lnTo>
                    <a:pt x="256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2936160" y="5805000"/>
              <a:ext cx="697320" cy="356760"/>
            </a:xfrm>
            <a:custGeom>
              <a:avLst/>
              <a:gdLst>
                <a:gd name="textAreaLeft" fmla="*/ 0 w 697320"/>
                <a:gd name="textAreaRight" fmla="*/ 697680 w 697320"/>
                <a:gd name="textAreaTop" fmla="*/ 0 h 356760"/>
                <a:gd name="textAreaBottom" fmla="*/ 357120 h 356760"/>
              </a:gdLst>
              <a:ahLst/>
              <a:rect l="textAreaLeft" t="textAreaTop" r="textAreaRight" b="textAreaBottom"/>
              <a:pathLst>
                <a:path w="3229" h="1506">
                  <a:moveTo>
                    <a:pt x="0" y="1506"/>
                  </a:moveTo>
                  <a:lnTo>
                    <a:pt x="211" y="1291"/>
                  </a:lnTo>
                  <a:lnTo>
                    <a:pt x="498" y="1091"/>
                  </a:lnTo>
                  <a:lnTo>
                    <a:pt x="841" y="911"/>
                  </a:lnTo>
                  <a:lnTo>
                    <a:pt x="1227" y="749"/>
                  </a:lnTo>
                  <a:lnTo>
                    <a:pt x="1639" y="604"/>
                  </a:lnTo>
                  <a:lnTo>
                    <a:pt x="2060" y="473"/>
                  </a:lnTo>
                  <a:lnTo>
                    <a:pt x="2478" y="366"/>
                  </a:lnTo>
                  <a:lnTo>
                    <a:pt x="2886" y="279"/>
                  </a:lnTo>
                  <a:lnTo>
                    <a:pt x="2927" y="265"/>
                  </a:lnTo>
                  <a:lnTo>
                    <a:pt x="2973" y="254"/>
                  </a:lnTo>
                  <a:lnTo>
                    <a:pt x="3014" y="248"/>
                  </a:lnTo>
                  <a:lnTo>
                    <a:pt x="3059" y="242"/>
                  </a:lnTo>
                  <a:lnTo>
                    <a:pt x="3097" y="231"/>
                  </a:lnTo>
                  <a:lnTo>
                    <a:pt x="3138" y="220"/>
                  </a:lnTo>
                  <a:lnTo>
                    <a:pt x="3183" y="210"/>
                  </a:lnTo>
                  <a:lnTo>
                    <a:pt x="3229" y="207"/>
                  </a:lnTo>
                  <a:lnTo>
                    <a:pt x="2602" y="17"/>
                  </a:lnTo>
                  <a:lnTo>
                    <a:pt x="1991" y="0"/>
                  </a:lnTo>
                  <a:lnTo>
                    <a:pt x="1417" y="116"/>
                  </a:lnTo>
                  <a:lnTo>
                    <a:pt x="910" y="338"/>
                  </a:lnTo>
                  <a:lnTo>
                    <a:pt x="481" y="611"/>
                  </a:lnTo>
                  <a:lnTo>
                    <a:pt x="176" y="925"/>
                  </a:lnTo>
                  <a:lnTo>
                    <a:pt x="4" y="1233"/>
                  </a:lnTo>
                  <a:lnTo>
                    <a:pt x="0" y="1506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2939760" y="5807880"/>
              <a:ext cx="693360" cy="342360"/>
            </a:xfrm>
            <a:custGeom>
              <a:avLst/>
              <a:gdLst>
                <a:gd name="textAreaLeft" fmla="*/ 0 w 693360"/>
                <a:gd name="textAreaRight" fmla="*/ 693720 w 693360"/>
                <a:gd name="textAreaTop" fmla="*/ 0 h 342360"/>
                <a:gd name="textAreaBottom" fmla="*/ 342720 h 342360"/>
              </a:gdLst>
              <a:ahLst/>
              <a:rect l="textAreaLeft" t="textAreaTop" r="textAreaRight" b="textAreaBottom"/>
              <a:pathLst>
                <a:path w="3208" h="1445">
                  <a:moveTo>
                    <a:pt x="0" y="1445"/>
                  </a:moveTo>
                  <a:lnTo>
                    <a:pt x="215" y="1223"/>
                  </a:lnTo>
                  <a:lnTo>
                    <a:pt x="501" y="1019"/>
                  </a:lnTo>
                  <a:lnTo>
                    <a:pt x="843" y="833"/>
                  </a:lnTo>
                  <a:lnTo>
                    <a:pt x="1230" y="670"/>
                  </a:lnTo>
                  <a:lnTo>
                    <a:pt x="1635" y="526"/>
                  </a:lnTo>
                  <a:lnTo>
                    <a:pt x="2056" y="408"/>
                  </a:lnTo>
                  <a:lnTo>
                    <a:pt x="2468" y="315"/>
                  </a:lnTo>
                  <a:lnTo>
                    <a:pt x="2862" y="256"/>
                  </a:lnTo>
                  <a:lnTo>
                    <a:pt x="2903" y="249"/>
                  </a:lnTo>
                  <a:lnTo>
                    <a:pt x="2941" y="238"/>
                  </a:lnTo>
                  <a:lnTo>
                    <a:pt x="2986" y="229"/>
                  </a:lnTo>
                  <a:lnTo>
                    <a:pt x="3030" y="224"/>
                  </a:lnTo>
                  <a:lnTo>
                    <a:pt x="3073" y="211"/>
                  </a:lnTo>
                  <a:lnTo>
                    <a:pt x="3117" y="207"/>
                  </a:lnTo>
                  <a:lnTo>
                    <a:pt x="3162" y="197"/>
                  </a:lnTo>
                  <a:lnTo>
                    <a:pt x="3208" y="194"/>
                  </a:lnTo>
                  <a:lnTo>
                    <a:pt x="2592" y="14"/>
                  </a:lnTo>
                  <a:lnTo>
                    <a:pt x="1990" y="0"/>
                  </a:lnTo>
                  <a:lnTo>
                    <a:pt x="1417" y="114"/>
                  </a:lnTo>
                  <a:lnTo>
                    <a:pt x="916" y="325"/>
                  </a:lnTo>
                  <a:lnTo>
                    <a:pt x="487" y="591"/>
                  </a:lnTo>
                  <a:lnTo>
                    <a:pt x="180" y="892"/>
                  </a:lnTo>
                  <a:lnTo>
                    <a:pt x="11" y="1182"/>
                  </a:lnTo>
                  <a:lnTo>
                    <a:pt x="0" y="1445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2946240" y="5810760"/>
              <a:ext cx="686880" cy="327960"/>
            </a:xfrm>
            <a:custGeom>
              <a:avLst/>
              <a:gdLst>
                <a:gd name="textAreaLeft" fmla="*/ 0 w 686880"/>
                <a:gd name="textAreaRight" fmla="*/ 687240 w 686880"/>
                <a:gd name="textAreaTop" fmla="*/ 0 h 327960"/>
                <a:gd name="textAreaBottom" fmla="*/ 328320 h 327960"/>
              </a:gdLst>
              <a:ahLst/>
              <a:rect l="textAreaLeft" t="textAreaTop" r="textAreaRight" b="textAreaBottom"/>
              <a:pathLst>
                <a:path w="3180" h="1389">
                  <a:moveTo>
                    <a:pt x="0" y="1389"/>
                  </a:moveTo>
                  <a:lnTo>
                    <a:pt x="217" y="1158"/>
                  </a:lnTo>
                  <a:lnTo>
                    <a:pt x="504" y="948"/>
                  </a:lnTo>
                  <a:lnTo>
                    <a:pt x="847" y="754"/>
                  </a:lnTo>
                  <a:lnTo>
                    <a:pt x="1227" y="588"/>
                  </a:lnTo>
                  <a:lnTo>
                    <a:pt x="1634" y="443"/>
                  </a:lnTo>
                  <a:lnTo>
                    <a:pt x="2045" y="335"/>
                  </a:lnTo>
                  <a:lnTo>
                    <a:pt x="2446" y="263"/>
                  </a:lnTo>
                  <a:lnTo>
                    <a:pt x="2823" y="231"/>
                  </a:lnTo>
                  <a:lnTo>
                    <a:pt x="2864" y="225"/>
                  </a:lnTo>
                  <a:lnTo>
                    <a:pt x="2910" y="219"/>
                  </a:lnTo>
                  <a:lnTo>
                    <a:pt x="2955" y="211"/>
                  </a:lnTo>
                  <a:lnTo>
                    <a:pt x="2999" y="208"/>
                  </a:lnTo>
                  <a:lnTo>
                    <a:pt x="3041" y="197"/>
                  </a:lnTo>
                  <a:lnTo>
                    <a:pt x="3089" y="194"/>
                  </a:lnTo>
                  <a:lnTo>
                    <a:pt x="3131" y="187"/>
                  </a:lnTo>
                  <a:lnTo>
                    <a:pt x="3180" y="184"/>
                  </a:lnTo>
                  <a:lnTo>
                    <a:pt x="2575" y="14"/>
                  </a:lnTo>
                  <a:lnTo>
                    <a:pt x="1980" y="0"/>
                  </a:lnTo>
                  <a:lnTo>
                    <a:pt x="1414" y="107"/>
                  </a:lnTo>
                  <a:lnTo>
                    <a:pt x="908" y="315"/>
                  </a:lnTo>
                  <a:lnTo>
                    <a:pt x="487" y="571"/>
                  </a:lnTo>
                  <a:lnTo>
                    <a:pt x="179" y="858"/>
                  </a:lnTo>
                  <a:lnTo>
                    <a:pt x="10" y="1138"/>
                  </a:lnTo>
                  <a:lnTo>
                    <a:pt x="0" y="1389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2952720" y="5813640"/>
              <a:ext cx="680400" cy="312480"/>
            </a:xfrm>
            <a:custGeom>
              <a:avLst/>
              <a:gdLst>
                <a:gd name="textAreaLeft" fmla="*/ 0 w 680400"/>
                <a:gd name="textAreaRight" fmla="*/ 680760 w 68040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3149" h="1323">
                  <a:moveTo>
                    <a:pt x="0" y="1323"/>
                  </a:moveTo>
                  <a:lnTo>
                    <a:pt x="217" y="1086"/>
                  </a:lnTo>
                  <a:lnTo>
                    <a:pt x="505" y="871"/>
                  </a:lnTo>
                  <a:lnTo>
                    <a:pt x="843" y="674"/>
                  </a:lnTo>
                  <a:lnTo>
                    <a:pt x="1223" y="508"/>
                  </a:lnTo>
                  <a:lnTo>
                    <a:pt x="1625" y="367"/>
                  </a:lnTo>
                  <a:lnTo>
                    <a:pt x="2029" y="269"/>
                  </a:lnTo>
                  <a:lnTo>
                    <a:pt x="2419" y="211"/>
                  </a:lnTo>
                  <a:lnTo>
                    <a:pt x="2789" y="205"/>
                  </a:lnTo>
                  <a:lnTo>
                    <a:pt x="2830" y="197"/>
                  </a:lnTo>
                  <a:lnTo>
                    <a:pt x="2875" y="194"/>
                  </a:lnTo>
                  <a:lnTo>
                    <a:pt x="2920" y="187"/>
                  </a:lnTo>
                  <a:lnTo>
                    <a:pt x="2968" y="187"/>
                  </a:lnTo>
                  <a:lnTo>
                    <a:pt x="3010" y="180"/>
                  </a:lnTo>
                  <a:lnTo>
                    <a:pt x="3055" y="173"/>
                  </a:lnTo>
                  <a:lnTo>
                    <a:pt x="3100" y="170"/>
                  </a:lnTo>
                  <a:lnTo>
                    <a:pt x="3149" y="170"/>
                  </a:lnTo>
                  <a:lnTo>
                    <a:pt x="2553" y="7"/>
                  </a:lnTo>
                  <a:lnTo>
                    <a:pt x="1970" y="0"/>
                  </a:lnTo>
                  <a:lnTo>
                    <a:pt x="1410" y="101"/>
                  </a:lnTo>
                  <a:lnTo>
                    <a:pt x="912" y="301"/>
                  </a:lnTo>
                  <a:lnTo>
                    <a:pt x="491" y="546"/>
                  </a:lnTo>
                  <a:lnTo>
                    <a:pt x="186" y="827"/>
                  </a:lnTo>
                  <a:lnTo>
                    <a:pt x="10" y="1092"/>
                  </a:lnTo>
                  <a:lnTo>
                    <a:pt x="0" y="1323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2958120" y="5816160"/>
              <a:ext cx="675000" cy="298800"/>
            </a:xfrm>
            <a:custGeom>
              <a:avLst/>
              <a:gdLst>
                <a:gd name="textAreaLeft" fmla="*/ 0 w 675000"/>
                <a:gd name="textAreaRight" fmla="*/ 675360 w 675000"/>
                <a:gd name="textAreaTop" fmla="*/ 0 h 298800"/>
                <a:gd name="textAreaBottom" fmla="*/ 298800 h 298800"/>
              </a:gdLst>
              <a:ahLst/>
              <a:rect l="textAreaLeft" t="textAreaTop" r="textAreaRight" b="textAreaBottom"/>
              <a:pathLst>
                <a:path w="3125" h="1266">
                  <a:moveTo>
                    <a:pt x="0" y="1266"/>
                  </a:moveTo>
                  <a:lnTo>
                    <a:pt x="214" y="1020"/>
                  </a:lnTo>
                  <a:lnTo>
                    <a:pt x="508" y="799"/>
                  </a:lnTo>
                  <a:lnTo>
                    <a:pt x="850" y="595"/>
                  </a:lnTo>
                  <a:lnTo>
                    <a:pt x="1230" y="429"/>
                  </a:lnTo>
                  <a:lnTo>
                    <a:pt x="1624" y="294"/>
                  </a:lnTo>
                  <a:lnTo>
                    <a:pt x="2022" y="204"/>
                  </a:lnTo>
                  <a:lnTo>
                    <a:pt x="2405" y="163"/>
                  </a:lnTo>
                  <a:lnTo>
                    <a:pt x="2762" y="184"/>
                  </a:lnTo>
                  <a:lnTo>
                    <a:pt x="2803" y="177"/>
                  </a:lnTo>
                  <a:lnTo>
                    <a:pt x="2851" y="173"/>
                  </a:lnTo>
                  <a:lnTo>
                    <a:pt x="2892" y="170"/>
                  </a:lnTo>
                  <a:lnTo>
                    <a:pt x="2941" y="170"/>
                  </a:lnTo>
                  <a:lnTo>
                    <a:pt x="2986" y="163"/>
                  </a:lnTo>
                  <a:lnTo>
                    <a:pt x="3031" y="160"/>
                  </a:lnTo>
                  <a:lnTo>
                    <a:pt x="3076" y="160"/>
                  </a:lnTo>
                  <a:lnTo>
                    <a:pt x="3125" y="160"/>
                  </a:lnTo>
                  <a:lnTo>
                    <a:pt x="2540" y="8"/>
                  </a:lnTo>
                  <a:lnTo>
                    <a:pt x="1959" y="0"/>
                  </a:lnTo>
                  <a:lnTo>
                    <a:pt x="1406" y="101"/>
                  </a:lnTo>
                  <a:lnTo>
                    <a:pt x="913" y="291"/>
                  </a:lnTo>
                  <a:lnTo>
                    <a:pt x="495" y="523"/>
                  </a:lnTo>
                  <a:lnTo>
                    <a:pt x="184" y="789"/>
                  </a:lnTo>
                  <a:lnTo>
                    <a:pt x="6" y="1041"/>
                  </a:lnTo>
                  <a:lnTo>
                    <a:pt x="0" y="1266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3231720" y="5857560"/>
              <a:ext cx="429120" cy="631080"/>
            </a:xfrm>
            <a:custGeom>
              <a:avLst/>
              <a:gdLst>
                <a:gd name="textAreaLeft" fmla="*/ 0 w 429120"/>
                <a:gd name="textAreaRight" fmla="*/ 429480 w 429120"/>
                <a:gd name="textAreaTop" fmla="*/ 0 h 631080"/>
                <a:gd name="textAreaBottom" fmla="*/ 631080 h 631080"/>
              </a:gdLst>
              <a:ahLst/>
              <a:rect l="textAreaLeft" t="textAreaTop" r="textAreaRight" b="textAreaBottom"/>
              <a:pathLst>
                <a:path w="1984" h="2665">
                  <a:moveTo>
                    <a:pt x="215" y="2665"/>
                  </a:moveTo>
                  <a:lnTo>
                    <a:pt x="253" y="2398"/>
                  </a:lnTo>
                  <a:lnTo>
                    <a:pt x="356" y="2104"/>
                  </a:lnTo>
                  <a:lnTo>
                    <a:pt x="515" y="1790"/>
                  </a:lnTo>
                  <a:lnTo>
                    <a:pt x="730" y="1472"/>
                  </a:lnTo>
                  <a:lnTo>
                    <a:pt x="961" y="1136"/>
                  </a:lnTo>
                  <a:lnTo>
                    <a:pt x="1224" y="822"/>
                  </a:lnTo>
                  <a:lnTo>
                    <a:pt x="1489" y="519"/>
                  </a:lnTo>
                  <a:lnTo>
                    <a:pt x="1759" y="242"/>
                  </a:lnTo>
                  <a:lnTo>
                    <a:pt x="1783" y="211"/>
                  </a:lnTo>
                  <a:lnTo>
                    <a:pt x="1811" y="180"/>
                  </a:lnTo>
                  <a:lnTo>
                    <a:pt x="1839" y="148"/>
                  </a:lnTo>
                  <a:lnTo>
                    <a:pt x="1869" y="121"/>
                  </a:lnTo>
                  <a:lnTo>
                    <a:pt x="1898" y="90"/>
                  </a:lnTo>
                  <a:lnTo>
                    <a:pt x="1926" y="59"/>
                  </a:lnTo>
                  <a:lnTo>
                    <a:pt x="1953" y="27"/>
                  </a:lnTo>
                  <a:lnTo>
                    <a:pt x="1984" y="0"/>
                  </a:lnTo>
                  <a:lnTo>
                    <a:pt x="1373" y="208"/>
                  </a:lnTo>
                  <a:lnTo>
                    <a:pt x="872" y="525"/>
                  </a:lnTo>
                  <a:lnTo>
                    <a:pt x="484" y="919"/>
                  </a:lnTo>
                  <a:lnTo>
                    <a:pt x="215" y="1351"/>
                  </a:lnTo>
                  <a:lnTo>
                    <a:pt x="52" y="1773"/>
                  </a:lnTo>
                  <a:lnTo>
                    <a:pt x="0" y="2160"/>
                  </a:lnTo>
                  <a:lnTo>
                    <a:pt x="52" y="2471"/>
                  </a:lnTo>
                  <a:lnTo>
                    <a:pt x="215" y="2665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3234240" y="5857560"/>
              <a:ext cx="426240" cy="618480"/>
            </a:xfrm>
            <a:custGeom>
              <a:avLst/>
              <a:gdLst>
                <a:gd name="textAreaLeft" fmla="*/ 0 w 426240"/>
                <a:gd name="textAreaRight" fmla="*/ 426600 w 426240"/>
                <a:gd name="textAreaTop" fmla="*/ 0 h 618480"/>
                <a:gd name="textAreaBottom" fmla="*/ 618840 h 618480"/>
              </a:gdLst>
              <a:ahLst/>
              <a:rect l="textAreaLeft" t="textAreaTop" r="textAreaRight" b="textAreaBottom"/>
              <a:pathLst>
                <a:path w="1976" h="2613">
                  <a:moveTo>
                    <a:pt x="199" y="2613"/>
                  </a:moveTo>
                  <a:lnTo>
                    <a:pt x="231" y="2340"/>
                  </a:lnTo>
                  <a:lnTo>
                    <a:pt x="334" y="2043"/>
                  </a:lnTo>
                  <a:lnTo>
                    <a:pt x="490" y="1724"/>
                  </a:lnTo>
                  <a:lnTo>
                    <a:pt x="697" y="1403"/>
                  </a:lnTo>
                  <a:lnTo>
                    <a:pt x="925" y="1081"/>
                  </a:lnTo>
                  <a:lnTo>
                    <a:pt x="1189" y="774"/>
                  </a:lnTo>
                  <a:lnTo>
                    <a:pt x="1461" y="487"/>
                  </a:lnTo>
                  <a:lnTo>
                    <a:pt x="1737" y="238"/>
                  </a:lnTo>
                  <a:lnTo>
                    <a:pt x="1765" y="208"/>
                  </a:lnTo>
                  <a:lnTo>
                    <a:pt x="1797" y="176"/>
                  </a:lnTo>
                  <a:lnTo>
                    <a:pt x="1820" y="145"/>
                  </a:lnTo>
                  <a:lnTo>
                    <a:pt x="1855" y="117"/>
                  </a:lnTo>
                  <a:lnTo>
                    <a:pt x="1879" y="87"/>
                  </a:lnTo>
                  <a:lnTo>
                    <a:pt x="1910" y="59"/>
                  </a:lnTo>
                  <a:lnTo>
                    <a:pt x="1945" y="27"/>
                  </a:lnTo>
                  <a:lnTo>
                    <a:pt x="1976" y="0"/>
                  </a:lnTo>
                  <a:lnTo>
                    <a:pt x="1378" y="208"/>
                  </a:lnTo>
                  <a:lnTo>
                    <a:pt x="891" y="525"/>
                  </a:lnTo>
                  <a:lnTo>
                    <a:pt x="507" y="912"/>
                  </a:lnTo>
                  <a:lnTo>
                    <a:pt x="234" y="1337"/>
                  </a:lnTo>
                  <a:lnTo>
                    <a:pt x="65" y="1749"/>
                  </a:lnTo>
                  <a:lnTo>
                    <a:pt x="0" y="2129"/>
                  </a:lnTo>
                  <a:lnTo>
                    <a:pt x="44" y="2426"/>
                  </a:lnTo>
                  <a:lnTo>
                    <a:pt x="199" y="2613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3235680" y="5857560"/>
              <a:ext cx="424800" cy="606960"/>
            </a:xfrm>
            <a:custGeom>
              <a:avLst/>
              <a:gdLst>
                <a:gd name="textAreaLeft" fmla="*/ 0 w 424800"/>
                <a:gd name="textAreaRight" fmla="*/ 425160 w 424800"/>
                <a:gd name="textAreaTop" fmla="*/ 0 h 606960"/>
                <a:gd name="textAreaBottom" fmla="*/ 607320 h 606960"/>
              </a:gdLst>
              <a:ahLst/>
              <a:rect l="textAreaLeft" t="textAreaTop" r="textAreaRight" b="textAreaBottom"/>
              <a:pathLst>
                <a:path w="1967" h="2564">
                  <a:moveTo>
                    <a:pt x="184" y="2564"/>
                  </a:moveTo>
                  <a:lnTo>
                    <a:pt x="212" y="2284"/>
                  </a:lnTo>
                  <a:lnTo>
                    <a:pt x="311" y="1983"/>
                  </a:lnTo>
                  <a:lnTo>
                    <a:pt x="464" y="1666"/>
                  </a:lnTo>
                  <a:lnTo>
                    <a:pt x="668" y="1344"/>
                  </a:lnTo>
                  <a:lnTo>
                    <a:pt x="899" y="1026"/>
                  </a:lnTo>
                  <a:lnTo>
                    <a:pt x="1166" y="726"/>
                  </a:lnTo>
                  <a:lnTo>
                    <a:pt x="1438" y="456"/>
                  </a:lnTo>
                  <a:lnTo>
                    <a:pt x="1719" y="231"/>
                  </a:lnTo>
                  <a:lnTo>
                    <a:pt x="1746" y="197"/>
                  </a:lnTo>
                  <a:lnTo>
                    <a:pt x="1777" y="173"/>
                  </a:lnTo>
                  <a:lnTo>
                    <a:pt x="1808" y="142"/>
                  </a:lnTo>
                  <a:lnTo>
                    <a:pt x="1840" y="114"/>
                  </a:lnTo>
                  <a:lnTo>
                    <a:pt x="1867" y="82"/>
                  </a:lnTo>
                  <a:lnTo>
                    <a:pt x="1898" y="55"/>
                  </a:lnTo>
                  <a:lnTo>
                    <a:pt x="1929" y="27"/>
                  </a:lnTo>
                  <a:lnTo>
                    <a:pt x="1967" y="0"/>
                  </a:lnTo>
                  <a:lnTo>
                    <a:pt x="1383" y="208"/>
                  </a:lnTo>
                  <a:lnTo>
                    <a:pt x="899" y="522"/>
                  </a:lnTo>
                  <a:lnTo>
                    <a:pt x="523" y="905"/>
                  </a:lnTo>
                  <a:lnTo>
                    <a:pt x="242" y="1323"/>
                  </a:lnTo>
                  <a:lnTo>
                    <a:pt x="69" y="1728"/>
                  </a:lnTo>
                  <a:lnTo>
                    <a:pt x="0" y="2098"/>
                  </a:lnTo>
                  <a:lnTo>
                    <a:pt x="35" y="2385"/>
                  </a:lnTo>
                  <a:lnTo>
                    <a:pt x="184" y="2564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5"/>
            <p:cNvSpPr/>
            <p:nvPr/>
          </p:nvSpPr>
          <p:spPr>
            <a:xfrm>
              <a:off x="3238200" y="5857560"/>
              <a:ext cx="422640" cy="596880"/>
            </a:xfrm>
            <a:custGeom>
              <a:avLst/>
              <a:gdLst>
                <a:gd name="textAreaLeft" fmla="*/ 0 w 422640"/>
                <a:gd name="textAreaRight" fmla="*/ 423000 w 422640"/>
                <a:gd name="textAreaTop" fmla="*/ 0 h 596880"/>
                <a:gd name="textAreaBottom" fmla="*/ 597240 h 596880"/>
              </a:gdLst>
              <a:ahLst/>
              <a:rect l="textAreaLeft" t="textAreaTop" r="textAreaRight" b="textAreaBottom"/>
              <a:pathLst>
                <a:path w="1956" h="2519">
                  <a:moveTo>
                    <a:pt x="159" y="2519"/>
                  </a:moveTo>
                  <a:lnTo>
                    <a:pt x="187" y="2233"/>
                  </a:lnTo>
                  <a:lnTo>
                    <a:pt x="283" y="1925"/>
                  </a:lnTo>
                  <a:lnTo>
                    <a:pt x="435" y="1603"/>
                  </a:lnTo>
                  <a:lnTo>
                    <a:pt x="636" y="1282"/>
                  </a:lnTo>
                  <a:lnTo>
                    <a:pt x="867" y="968"/>
                  </a:lnTo>
                  <a:lnTo>
                    <a:pt x="1134" y="681"/>
                  </a:lnTo>
                  <a:lnTo>
                    <a:pt x="1406" y="428"/>
                  </a:lnTo>
                  <a:lnTo>
                    <a:pt x="1694" y="225"/>
                  </a:lnTo>
                  <a:lnTo>
                    <a:pt x="1725" y="194"/>
                  </a:lnTo>
                  <a:lnTo>
                    <a:pt x="1755" y="165"/>
                  </a:lnTo>
                  <a:lnTo>
                    <a:pt x="1790" y="142"/>
                  </a:lnTo>
                  <a:lnTo>
                    <a:pt x="1824" y="114"/>
                  </a:lnTo>
                  <a:lnTo>
                    <a:pt x="1856" y="82"/>
                  </a:lnTo>
                  <a:lnTo>
                    <a:pt x="1887" y="55"/>
                  </a:lnTo>
                  <a:lnTo>
                    <a:pt x="1918" y="27"/>
                  </a:lnTo>
                  <a:lnTo>
                    <a:pt x="1956" y="0"/>
                  </a:lnTo>
                  <a:lnTo>
                    <a:pt x="1382" y="208"/>
                  </a:lnTo>
                  <a:lnTo>
                    <a:pt x="913" y="522"/>
                  </a:lnTo>
                  <a:lnTo>
                    <a:pt x="532" y="894"/>
                  </a:lnTo>
                  <a:lnTo>
                    <a:pt x="256" y="1306"/>
                  </a:lnTo>
                  <a:lnTo>
                    <a:pt x="69" y="1703"/>
                  </a:lnTo>
                  <a:lnTo>
                    <a:pt x="0" y="2066"/>
                  </a:lnTo>
                  <a:lnTo>
                    <a:pt x="24" y="2350"/>
                  </a:lnTo>
                  <a:lnTo>
                    <a:pt x="159" y="2519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6"/>
            <p:cNvSpPr/>
            <p:nvPr/>
          </p:nvSpPr>
          <p:spPr>
            <a:xfrm>
              <a:off x="3239640" y="5857560"/>
              <a:ext cx="421200" cy="585720"/>
            </a:xfrm>
            <a:custGeom>
              <a:avLst/>
              <a:gdLst>
                <a:gd name="textAreaLeft" fmla="*/ 0 w 421200"/>
                <a:gd name="textAreaRight" fmla="*/ 421560 w 421200"/>
                <a:gd name="textAreaTop" fmla="*/ 0 h 585720"/>
                <a:gd name="textAreaBottom" fmla="*/ 586080 h 585720"/>
              </a:gdLst>
              <a:ahLst/>
              <a:rect l="textAreaLeft" t="textAreaTop" r="textAreaRight" b="textAreaBottom"/>
              <a:pathLst>
                <a:path w="1949" h="2471">
                  <a:moveTo>
                    <a:pt x="145" y="2471"/>
                  </a:moveTo>
                  <a:lnTo>
                    <a:pt x="166" y="2181"/>
                  </a:lnTo>
                  <a:lnTo>
                    <a:pt x="255" y="1866"/>
                  </a:lnTo>
                  <a:lnTo>
                    <a:pt x="405" y="1538"/>
                  </a:lnTo>
                  <a:lnTo>
                    <a:pt x="609" y="1220"/>
                  </a:lnTo>
                  <a:lnTo>
                    <a:pt x="837" y="909"/>
                  </a:lnTo>
                  <a:lnTo>
                    <a:pt x="1102" y="629"/>
                  </a:lnTo>
                  <a:lnTo>
                    <a:pt x="1382" y="398"/>
                  </a:lnTo>
                  <a:lnTo>
                    <a:pt x="1672" y="221"/>
                  </a:lnTo>
                  <a:lnTo>
                    <a:pt x="1704" y="190"/>
                  </a:lnTo>
                  <a:lnTo>
                    <a:pt x="1742" y="162"/>
                  </a:lnTo>
                  <a:lnTo>
                    <a:pt x="1773" y="134"/>
                  </a:lnTo>
                  <a:lnTo>
                    <a:pt x="1807" y="107"/>
                  </a:lnTo>
                  <a:lnTo>
                    <a:pt x="1839" y="82"/>
                  </a:lnTo>
                  <a:lnTo>
                    <a:pt x="1877" y="55"/>
                  </a:lnTo>
                  <a:lnTo>
                    <a:pt x="1911" y="27"/>
                  </a:lnTo>
                  <a:lnTo>
                    <a:pt x="1949" y="0"/>
                  </a:lnTo>
                  <a:lnTo>
                    <a:pt x="1390" y="208"/>
                  </a:lnTo>
                  <a:lnTo>
                    <a:pt x="926" y="514"/>
                  </a:lnTo>
                  <a:lnTo>
                    <a:pt x="549" y="888"/>
                  </a:lnTo>
                  <a:lnTo>
                    <a:pt x="270" y="1285"/>
                  </a:lnTo>
                  <a:lnTo>
                    <a:pt x="83" y="1680"/>
                  </a:lnTo>
                  <a:lnTo>
                    <a:pt x="0" y="2032"/>
                  </a:lnTo>
                  <a:lnTo>
                    <a:pt x="17" y="2305"/>
                  </a:lnTo>
                  <a:lnTo>
                    <a:pt x="145" y="2471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7"/>
            <p:cNvSpPr/>
            <p:nvPr/>
          </p:nvSpPr>
          <p:spPr>
            <a:xfrm>
              <a:off x="3138480" y="5846040"/>
              <a:ext cx="449640" cy="67536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675360"/>
                <a:gd name="textAreaBottom" fmla="*/ 675720 h 675360"/>
              </a:gdLst>
              <a:ahLst/>
              <a:rect l="textAreaLeft" t="textAreaTop" r="textAreaRight" b="textAreaBottom"/>
              <a:pathLst>
                <a:path w="2081" h="2845">
                  <a:moveTo>
                    <a:pt x="2081" y="58"/>
                  </a:moveTo>
                  <a:lnTo>
                    <a:pt x="1818" y="210"/>
                  </a:lnTo>
                  <a:lnTo>
                    <a:pt x="1555" y="443"/>
                  </a:lnTo>
                  <a:lnTo>
                    <a:pt x="1296" y="729"/>
                  </a:lnTo>
                  <a:lnTo>
                    <a:pt x="1044" y="1060"/>
                  </a:lnTo>
                  <a:lnTo>
                    <a:pt x="802" y="1417"/>
                  </a:lnTo>
                  <a:lnTo>
                    <a:pt x="581" y="1794"/>
                  </a:lnTo>
                  <a:lnTo>
                    <a:pt x="374" y="2166"/>
                  </a:lnTo>
                  <a:lnTo>
                    <a:pt x="198" y="2537"/>
                  </a:lnTo>
                  <a:lnTo>
                    <a:pt x="177" y="2575"/>
                  </a:lnTo>
                  <a:lnTo>
                    <a:pt x="155" y="2609"/>
                  </a:lnTo>
                  <a:lnTo>
                    <a:pt x="135" y="2644"/>
                  </a:lnTo>
                  <a:lnTo>
                    <a:pt x="118" y="2685"/>
                  </a:lnTo>
                  <a:lnTo>
                    <a:pt x="94" y="2724"/>
                  </a:lnTo>
                  <a:lnTo>
                    <a:pt x="77" y="2761"/>
                  </a:lnTo>
                  <a:lnTo>
                    <a:pt x="59" y="2802"/>
                  </a:lnTo>
                  <a:lnTo>
                    <a:pt x="42" y="2845"/>
                  </a:lnTo>
                  <a:lnTo>
                    <a:pt x="0" y="2201"/>
                  </a:lnTo>
                  <a:lnTo>
                    <a:pt x="121" y="1613"/>
                  </a:lnTo>
                  <a:lnTo>
                    <a:pt x="370" y="1092"/>
                  </a:lnTo>
                  <a:lnTo>
                    <a:pt x="705" y="657"/>
                  </a:lnTo>
                  <a:lnTo>
                    <a:pt x="1079" y="314"/>
                  </a:lnTo>
                  <a:lnTo>
                    <a:pt x="1462" y="97"/>
                  </a:lnTo>
                  <a:lnTo>
                    <a:pt x="1808" y="0"/>
                  </a:lnTo>
                  <a:lnTo>
                    <a:pt x="2081" y="58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8"/>
            <p:cNvSpPr/>
            <p:nvPr/>
          </p:nvSpPr>
          <p:spPr>
            <a:xfrm>
              <a:off x="3139560" y="5850360"/>
              <a:ext cx="438120" cy="67104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671040"/>
                <a:gd name="textAreaBottom" fmla="*/ 671400 h 671040"/>
              </a:gdLst>
              <a:ahLst/>
              <a:rect l="textAreaLeft" t="textAreaTop" r="textAreaRight" b="textAreaBottom"/>
              <a:pathLst>
                <a:path w="2025" h="2828">
                  <a:moveTo>
                    <a:pt x="2025" y="55"/>
                  </a:moveTo>
                  <a:lnTo>
                    <a:pt x="1749" y="208"/>
                  </a:lnTo>
                  <a:lnTo>
                    <a:pt x="1479" y="439"/>
                  </a:lnTo>
                  <a:lnTo>
                    <a:pt x="1216" y="723"/>
                  </a:lnTo>
                  <a:lnTo>
                    <a:pt x="964" y="1051"/>
                  </a:lnTo>
                  <a:lnTo>
                    <a:pt x="726" y="1403"/>
                  </a:lnTo>
                  <a:lnTo>
                    <a:pt x="514" y="1777"/>
                  </a:lnTo>
                  <a:lnTo>
                    <a:pt x="324" y="2146"/>
                  </a:lnTo>
                  <a:lnTo>
                    <a:pt x="180" y="2512"/>
                  </a:lnTo>
                  <a:lnTo>
                    <a:pt x="159" y="2547"/>
                  </a:lnTo>
                  <a:lnTo>
                    <a:pt x="142" y="2589"/>
                  </a:lnTo>
                  <a:lnTo>
                    <a:pt x="121" y="2627"/>
                  </a:lnTo>
                  <a:lnTo>
                    <a:pt x="104" y="2668"/>
                  </a:lnTo>
                  <a:lnTo>
                    <a:pt x="87" y="2707"/>
                  </a:lnTo>
                  <a:lnTo>
                    <a:pt x="69" y="2744"/>
                  </a:lnTo>
                  <a:lnTo>
                    <a:pt x="48" y="2785"/>
                  </a:lnTo>
                  <a:lnTo>
                    <a:pt x="38" y="2828"/>
                  </a:lnTo>
                  <a:lnTo>
                    <a:pt x="0" y="2195"/>
                  </a:lnTo>
                  <a:lnTo>
                    <a:pt x="128" y="1618"/>
                  </a:lnTo>
                  <a:lnTo>
                    <a:pt x="370" y="1100"/>
                  </a:lnTo>
                  <a:lnTo>
                    <a:pt x="698" y="663"/>
                  </a:lnTo>
                  <a:lnTo>
                    <a:pt x="1061" y="322"/>
                  </a:lnTo>
                  <a:lnTo>
                    <a:pt x="1430" y="97"/>
                  </a:lnTo>
                  <a:lnTo>
                    <a:pt x="1762" y="0"/>
                  </a:lnTo>
                  <a:lnTo>
                    <a:pt x="2025" y="55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9"/>
            <p:cNvSpPr/>
            <p:nvPr/>
          </p:nvSpPr>
          <p:spPr>
            <a:xfrm>
              <a:off x="3142080" y="5856120"/>
              <a:ext cx="422640" cy="665280"/>
            </a:xfrm>
            <a:custGeom>
              <a:avLst/>
              <a:gdLst>
                <a:gd name="textAreaLeft" fmla="*/ 0 w 422640"/>
                <a:gd name="textAreaRight" fmla="*/ 423000 w 422640"/>
                <a:gd name="textAreaTop" fmla="*/ 0 h 665280"/>
                <a:gd name="textAreaBottom" fmla="*/ 665640 h 665280"/>
              </a:gdLst>
              <a:ahLst/>
              <a:rect l="textAreaLeft" t="textAreaTop" r="textAreaRight" b="textAreaBottom"/>
              <a:pathLst>
                <a:path w="1956" h="2804">
                  <a:moveTo>
                    <a:pt x="1956" y="49"/>
                  </a:moveTo>
                  <a:lnTo>
                    <a:pt x="1676" y="198"/>
                  </a:lnTo>
                  <a:lnTo>
                    <a:pt x="1403" y="429"/>
                  </a:lnTo>
                  <a:lnTo>
                    <a:pt x="1134" y="705"/>
                  </a:lnTo>
                  <a:lnTo>
                    <a:pt x="881" y="1033"/>
                  </a:lnTo>
                  <a:lnTo>
                    <a:pt x="643" y="1387"/>
                  </a:lnTo>
                  <a:lnTo>
                    <a:pt x="446" y="1753"/>
                  </a:lnTo>
                  <a:lnTo>
                    <a:pt x="273" y="2122"/>
                  </a:lnTo>
                  <a:lnTo>
                    <a:pt x="156" y="2479"/>
                  </a:lnTo>
                  <a:lnTo>
                    <a:pt x="138" y="2520"/>
                  </a:lnTo>
                  <a:lnTo>
                    <a:pt x="121" y="2557"/>
                  </a:lnTo>
                  <a:lnTo>
                    <a:pt x="104" y="2599"/>
                  </a:lnTo>
                  <a:lnTo>
                    <a:pt x="90" y="2641"/>
                  </a:lnTo>
                  <a:lnTo>
                    <a:pt x="72" y="2683"/>
                  </a:lnTo>
                  <a:lnTo>
                    <a:pt x="52" y="2720"/>
                  </a:lnTo>
                  <a:lnTo>
                    <a:pt x="38" y="2761"/>
                  </a:lnTo>
                  <a:lnTo>
                    <a:pt x="28" y="2804"/>
                  </a:lnTo>
                  <a:lnTo>
                    <a:pt x="0" y="2185"/>
                  </a:lnTo>
                  <a:lnTo>
                    <a:pt x="121" y="1615"/>
                  </a:lnTo>
                  <a:lnTo>
                    <a:pt x="360" y="1103"/>
                  </a:lnTo>
                  <a:lnTo>
                    <a:pt x="677" y="671"/>
                  </a:lnTo>
                  <a:lnTo>
                    <a:pt x="1030" y="328"/>
                  </a:lnTo>
                  <a:lnTo>
                    <a:pt x="1390" y="100"/>
                  </a:lnTo>
                  <a:lnTo>
                    <a:pt x="1708" y="0"/>
                  </a:lnTo>
                  <a:lnTo>
                    <a:pt x="1956" y="49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0"/>
            <p:cNvSpPr/>
            <p:nvPr/>
          </p:nvSpPr>
          <p:spPr>
            <a:xfrm>
              <a:off x="3142080" y="5860440"/>
              <a:ext cx="409680" cy="660960"/>
            </a:xfrm>
            <a:custGeom>
              <a:avLst/>
              <a:gdLst>
                <a:gd name="textAreaLeft" fmla="*/ 0 w 409680"/>
                <a:gd name="textAreaRight" fmla="*/ 410040 w 409680"/>
                <a:gd name="textAreaTop" fmla="*/ 0 h 660960"/>
                <a:gd name="textAreaBottom" fmla="*/ 661320 h 660960"/>
              </a:gdLst>
              <a:ahLst/>
              <a:rect l="textAreaLeft" t="textAreaTop" r="textAreaRight" b="textAreaBottom"/>
              <a:pathLst>
                <a:path w="1898" h="2790">
                  <a:moveTo>
                    <a:pt x="1898" y="45"/>
                  </a:moveTo>
                  <a:lnTo>
                    <a:pt x="1612" y="198"/>
                  </a:lnTo>
                  <a:lnTo>
                    <a:pt x="1331" y="422"/>
                  </a:lnTo>
                  <a:lnTo>
                    <a:pt x="1059" y="705"/>
                  </a:lnTo>
                  <a:lnTo>
                    <a:pt x="806" y="1034"/>
                  </a:lnTo>
                  <a:lnTo>
                    <a:pt x="578" y="1386"/>
                  </a:lnTo>
                  <a:lnTo>
                    <a:pt x="385" y="1748"/>
                  </a:lnTo>
                  <a:lnTo>
                    <a:pt x="236" y="2108"/>
                  </a:lnTo>
                  <a:lnTo>
                    <a:pt x="146" y="2461"/>
                  </a:lnTo>
                  <a:lnTo>
                    <a:pt x="129" y="2499"/>
                  </a:lnTo>
                  <a:lnTo>
                    <a:pt x="108" y="2540"/>
                  </a:lnTo>
                  <a:lnTo>
                    <a:pt x="94" y="2582"/>
                  </a:lnTo>
                  <a:lnTo>
                    <a:pt x="83" y="2623"/>
                  </a:lnTo>
                  <a:lnTo>
                    <a:pt x="63" y="2661"/>
                  </a:lnTo>
                  <a:lnTo>
                    <a:pt x="49" y="2703"/>
                  </a:lnTo>
                  <a:lnTo>
                    <a:pt x="35" y="2744"/>
                  </a:lnTo>
                  <a:lnTo>
                    <a:pt x="25" y="2790"/>
                  </a:lnTo>
                  <a:lnTo>
                    <a:pt x="0" y="2180"/>
                  </a:lnTo>
                  <a:lnTo>
                    <a:pt x="129" y="1618"/>
                  </a:lnTo>
                  <a:lnTo>
                    <a:pt x="360" y="1109"/>
                  </a:lnTo>
                  <a:lnTo>
                    <a:pt x="671" y="677"/>
                  </a:lnTo>
                  <a:lnTo>
                    <a:pt x="1013" y="336"/>
                  </a:lnTo>
                  <a:lnTo>
                    <a:pt x="1359" y="104"/>
                  </a:lnTo>
                  <a:lnTo>
                    <a:pt x="1659" y="0"/>
                  </a:lnTo>
                  <a:lnTo>
                    <a:pt x="1898" y="45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31"/>
            <p:cNvSpPr/>
            <p:nvPr/>
          </p:nvSpPr>
          <p:spPr>
            <a:xfrm>
              <a:off x="3143520" y="5864760"/>
              <a:ext cx="397440" cy="657000"/>
            </a:xfrm>
            <a:custGeom>
              <a:avLst/>
              <a:gdLst>
                <a:gd name="textAreaLeft" fmla="*/ 0 w 397440"/>
                <a:gd name="textAreaRight" fmla="*/ 397800 w 39744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1841" h="2773">
                  <a:moveTo>
                    <a:pt x="1841" y="42"/>
                  </a:moveTo>
                  <a:lnTo>
                    <a:pt x="1547" y="194"/>
                  </a:lnTo>
                  <a:lnTo>
                    <a:pt x="1261" y="418"/>
                  </a:lnTo>
                  <a:lnTo>
                    <a:pt x="977" y="699"/>
                  </a:lnTo>
                  <a:lnTo>
                    <a:pt x="725" y="1020"/>
                  </a:lnTo>
                  <a:lnTo>
                    <a:pt x="501" y="1369"/>
                  </a:lnTo>
                  <a:lnTo>
                    <a:pt x="320" y="1728"/>
                  </a:lnTo>
                  <a:lnTo>
                    <a:pt x="190" y="2085"/>
                  </a:lnTo>
                  <a:lnTo>
                    <a:pt x="127" y="2430"/>
                  </a:lnTo>
                  <a:lnTo>
                    <a:pt x="113" y="2468"/>
                  </a:lnTo>
                  <a:lnTo>
                    <a:pt x="99" y="2517"/>
                  </a:lnTo>
                  <a:lnTo>
                    <a:pt x="86" y="2554"/>
                  </a:lnTo>
                  <a:lnTo>
                    <a:pt x="72" y="2600"/>
                  </a:lnTo>
                  <a:lnTo>
                    <a:pt x="58" y="2641"/>
                  </a:lnTo>
                  <a:lnTo>
                    <a:pt x="44" y="2686"/>
                  </a:lnTo>
                  <a:lnTo>
                    <a:pt x="30" y="2727"/>
                  </a:lnTo>
                  <a:lnTo>
                    <a:pt x="20" y="2773"/>
                  </a:lnTo>
                  <a:lnTo>
                    <a:pt x="0" y="2178"/>
                  </a:lnTo>
                  <a:lnTo>
                    <a:pt x="127" y="1625"/>
                  </a:lnTo>
                  <a:lnTo>
                    <a:pt x="355" y="1120"/>
                  </a:lnTo>
                  <a:lnTo>
                    <a:pt x="656" y="688"/>
                  </a:lnTo>
                  <a:lnTo>
                    <a:pt x="991" y="343"/>
                  </a:lnTo>
                  <a:lnTo>
                    <a:pt x="1323" y="107"/>
                  </a:lnTo>
                  <a:lnTo>
                    <a:pt x="1616" y="0"/>
                  </a:lnTo>
                  <a:lnTo>
                    <a:pt x="1841" y="42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>
              <a:off x="3313440" y="5135400"/>
              <a:ext cx="413640" cy="545760"/>
            </a:xfrm>
            <a:custGeom>
              <a:avLst/>
              <a:gdLst>
                <a:gd name="textAreaLeft" fmla="*/ 0 w 413640"/>
                <a:gd name="textAreaRight" fmla="*/ 414000 w 413640"/>
                <a:gd name="textAreaTop" fmla="*/ 0 h 545760"/>
                <a:gd name="textAreaBottom" fmla="*/ 546120 h 545760"/>
              </a:gdLst>
              <a:ahLst/>
              <a:rect l="textAreaLeft" t="textAreaTop" r="textAreaRight" b="textAreaBottom"/>
              <a:pathLst>
                <a:path w="1915" h="2302">
                  <a:moveTo>
                    <a:pt x="1776" y="2302"/>
                  </a:moveTo>
                  <a:lnTo>
                    <a:pt x="1714" y="2053"/>
                  </a:lnTo>
                  <a:lnTo>
                    <a:pt x="1596" y="1787"/>
                  </a:lnTo>
                  <a:lnTo>
                    <a:pt x="1423" y="1507"/>
                  </a:lnTo>
                  <a:lnTo>
                    <a:pt x="1216" y="1234"/>
                  </a:lnTo>
                  <a:lnTo>
                    <a:pt x="977" y="950"/>
                  </a:lnTo>
                  <a:lnTo>
                    <a:pt x="732" y="684"/>
                  </a:lnTo>
                  <a:lnTo>
                    <a:pt x="469" y="428"/>
                  </a:lnTo>
                  <a:lnTo>
                    <a:pt x="221" y="204"/>
                  </a:lnTo>
                  <a:lnTo>
                    <a:pt x="186" y="177"/>
                  </a:lnTo>
                  <a:lnTo>
                    <a:pt x="162" y="149"/>
                  </a:lnTo>
                  <a:lnTo>
                    <a:pt x="135" y="121"/>
                  </a:lnTo>
                  <a:lnTo>
                    <a:pt x="107" y="100"/>
                  </a:lnTo>
                  <a:lnTo>
                    <a:pt x="80" y="73"/>
                  </a:lnTo>
                  <a:lnTo>
                    <a:pt x="51" y="48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539" y="114"/>
                  </a:lnTo>
                  <a:lnTo>
                    <a:pt x="1002" y="356"/>
                  </a:lnTo>
                  <a:lnTo>
                    <a:pt x="1371" y="674"/>
                  </a:lnTo>
                  <a:lnTo>
                    <a:pt x="1648" y="1047"/>
                  </a:lnTo>
                  <a:lnTo>
                    <a:pt x="1828" y="1431"/>
                  </a:lnTo>
                  <a:lnTo>
                    <a:pt x="1915" y="1794"/>
                  </a:lnTo>
                  <a:lnTo>
                    <a:pt x="1897" y="2098"/>
                  </a:lnTo>
                  <a:lnTo>
                    <a:pt x="1776" y="2302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3"/>
            <p:cNvSpPr/>
            <p:nvPr/>
          </p:nvSpPr>
          <p:spPr>
            <a:xfrm>
              <a:off x="3313440" y="5135400"/>
              <a:ext cx="409680" cy="534240"/>
            </a:xfrm>
            <a:custGeom>
              <a:avLst/>
              <a:gdLst>
                <a:gd name="textAreaLeft" fmla="*/ 0 w 409680"/>
                <a:gd name="textAreaRight" fmla="*/ 410040 w 409680"/>
                <a:gd name="textAreaTop" fmla="*/ 0 h 534240"/>
                <a:gd name="textAreaBottom" fmla="*/ 534600 h 534240"/>
              </a:gdLst>
              <a:ahLst/>
              <a:rect l="textAreaLeft" t="textAreaTop" r="textAreaRight" b="textAreaBottom"/>
              <a:pathLst>
                <a:path w="1900" h="2254">
                  <a:moveTo>
                    <a:pt x="1780" y="2254"/>
                  </a:moveTo>
                  <a:lnTo>
                    <a:pt x="1717" y="1998"/>
                  </a:lnTo>
                  <a:lnTo>
                    <a:pt x="1603" y="1728"/>
                  </a:lnTo>
                  <a:lnTo>
                    <a:pt x="1434" y="1445"/>
                  </a:lnTo>
                  <a:lnTo>
                    <a:pt x="1230" y="1165"/>
                  </a:lnTo>
                  <a:lnTo>
                    <a:pt x="991" y="892"/>
                  </a:lnTo>
                  <a:lnTo>
                    <a:pt x="743" y="629"/>
                  </a:lnTo>
                  <a:lnTo>
                    <a:pt x="480" y="391"/>
                  </a:lnTo>
                  <a:lnTo>
                    <a:pt x="228" y="190"/>
                  </a:lnTo>
                  <a:lnTo>
                    <a:pt x="196" y="163"/>
                  </a:lnTo>
                  <a:lnTo>
                    <a:pt x="169" y="138"/>
                  </a:lnTo>
                  <a:lnTo>
                    <a:pt x="138" y="114"/>
                  </a:lnTo>
                  <a:lnTo>
                    <a:pt x="110" y="90"/>
                  </a:lnTo>
                  <a:lnTo>
                    <a:pt x="80" y="62"/>
                  </a:lnTo>
                  <a:lnTo>
                    <a:pt x="51" y="42"/>
                  </a:lnTo>
                  <a:lnTo>
                    <a:pt x="28" y="17"/>
                  </a:lnTo>
                  <a:lnTo>
                    <a:pt x="0" y="0"/>
                  </a:lnTo>
                  <a:lnTo>
                    <a:pt x="529" y="117"/>
                  </a:lnTo>
                  <a:lnTo>
                    <a:pt x="977" y="356"/>
                  </a:lnTo>
                  <a:lnTo>
                    <a:pt x="1344" y="670"/>
                  </a:lnTo>
                  <a:lnTo>
                    <a:pt x="1627" y="1041"/>
                  </a:lnTo>
                  <a:lnTo>
                    <a:pt x="1811" y="1407"/>
                  </a:lnTo>
                  <a:lnTo>
                    <a:pt x="1900" y="1762"/>
                  </a:lnTo>
                  <a:lnTo>
                    <a:pt x="1886" y="2053"/>
                  </a:lnTo>
                  <a:lnTo>
                    <a:pt x="1780" y="2254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4"/>
            <p:cNvSpPr/>
            <p:nvPr/>
          </p:nvSpPr>
          <p:spPr>
            <a:xfrm>
              <a:off x="3313440" y="5135400"/>
              <a:ext cx="408240" cy="524160"/>
            </a:xfrm>
            <a:custGeom>
              <a:avLst/>
              <a:gdLst>
                <a:gd name="textAreaLeft" fmla="*/ 0 w 408240"/>
                <a:gd name="textAreaRight" fmla="*/ 408600 w 408240"/>
                <a:gd name="textAreaTop" fmla="*/ 0 h 524160"/>
                <a:gd name="textAreaBottom" fmla="*/ 524520 h 524160"/>
              </a:gdLst>
              <a:ahLst/>
              <a:rect l="textAreaLeft" t="textAreaTop" r="textAreaRight" b="textAreaBottom"/>
              <a:pathLst>
                <a:path w="1893" h="2208">
                  <a:moveTo>
                    <a:pt x="1783" y="2208"/>
                  </a:moveTo>
                  <a:lnTo>
                    <a:pt x="1724" y="1943"/>
                  </a:lnTo>
                  <a:lnTo>
                    <a:pt x="1613" y="1669"/>
                  </a:lnTo>
                  <a:lnTo>
                    <a:pt x="1448" y="1382"/>
                  </a:lnTo>
                  <a:lnTo>
                    <a:pt x="1244" y="1102"/>
                  </a:lnTo>
                  <a:lnTo>
                    <a:pt x="1005" y="829"/>
                  </a:lnTo>
                  <a:lnTo>
                    <a:pt x="760" y="581"/>
                  </a:lnTo>
                  <a:lnTo>
                    <a:pt x="494" y="359"/>
                  </a:lnTo>
                  <a:lnTo>
                    <a:pt x="238" y="186"/>
                  </a:lnTo>
                  <a:lnTo>
                    <a:pt x="207" y="159"/>
                  </a:lnTo>
                  <a:lnTo>
                    <a:pt x="176" y="135"/>
                  </a:lnTo>
                  <a:lnTo>
                    <a:pt x="141" y="114"/>
                  </a:lnTo>
                  <a:lnTo>
                    <a:pt x="117" y="90"/>
                  </a:lnTo>
                  <a:lnTo>
                    <a:pt x="86" y="62"/>
                  </a:lnTo>
                  <a:lnTo>
                    <a:pt x="51" y="42"/>
                  </a:lnTo>
                  <a:lnTo>
                    <a:pt x="28" y="17"/>
                  </a:lnTo>
                  <a:lnTo>
                    <a:pt x="0" y="0"/>
                  </a:lnTo>
                  <a:lnTo>
                    <a:pt x="515" y="121"/>
                  </a:lnTo>
                  <a:lnTo>
                    <a:pt x="960" y="359"/>
                  </a:lnTo>
                  <a:lnTo>
                    <a:pt x="1327" y="670"/>
                  </a:lnTo>
                  <a:lnTo>
                    <a:pt x="1610" y="1030"/>
                  </a:lnTo>
                  <a:lnTo>
                    <a:pt x="1797" y="1396"/>
                  </a:lnTo>
                  <a:lnTo>
                    <a:pt x="1893" y="1738"/>
                  </a:lnTo>
                  <a:lnTo>
                    <a:pt x="1886" y="2018"/>
                  </a:lnTo>
                  <a:lnTo>
                    <a:pt x="1783" y="2208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3313440" y="5135400"/>
              <a:ext cx="405360" cy="511920"/>
            </a:xfrm>
            <a:custGeom>
              <a:avLst/>
              <a:gdLst>
                <a:gd name="textAreaLeft" fmla="*/ 0 w 405360"/>
                <a:gd name="textAreaRight" fmla="*/ 405720 w 405360"/>
                <a:gd name="textAreaTop" fmla="*/ 0 h 511920"/>
                <a:gd name="textAreaBottom" fmla="*/ 512280 h 511920"/>
              </a:gdLst>
              <a:ahLst/>
              <a:rect l="textAreaLeft" t="textAreaTop" r="textAreaRight" b="textAreaBottom"/>
              <a:pathLst>
                <a:path w="1880" h="2160">
                  <a:moveTo>
                    <a:pt x="1783" y="2160"/>
                  </a:moveTo>
                  <a:lnTo>
                    <a:pt x="1724" y="1891"/>
                  </a:lnTo>
                  <a:lnTo>
                    <a:pt x="1616" y="1611"/>
                  </a:lnTo>
                  <a:lnTo>
                    <a:pt x="1451" y="1324"/>
                  </a:lnTo>
                  <a:lnTo>
                    <a:pt x="1254" y="1044"/>
                  </a:lnTo>
                  <a:lnTo>
                    <a:pt x="1016" y="774"/>
                  </a:lnTo>
                  <a:lnTo>
                    <a:pt x="766" y="535"/>
                  </a:lnTo>
                  <a:lnTo>
                    <a:pt x="507" y="328"/>
                  </a:lnTo>
                  <a:lnTo>
                    <a:pt x="245" y="177"/>
                  </a:lnTo>
                  <a:lnTo>
                    <a:pt x="210" y="149"/>
                  </a:lnTo>
                  <a:lnTo>
                    <a:pt x="179" y="131"/>
                  </a:lnTo>
                  <a:lnTo>
                    <a:pt x="149" y="103"/>
                  </a:lnTo>
                  <a:lnTo>
                    <a:pt x="121" y="86"/>
                  </a:lnTo>
                  <a:lnTo>
                    <a:pt x="89" y="62"/>
                  </a:lnTo>
                  <a:lnTo>
                    <a:pt x="58" y="42"/>
                  </a:lnTo>
                  <a:lnTo>
                    <a:pt x="28" y="17"/>
                  </a:lnTo>
                  <a:lnTo>
                    <a:pt x="0" y="0"/>
                  </a:lnTo>
                  <a:lnTo>
                    <a:pt x="504" y="121"/>
                  </a:lnTo>
                  <a:lnTo>
                    <a:pt x="943" y="356"/>
                  </a:lnTo>
                  <a:lnTo>
                    <a:pt x="1302" y="661"/>
                  </a:lnTo>
                  <a:lnTo>
                    <a:pt x="1586" y="1016"/>
                  </a:lnTo>
                  <a:lnTo>
                    <a:pt x="1776" y="1372"/>
                  </a:lnTo>
                  <a:lnTo>
                    <a:pt x="1880" y="1704"/>
                  </a:lnTo>
                  <a:lnTo>
                    <a:pt x="1880" y="1980"/>
                  </a:lnTo>
                  <a:lnTo>
                    <a:pt x="1783" y="2160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3313440" y="5135400"/>
              <a:ext cx="405360" cy="501840"/>
            </a:xfrm>
            <a:custGeom>
              <a:avLst/>
              <a:gdLst>
                <a:gd name="textAreaLeft" fmla="*/ 0 w 405360"/>
                <a:gd name="textAreaRight" fmla="*/ 405720 w 405360"/>
                <a:gd name="textAreaTop" fmla="*/ 0 h 501840"/>
                <a:gd name="textAreaBottom" fmla="*/ 502200 h 501840"/>
              </a:gdLst>
              <a:ahLst/>
              <a:rect l="textAreaLeft" t="textAreaTop" r="textAreaRight" b="textAreaBottom"/>
              <a:pathLst>
                <a:path w="1880" h="2112">
                  <a:moveTo>
                    <a:pt x="1794" y="2112"/>
                  </a:moveTo>
                  <a:lnTo>
                    <a:pt x="1737" y="1836"/>
                  </a:lnTo>
                  <a:lnTo>
                    <a:pt x="1630" y="1552"/>
                  </a:lnTo>
                  <a:lnTo>
                    <a:pt x="1465" y="1261"/>
                  </a:lnTo>
                  <a:lnTo>
                    <a:pt x="1268" y="981"/>
                  </a:lnTo>
                  <a:lnTo>
                    <a:pt x="1033" y="716"/>
                  </a:lnTo>
                  <a:lnTo>
                    <a:pt x="780" y="488"/>
                  </a:lnTo>
                  <a:lnTo>
                    <a:pt x="515" y="298"/>
                  </a:lnTo>
                  <a:lnTo>
                    <a:pt x="256" y="172"/>
                  </a:lnTo>
                  <a:lnTo>
                    <a:pt x="221" y="145"/>
                  </a:lnTo>
                  <a:lnTo>
                    <a:pt x="186" y="121"/>
                  </a:lnTo>
                  <a:lnTo>
                    <a:pt x="155" y="100"/>
                  </a:lnTo>
                  <a:lnTo>
                    <a:pt x="124" y="83"/>
                  </a:lnTo>
                  <a:lnTo>
                    <a:pt x="89" y="59"/>
                  </a:lnTo>
                  <a:lnTo>
                    <a:pt x="62" y="42"/>
                  </a:lnTo>
                  <a:lnTo>
                    <a:pt x="28" y="17"/>
                  </a:lnTo>
                  <a:lnTo>
                    <a:pt x="0" y="0"/>
                  </a:lnTo>
                  <a:lnTo>
                    <a:pt x="494" y="121"/>
                  </a:lnTo>
                  <a:lnTo>
                    <a:pt x="925" y="356"/>
                  </a:lnTo>
                  <a:lnTo>
                    <a:pt x="1282" y="661"/>
                  </a:lnTo>
                  <a:lnTo>
                    <a:pt x="1569" y="1009"/>
                  </a:lnTo>
                  <a:lnTo>
                    <a:pt x="1762" y="1355"/>
                  </a:lnTo>
                  <a:lnTo>
                    <a:pt x="1869" y="1680"/>
                  </a:lnTo>
                  <a:lnTo>
                    <a:pt x="1880" y="1939"/>
                  </a:lnTo>
                  <a:lnTo>
                    <a:pt x="1794" y="2112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3197880" y="5238000"/>
              <a:ext cx="465120" cy="46584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465840"/>
                <a:gd name="textAreaBottom" fmla="*/ 466200 h 465840"/>
              </a:gdLst>
              <a:ahLst/>
              <a:rect l="textAreaLeft" t="textAreaTop" r="textAreaRight" b="textAreaBottom"/>
              <a:pathLst>
                <a:path w="2157" h="1963">
                  <a:moveTo>
                    <a:pt x="2057" y="1963"/>
                  </a:moveTo>
                  <a:lnTo>
                    <a:pt x="1967" y="1732"/>
                  </a:lnTo>
                  <a:lnTo>
                    <a:pt x="1818" y="1497"/>
                  </a:lnTo>
                  <a:lnTo>
                    <a:pt x="1614" y="1258"/>
                  </a:lnTo>
                  <a:lnTo>
                    <a:pt x="1376" y="1023"/>
                  </a:lnTo>
                  <a:lnTo>
                    <a:pt x="1103" y="785"/>
                  </a:lnTo>
                  <a:lnTo>
                    <a:pt x="816" y="557"/>
                  </a:lnTo>
                  <a:lnTo>
                    <a:pt x="522" y="345"/>
                  </a:lnTo>
                  <a:lnTo>
                    <a:pt x="245" y="163"/>
                  </a:lnTo>
                  <a:lnTo>
                    <a:pt x="211" y="138"/>
                  </a:lnTo>
                  <a:lnTo>
                    <a:pt x="181" y="121"/>
                  </a:lnTo>
                  <a:lnTo>
                    <a:pt x="149" y="100"/>
                  </a:lnTo>
                  <a:lnTo>
                    <a:pt x="121" y="83"/>
                  </a:lnTo>
                  <a:lnTo>
                    <a:pt x="90" y="59"/>
                  </a:lnTo>
                  <a:lnTo>
                    <a:pt x="60" y="42"/>
                  </a:lnTo>
                  <a:lnTo>
                    <a:pt x="28" y="17"/>
                  </a:lnTo>
                  <a:lnTo>
                    <a:pt x="0" y="0"/>
                  </a:lnTo>
                  <a:lnTo>
                    <a:pt x="567" y="45"/>
                  </a:lnTo>
                  <a:lnTo>
                    <a:pt x="1068" y="218"/>
                  </a:lnTo>
                  <a:lnTo>
                    <a:pt x="1476" y="477"/>
                  </a:lnTo>
                  <a:lnTo>
                    <a:pt x="1801" y="795"/>
                  </a:lnTo>
                  <a:lnTo>
                    <a:pt x="2022" y="1134"/>
                  </a:lnTo>
                  <a:lnTo>
                    <a:pt x="2143" y="1465"/>
                  </a:lnTo>
                  <a:lnTo>
                    <a:pt x="2157" y="1749"/>
                  </a:lnTo>
                  <a:lnTo>
                    <a:pt x="2057" y="1963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8"/>
            <p:cNvSpPr/>
            <p:nvPr/>
          </p:nvSpPr>
          <p:spPr>
            <a:xfrm>
              <a:off x="3197880" y="5238000"/>
              <a:ext cx="463680" cy="45612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456120"/>
                <a:gd name="textAreaBottom" fmla="*/ 456480 h 456120"/>
              </a:gdLst>
              <a:ahLst/>
              <a:rect l="textAreaLeft" t="textAreaTop" r="textAreaRight" b="textAreaBottom"/>
              <a:pathLst>
                <a:path w="2149" h="1922">
                  <a:moveTo>
                    <a:pt x="2057" y="1922"/>
                  </a:moveTo>
                  <a:lnTo>
                    <a:pt x="1970" y="1683"/>
                  </a:lnTo>
                  <a:lnTo>
                    <a:pt x="1821" y="1445"/>
                  </a:lnTo>
                  <a:lnTo>
                    <a:pt x="1625" y="1196"/>
                  </a:lnTo>
                  <a:lnTo>
                    <a:pt x="1386" y="958"/>
                  </a:lnTo>
                  <a:lnTo>
                    <a:pt x="1114" y="725"/>
                  </a:lnTo>
                  <a:lnTo>
                    <a:pt x="830" y="508"/>
                  </a:lnTo>
                  <a:lnTo>
                    <a:pt x="536" y="315"/>
                  </a:lnTo>
                  <a:lnTo>
                    <a:pt x="253" y="159"/>
                  </a:lnTo>
                  <a:lnTo>
                    <a:pt x="218" y="135"/>
                  </a:lnTo>
                  <a:lnTo>
                    <a:pt x="190" y="117"/>
                  </a:lnTo>
                  <a:lnTo>
                    <a:pt x="156" y="94"/>
                  </a:lnTo>
                  <a:lnTo>
                    <a:pt x="129" y="76"/>
                  </a:lnTo>
                  <a:lnTo>
                    <a:pt x="90" y="56"/>
                  </a:lnTo>
                  <a:lnTo>
                    <a:pt x="63" y="39"/>
                  </a:lnTo>
                  <a:lnTo>
                    <a:pt x="28" y="17"/>
                  </a:lnTo>
                  <a:lnTo>
                    <a:pt x="0" y="0"/>
                  </a:lnTo>
                  <a:lnTo>
                    <a:pt x="561" y="48"/>
                  </a:lnTo>
                  <a:lnTo>
                    <a:pt x="1045" y="221"/>
                  </a:lnTo>
                  <a:lnTo>
                    <a:pt x="1455" y="477"/>
                  </a:lnTo>
                  <a:lnTo>
                    <a:pt x="1777" y="791"/>
                  </a:lnTo>
                  <a:lnTo>
                    <a:pt x="2001" y="1120"/>
                  </a:lnTo>
                  <a:lnTo>
                    <a:pt x="2132" y="1445"/>
                  </a:lnTo>
                  <a:lnTo>
                    <a:pt x="2149" y="1718"/>
                  </a:lnTo>
                  <a:lnTo>
                    <a:pt x="2057" y="1922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>
              <a:off x="3197880" y="5238000"/>
              <a:ext cx="462600" cy="443520"/>
            </a:xfrm>
            <a:custGeom>
              <a:avLst/>
              <a:gdLst>
                <a:gd name="textAreaLeft" fmla="*/ 0 w 462600"/>
                <a:gd name="textAreaRight" fmla="*/ 462960 w 462600"/>
                <a:gd name="textAreaTop" fmla="*/ 0 h 443520"/>
                <a:gd name="textAreaBottom" fmla="*/ 443880 h 443520"/>
              </a:gdLst>
              <a:ahLst/>
              <a:rect l="textAreaLeft" t="textAreaTop" r="textAreaRight" b="textAreaBottom"/>
              <a:pathLst>
                <a:path w="2143" h="1870">
                  <a:moveTo>
                    <a:pt x="2057" y="1870"/>
                  </a:moveTo>
                  <a:lnTo>
                    <a:pt x="1970" y="1635"/>
                  </a:lnTo>
                  <a:lnTo>
                    <a:pt x="1829" y="1386"/>
                  </a:lnTo>
                  <a:lnTo>
                    <a:pt x="1628" y="1137"/>
                  </a:lnTo>
                  <a:lnTo>
                    <a:pt x="1389" y="898"/>
                  </a:lnTo>
                  <a:lnTo>
                    <a:pt x="1120" y="670"/>
                  </a:lnTo>
                  <a:lnTo>
                    <a:pt x="837" y="463"/>
                  </a:lnTo>
                  <a:lnTo>
                    <a:pt x="547" y="284"/>
                  </a:lnTo>
                  <a:lnTo>
                    <a:pt x="263" y="145"/>
                  </a:lnTo>
                  <a:lnTo>
                    <a:pt x="225" y="121"/>
                  </a:lnTo>
                  <a:lnTo>
                    <a:pt x="194" y="108"/>
                  </a:lnTo>
                  <a:lnTo>
                    <a:pt x="159" y="86"/>
                  </a:lnTo>
                  <a:lnTo>
                    <a:pt x="132" y="73"/>
                  </a:lnTo>
                  <a:lnTo>
                    <a:pt x="97" y="48"/>
                  </a:lnTo>
                  <a:lnTo>
                    <a:pt x="63" y="39"/>
                  </a:lnTo>
                  <a:lnTo>
                    <a:pt x="28" y="14"/>
                  </a:lnTo>
                  <a:lnTo>
                    <a:pt x="0" y="0"/>
                  </a:lnTo>
                  <a:lnTo>
                    <a:pt x="547" y="48"/>
                  </a:lnTo>
                  <a:lnTo>
                    <a:pt x="1027" y="221"/>
                  </a:lnTo>
                  <a:lnTo>
                    <a:pt x="1431" y="474"/>
                  </a:lnTo>
                  <a:lnTo>
                    <a:pt x="1756" y="785"/>
                  </a:lnTo>
                  <a:lnTo>
                    <a:pt x="1984" y="1102"/>
                  </a:lnTo>
                  <a:lnTo>
                    <a:pt x="2119" y="1417"/>
                  </a:lnTo>
                  <a:lnTo>
                    <a:pt x="2143" y="1680"/>
                  </a:lnTo>
                  <a:lnTo>
                    <a:pt x="2057" y="1870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40"/>
            <p:cNvSpPr/>
            <p:nvPr/>
          </p:nvSpPr>
          <p:spPr>
            <a:xfrm>
              <a:off x="3197880" y="5238000"/>
              <a:ext cx="460080" cy="434880"/>
            </a:xfrm>
            <a:custGeom>
              <a:avLst/>
              <a:gdLst>
                <a:gd name="textAreaLeft" fmla="*/ 0 w 460080"/>
                <a:gd name="textAreaRight" fmla="*/ 460440 w 4600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132" h="1831">
                  <a:moveTo>
                    <a:pt x="2053" y="1831"/>
                  </a:moveTo>
                  <a:lnTo>
                    <a:pt x="1967" y="1580"/>
                  </a:lnTo>
                  <a:lnTo>
                    <a:pt x="1829" y="1330"/>
                  </a:lnTo>
                  <a:lnTo>
                    <a:pt x="1628" y="1075"/>
                  </a:lnTo>
                  <a:lnTo>
                    <a:pt x="1397" y="837"/>
                  </a:lnTo>
                  <a:lnTo>
                    <a:pt x="1131" y="612"/>
                  </a:lnTo>
                  <a:lnTo>
                    <a:pt x="847" y="414"/>
                  </a:lnTo>
                  <a:lnTo>
                    <a:pt x="553" y="252"/>
                  </a:lnTo>
                  <a:lnTo>
                    <a:pt x="270" y="138"/>
                  </a:lnTo>
                  <a:lnTo>
                    <a:pt x="236" y="117"/>
                  </a:lnTo>
                  <a:lnTo>
                    <a:pt x="204" y="100"/>
                  </a:lnTo>
                  <a:lnTo>
                    <a:pt x="167" y="83"/>
                  </a:lnTo>
                  <a:lnTo>
                    <a:pt x="135" y="69"/>
                  </a:lnTo>
                  <a:lnTo>
                    <a:pt x="101" y="48"/>
                  </a:lnTo>
                  <a:lnTo>
                    <a:pt x="69" y="31"/>
                  </a:lnTo>
                  <a:lnTo>
                    <a:pt x="32" y="14"/>
                  </a:lnTo>
                  <a:lnTo>
                    <a:pt x="0" y="0"/>
                  </a:lnTo>
                  <a:lnTo>
                    <a:pt x="533" y="59"/>
                  </a:lnTo>
                  <a:lnTo>
                    <a:pt x="1010" y="224"/>
                  </a:lnTo>
                  <a:lnTo>
                    <a:pt x="1411" y="474"/>
                  </a:lnTo>
                  <a:lnTo>
                    <a:pt x="1731" y="774"/>
                  </a:lnTo>
                  <a:lnTo>
                    <a:pt x="1964" y="1085"/>
                  </a:lnTo>
                  <a:lnTo>
                    <a:pt x="2102" y="1390"/>
                  </a:lnTo>
                  <a:lnTo>
                    <a:pt x="2132" y="1646"/>
                  </a:lnTo>
                  <a:lnTo>
                    <a:pt x="2053" y="1831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1"/>
            <p:cNvSpPr/>
            <p:nvPr/>
          </p:nvSpPr>
          <p:spPr>
            <a:xfrm>
              <a:off x="3197880" y="5238000"/>
              <a:ext cx="458640" cy="421920"/>
            </a:xfrm>
            <a:custGeom>
              <a:avLst/>
              <a:gdLst>
                <a:gd name="textAreaLeft" fmla="*/ 0 w 458640"/>
                <a:gd name="textAreaRight" fmla="*/ 459000 w 458640"/>
                <a:gd name="textAreaTop" fmla="*/ 0 h 421920"/>
                <a:gd name="textAreaBottom" fmla="*/ 422280 h 421920"/>
              </a:gdLst>
              <a:ahLst/>
              <a:rect l="textAreaLeft" t="textAreaTop" r="textAreaRight" b="textAreaBottom"/>
              <a:pathLst>
                <a:path w="2122" h="1779">
                  <a:moveTo>
                    <a:pt x="2053" y="1779"/>
                  </a:moveTo>
                  <a:lnTo>
                    <a:pt x="1970" y="1531"/>
                  </a:lnTo>
                  <a:lnTo>
                    <a:pt x="1832" y="1272"/>
                  </a:lnTo>
                  <a:lnTo>
                    <a:pt x="1639" y="1016"/>
                  </a:lnTo>
                  <a:lnTo>
                    <a:pt x="1403" y="777"/>
                  </a:lnTo>
                  <a:lnTo>
                    <a:pt x="1137" y="553"/>
                  </a:lnTo>
                  <a:lnTo>
                    <a:pt x="854" y="370"/>
                  </a:lnTo>
                  <a:lnTo>
                    <a:pt x="567" y="221"/>
                  </a:lnTo>
                  <a:lnTo>
                    <a:pt x="280" y="128"/>
                  </a:lnTo>
                  <a:lnTo>
                    <a:pt x="245" y="108"/>
                  </a:lnTo>
                  <a:lnTo>
                    <a:pt x="208" y="94"/>
                  </a:lnTo>
                  <a:lnTo>
                    <a:pt x="173" y="76"/>
                  </a:lnTo>
                  <a:lnTo>
                    <a:pt x="142" y="62"/>
                  </a:lnTo>
                  <a:lnTo>
                    <a:pt x="104" y="45"/>
                  </a:lnTo>
                  <a:lnTo>
                    <a:pt x="69" y="28"/>
                  </a:lnTo>
                  <a:lnTo>
                    <a:pt x="32" y="14"/>
                  </a:lnTo>
                  <a:lnTo>
                    <a:pt x="0" y="0"/>
                  </a:lnTo>
                  <a:lnTo>
                    <a:pt x="522" y="59"/>
                  </a:lnTo>
                  <a:lnTo>
                    <a:pt x="993" y="224"/>
                  </a:lnTo>
                  <a:lnTo>
                    <a:pt x="1386" y="474"/>
                  </a:lnTo>
                  <a:lnTo>
                    <a:pt x="1714" y="764"/>
                  </a:lnTo>
                  <a:lnTo>
                    <a:pt x="1950" y="1068"/>
                  </a:lnTo>
                  <a:lnTo>
                    <a:pt x="2091" y="1358"/>
                  </a:lnTo>
                  <a:lnTo>
                    <a:pt x="2122" y="1607"/>
                  </a:lnTo>
                  <a:lnTo>
                    <a:pt x="2053" y="1779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2"/>
            <p:cNvSpPr/>
            <p:nvPr/>
          </p:nvSpPr>
          <p:spPr>
            <a:xfrm>
              <a:off x="3835800" y="5013360"/>
              <a:ext cx="396720" cy="63396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633960"/>
                <a:gd name="textAreaBottom" fmla="*/ 634320 h 633960"/>
              </a:gdLst>
              <a:ahLst/>
              <a:rect l="textAreaLeft" t="textAreaTop" r="textAreaRight" b="textAreaBottom"/>
              <a:pathLst>
                <a:path w="1832" h="2679">
                  <a:moveTo>
                    <a:pt x="256" y="2679"/>
                  </a:moveTo>
                  <a:lnTo>
                    <a:pt x="277" y="2416"/>
                  </a:lnTo>
                  <a:lnTo>
                    <a:pt x="360" y="2130"/>
                  </a:lnTo>
                  <a:lnTo>
                    <a:pt x="501" y="1815"/>
                  </a:lnTo>
                  <a:lnTo>
                    <a:pt x="685" y="1491"/>
                  </a:lnTo>
                  <a:lnTo>
                    <a:pt x="895" y="1158"/>
                  </a:lnTo>
                  <a:lnTo>
                    <a:pt x="1134" y="840"/>
                  </a:lnTo>
                  <a:lnTo>
                    <a:pt x="1383" y="529"/>
                  </a:lnTo>
                  <a:lnTo>
                    <a:pt x="1628" y="246"/>
                  </a:lnTo>
                  <a:lnTo>
                    <a:pt x="1653" y="215"/>
                  </a:lnTo>
                  <a:lnTo>
                    <a:pt x="1680" y="184"/>
                  </a:lnTo>
                  <a:lnTo>
                    <a:pt x="1704" y="149"/>
                  </a:lnTo>
                  <a:lnTo>
                    <a:pt x="1731" y="126"/>
                  </a:lnTo>
                  <a:lnTo>
                    <a:pt x="1756" y="94"/>
                  </a:lnTo>
                  <a:lnTo>
                    <a:pt x="1780" y="60"/>
                  </a:lnTo>
                  <a:lnTo>
                    <a:pt x="1804" y="28"/>
                  </a:lnTo>
                  <a:lnTo>
                    <a:pt x="1832" y="0"/>
                  </a:lnTo>
                  <a:lnTo>
                    <a:pt x="1238" y="236"/>
                  </a:lnTo>
                  <a:lnTo>
                    <a:pt x="764" y="575"/>
                  </a:lnTo>
                  <a:lnTo>
                    <a:pt x="412" y="975"/>
                  </a:lnTo>
                  <a:lnTo>
                    <a:pt x="166" y="1407"/>
                  </a:lnTo>
                  <a:lnTo>
                    <a:pt x="28" y="1825"/>
                  </a:lnTo>
                  <a:lnTo>
                    <a:pt x="0" y="2202"/>
                  </a:lnTo>
                  <a:lnTo>
                    <a:pt x="76" y="2499"/>
                  </a:lnTo>
                  <a:lnTo>
                    <a:pt x="256" y="2679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3"/>
            <p:cNvSpPr/>
            <p:nvPr/>
          </p:nvSpPr>
          <p:spPr>
            <a:xfrm>
              <a:off x="3838320" y="5013360"/>
              <a:ext cx="394200" cy="623880"/>
            </a:xfrm>
            <a:custGeom>
              <a:avLst/>
              <a:gdLst>
                <a:gd name="textAreaLeft" fmla="*/ 0 w 394200"/>
                <a:gd name="textAreaRight" fmla="*/ 394560 w 394200"/>
                <a:gd name="textAreaTop" fmla="*/ 0 h 623880"/>
                <a:gd name="textAreaBottom" fmla="*/ 624240 h 623880"/>
              </a:gdLst>
              <a:ahLst/>
              <a:rect l="textAreaLeft" t="textAreaTop" r="textAreaRight" b="textAreaBottom"/>
              <a:pathLst>
                <a:path w="1821" h="2631">
                  <a:moveTo>
                    <a:pt x="231" y="2631"/>
                  </a:moveTo>
                  <a:lnTo>
                    <a:pt x="245" y="2358"/>
                  </a:lnTo>
                  <a:lnTo>
                    <a:pt x="328" y="2067"/>
                  </a:lnTo>
                  <a:lnTo>
                    <a:pt x="462" y="1753"/>
                  </a:lnTo>
                  <a:lnTo>
                    <a:pt x="646" y="1431"/>
                  </a:lnTo>
                  <a:lnTo>
                    <a:pt x="856" y="1103"/>
                  </a:lnTo>
                  <a:lnTo>
                    <a:pt x="1102" y="795"/>
                  </a:lnTo>
                  <a:lnTo>
                    <a:pt x="1348" y="501"/>
                  </a:lnTo>
                  <a:lnTo>
                    <a:pt x="1610" y="246"/>
                  </a:lnTo>
                  <a:lnTo>
                    <a:pt x="1634" y="215"/>
                  </a:lnTo>
                  <a:lnTo>
                    <a:pt x="1662" y="184"/>
                  </a:lnTo>
                  <a:lnTo>
                    <a:pt x="1689" y="149"/>
                  </a:lnTo>
                  <a:lnTo>
                    <a:pt x="1717" y="126"/>
                  </a:lnTo>
                  <a:lnTo>
                    <a:pt x="1745" y="94"/>
                  </a:lnTo>
                  <a:lnTo>
                    <a:pt x="1769" y="60"/>
                  </a:lnTo>
                  <a:lnTo>
                    <a:pt x="1793" y="28"/>
                  </a:lnTo>
                  <a:lnTo>
                    <a:pt x="1821" y="0"/>
                  </a:lnTo>
                  <a:lnTo>
                    <a:pt x="1240" y="236"/>
                  </a:lnTo>
                  <a:lnTo>
                    <a:pt x="778" y="567"/>
                  </a:lnTo>
                  <a:lnTo>
                    <a:pt x="418" y="965"/>
                  </a:lnTo>
                  <a:lnTo>
                    <a:pt x="176" y="1393"/>
                  </a:lnTo>
                  <a:lnTo>
                    <a:pt x="30" y="1802"/>
                  </a:lnTo>
                  <a:lnTo>
                    <a:pt x="0" y="2171"/>
                  </a:lnTo>
                  <a:lnTo>
                    <a:pt x="61" y="2458"/>
                  </a:lnTo>
                  <a:lnTo>
                    <a:pt x="231" y="2631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4"/>
            <p:cNvSpPr/>
            <p:nvPr/>
          </p:nvSpPr>
          <p:spPr>
            <a:xfrm>
              <a:off x="3839760" y="5013360"/>
              <a:ext cx="392760" cy="613800"/>
            </a:xfrm>
            <a:custGeom>
              <a:avLst/>
              <a:gdLst>
                <a:gd name="textAreaLeft" fmla="*/ 0 w 392760"/>
                <a:gd name="textAreaRight" fmla="*/ 393120 w 392760"/>
                <a:gd name="textAreaTop" fmla="*/ 0 h 613800"/>
                <a:gd name="textAreaBottom" fmla="*/ 614160 h 613800"/>
              </a:gdLst>
              <a:ahLst/>
              <a:rect l="textAreaLeft" t="textAreaTop" r="textAreaRight" b="textAreaBottom"/>
              <a:pathLst>
                <a:path w="1815" h="2589">
                  <a:moveTo>
                    <a:pt x="214" y="2589"/>
                  </a:moveTo>
                  <a:lnTo>
                    <a:pt x="222" y="2313"/>
                  </a:lnTo>
                  <a:lnTo>
                    <a:pt x="305" y="2012"/>
                  </a:lnTo>
                  <a:lnTo>
                    <a:pt x="432" y="1694"/>
                  </a:lnTo>
                  <a:lnTo>
                    <a:pt x="619" y="1373"/>
                  </a:lnTo>
                  <a:lnTo>
                    <a:pt x="830" y="1051"/>
                  </a:lnTo>
                  <a:lnTo>
                    <a:pt x="1069" y="751"/>
                  </a:lnTo>
                  <a:lnTo>
                    <a:pt x="1325" y="474"/>
                  </a:lnTo>
                  <a:lnTo>
                    <a:pt x="1590" y="239"/>
                  </a:lnTo>
                  <a:lnTo>
                    <a:pt x="1618" y="208"/>
                  </a:lnTo>
                  <a:lnTo>
                    <a:pt x="1642" y="177"/>
                  </a:lnTo>
                  <a:lnTo>
                    <a:pt x="1670" y="146"/>
                  </a:lnTo>
                  <a:lnTo>
                    <a:pt x="1700" y="118"/>
                  </a:lnTo>
                  <a:lnTo>
                    <a:pt x="1728" y="87"/>
                  </a:lnTo>
                  <a:lnTo>
                    <a:pt x="1757" y="60"/>
                  </a:lnTo>
                  <a:lnTo>
                    <a:pt x="1784" y="28"/>
                  </a:lnTo>
                  <a:lnTo>
                    <a:pt x="1815" y="0"/>
                  </a:lnTo>
                  <a:lnTo>
                    <a:pt x="1251" y="236"/>
                  </a:lnTo>
                  <a:lnTo>
                    <a:pt x="792" y="567"/>
                  </a:lnTo>
                  <a:lnTo>
                    <a:pt x="439" y="961"/>
                  </a:lnTo>
                  <a:lnTo>
                    <a:pt x="190" y="1379"/>
                  </a:lnTo>
                  <a:lnTo>
                    <a:pt x="41" y="1780"/>
                  </a:lnTo>
                  <a:lnTo>
                    <a:pt x="0" y="2143"/>
                  </a:lnTo>
                  <a:lnTo>
                    <a:pt x="55" y="2424"/>
                  </a:lnTo>
                  <a:lnTo>
                    <a:pt x="214" y="2589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5"/>
            <p:cNvSpPr/>
            <p:nvPr/>
          </p:nvSpPr>
          <p:spPr>
            <a:xfrm>
              <a:off x="3842280" y="5013360"/>
              <a:ext cx="390240" cy="601200"/>
            </a:xfrm>
            <a:custGeom>
              <a:avLst/>
              <a:gdLst>
                <a:gd name="textAreaLeft" fmla="*/ 0 w 390240"/>
                <a:gd name="textAreaRight" fmla="*/ 390600 w 390240"/>
                <a:gd name="textAreaTop" fmla="*/ 0 h 601200"/>
                <a:gd name="textAreaBottom" fmla="*/ 601560 h 601200"/>
              </a:gdLst>
              <a:ahLst/>
              <a:rect l="textAreaLeft" t="textAreaTop" r="textAreaRight" b="textAreaBottom"/>
              <a:pathLst>
                <a:path w="1804" h="2537">
                  <a:moveTo>
                    <a:pt x="194" y="2537"/>
                  </a:moveTo>
                  <a:lnTo>
                    <a:pt x="197" y="2261"/>
                  </a:lnTo>
                  <a:lnTo>
                    <a:pt x="272" y="1960"/>
                  </a:lnTo>
                  <a:lnTo>
                    <a:pt x="401" y="1635"/>
                  </a:lnTo>
                  <a:lnTo>
                    <a:pt x="580" y="1318"/>
                  </a:lnTo>
                  <a:lnTo>
                    <a:pt x="791" y="996"/>
                  </a:lnTo>
                  <a:lnTo>
                    <a:pt x="1029" y="705"/>
                  </a:lnTo>
                  <a:lnTo>
                    <a:pt x="1289" y="440"/>
                  </a:lnTo>
                  <a:lnTo>
                    <a:pt x="1565" y="232"/>
                  </a:lnTo>
                  <a:lnTo>
                    <a:pt x="1593" y="201"/>
                  </a:lnTo>
                  <a:lnTo>
                    <a:pt x="1625" y="173"/>
                  </a:lnTo>
                  <a:lnTo>
                    <a:pt x="1655" y="143"/>
                  </a:lnTo>
                  <a:lnTo>
                    <a:pt x="1686" y="115"/>
                  </a:lnTo>
                  <a:lnTo>
                    <a:pt x="1714" y="83"/>
                  </a:lnTo>
                  <a:lnTo>
                    <a:pt x="1746" y="56"/>
                  </a:lnTo>
                  <a:lnTo>
                    <a:pt x="1773" y="28"/>
                  </a:lnTo>
                  <a:lnTo>
                    <a:pt x="1804" y="0"/>
                  </a:lnTo>
                  <a:lnTo>
                    <a:pt x="1251" y="236"/>
                  </a:lnTo>
                  <a:lnTo>
                    <a:pt x="802" y="564"/>
                  </a:lnTo>
                  <a:lnTo>
                    <a:pt x="449" y="947"/>
                  </a:lnTo>
                  <a:lnTo>
                    <a:pt x="203" y="1362"/>
                  </a:lnTo>
                  <a:lnTo>
                    <a:pt x="48" y="1753"/>
                  </a:lnTo>
                  <a:lnTo>
                    <a:pt x="0" y="2108"/>
                  </a:lnTo>
                  <a:lnTo>
                    <a:pt x="44" y="2378"/>
                  </a:lnTo>
                  <a:lnTo>
                    <a:pt x="194" y="2537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46"/>
            <p:cNvSpPr/>
            <p:nvPr/>
          </p:nvSpPr>
          <p:spPr>
            <a:xfrm>
              <a:off x="3843720" y="5013360"/>
              <a:ext cx="388800" cy="589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589680"/>
                <a:gd name="textAreaBottom" fmla="*/ 590040 h 589680"/>
              </a:gdLst>
              <a:ahLst/>
              <a:rect l="textAreaLeft" t="textAreaTop" r="textAreaRight" b="textAreaBottom"/>
              <a:pathLst>
                <a:path w="1801" h="2489">
                  <a:moveTo>
                    <a:pt x="176" y="2489"/>
                  </a:moveTo>
                  <a:lnTo>
                    <a:pt x="176" y="2206"/>
                  </a:lnTo>
                  <a:lnTo>
                    <a:pt x="249" y="1901"/>
                  </a:lnTo>
                  <a:lnTo>
                    <a:pt x="373" y="1577"/>
                  </a:lnTo>
                  <a:lnTo>
                    <a:pt x="553" y="1258"/>
                  </a:lnTo>
                  <a:lnTo>
                    <a:pt x="761" y="941"/>
                  </a:lnTo>
                  <a:lnTo>
                    <a:pt x="1003" y="657"/>
                  </a:lnTo>
                  <a:lnTo>
                    <a:pt x="1268" y="415"/>
                  </a:lnTo>
                  <a:lnTo>
                    <a:pt x="1552" y="229"/>
                  </a:lnTo>
                  <a:lnTo>
                    <a:pt x="1579" y="195"/>
                  </a:lnTo>
                  <a:lnTo>
                    <a:pt x="1611" y="170"/>
                  </a:lnTo>
                  <a:lnTo>
                    <a:pt x="1642" y="143"/>
                  </a:lnTo>
                  <a:lnTo>
                    <a:pt x="1673" y="115"/>
                  </a:lnTo>
                  <a:lnTo>
                    <a:pt x="1704" y="83"/>
                  </a:lnTo>
                  <a:lnTo>
                    <a:pt x="1738" y="56"/>
                  </a:lnTo>
                  <a:lnTo>
                    <a:pt x="1766" y="28"/>
                  </a:lnTo>
                  <a:lnTo>
                    <a:pt x="1801" y="0"/>
                  </a:lnTo>
                  <a:lnTo>
                    <a:pt x="1265" y="232"/>
                  </a:lnTo>
                  <a:lnTo>
                    <a:pt x="819" y="561"/>
                  </a:lnTo>
                  <a:lnTo>
                    <a:pt x="470" y="941"/>
                  </a:lnTo>
                  <a:lnTo>
                    <a:pt x="222" y="1348"/>
                  </a:lnTo>
                  <a:lnTo>
                    <a:pt x="59" y="1736"/>
                  </a:lnTo>
                  <a:lnTo>
                    <a:pt x="0" y="2074"/>
                  </a:lnTo>
                  <a:lnTo>
                    <a:pt x="38" y="2337"/>
                  </a:lnTo>
                  <a:lnTo>
                    <a:pt x="176" y="2489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47"/>
            <p:cNvSpPr/>
            <p:nvPr/>
          </p:nvSpPr>
          <p:spPr>
            <a:xfrm>
              <a:off x="3783960" y="5055840"/>
              <a:ext cx="298080" cy="596880"/>
            </a:xfrm>
            <a:custGeom>
              <a:avLst/>
              <a:gdLst>
                <a:gd name="textAreaLeft" fmla="*/ 0 w 298080"/>
                <a:gd name="textAreaRight" fmla="*/ 298440 w 298080"/>
                <a:gd name="textAreaTop" fmla="*/ 0 h 596880"/>
                <a:gd name="textAreaBottom" fmla="*/ 596880 h 596880"/>
              </a:gdLst>
              <a:ahLst/>
              <a:rect l="textAreaLeft" t="textAreaTop" r="textAreaRight" b="textAreaBottom"/>
              <a:pathLst>
                <a:path w="1379" h="2523">
                  <a:moveTo>
                    <a:pt x="297" y="2523"/>
                  </a:moveTo>
                  <a:lnTo>
                    <a:pt x="283" y="2291"/>
                  </a:lnTo>
                  <a:lnTo>
                    <a:pt x="325" y="2029"/>
                  </a:lnTo>
                  <a:lnTo>
                    <a:pt x="408" y="1738"/>
                  </a:lnTo>
                  <a:lnTo>
                    <a:pt x="539" y="1435"/>
                  </a:lnTo>
                  <a:lnTo>
                    <a:pt x="688" y="1119"/>
                  </a:lnTo>
                  <a:lnTo>
                    <a:pt x="858" y="813"/>
                  </a:lnTo>
                  <a:lnTo>
                    <a:pt x="1044" y="514"/>
                  </a:lnTo>
                  <a:lnTo>
                    <a:pt x="1227" y="238"/>
                  </a:lnTo>
                  <a:lnTo>
                    <a:pt x="1241" y="208"/>
                  </a:lnTo>
                  <a:lnTo>
                    <a:pt x="1265" y="176"/>
                  </a:lnTo>
                  <a:lnTo>
                    <a:pt x="1282" y="145"/>
                  </a:lnTo>
                  <a:lnTo>
                    <a:pt x="1303" y="117"/>
                  </a:lnTo>
                  <a:lnTo>
                    <a:pt x="1317" y="87"/>
                  </a:lnTo>
                  <a:lnTo>
                    <a:pt x="1342" y="59"/>
                  </a:lnTo>
                  <a:lnTo>
                    <a:pt x="1359" y="27"/>
                  </a:lnTo>
                  <a:lnTo>
                    <a:pt x="1379" y="0"/>
                  </a:lnTo>
                  <a:lnTo>
                    <a:pt x="881" y="269"/>
                  </a:lnTo>
                  <a:lnTo>
                    <a:pt x="505" y="622"/>
                  </a:lnTo>
                  <a:lnTo>
                    <a:pt x="236" y="1012"/>
                  </a:lnTo>
                  <a:lnTo>
                    <a:pt x="73" y="1417"/>
                  </a:lnTo>
                  <a:lnTo>
                    <a:pt x="0" y="1801"/>
                  </a:lnTo>
                  <a:lnTo>
                    <a:pt x="21" y="2136"/>
                  </a:lnTo>
                  <a:lnTo>
                    <a:pt x="121" y="2385"/>
                  </a:lnTo>
                  <a:lnTo>
                    <a:pt x="297" y="2523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8"/>
            <p:cNvSpPr/>
            <p:nvPr/>
          </p:nvSpPr>
          <p:spPr>
            <a:xfrm>
              <a:off x="3786480" y="5055840"/>
              <a:ext cx="295200" cy="58860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588600"/>
                <a:gd name="textAreaBottom" fmla="*/ 588960 h 588600"/>
              </a:gdLst>
              <a:ahLst/>
              <a:rect l="textAreaLeft" t="textAreaTop" r="textAreaRight" b="textAreaBottom"/>
              <a:pathLst>
                <a:path w="1368" h="2489">
                  <a:moveTo>
                    <a:pt x="269" y="2489"/>
                  </a:moveTo>
                  <a:lnTo>
                    <a:pt x="248" y="2250"/>
                  </a:lnTo>
                  <a:lnTo>
                    <a:pt x="289" y="1983"/>
                  </a:lnTo>
                  <a:lnTo>
                    <a:pt x="373" y="1694"/>
                  </a:lnTo>
                  <a:lnTo>
                    <a:pt x="497" y="1386"/>
                  </a:lnTo>
                  <a:lnTo>
                    <a:pt x="646" y="1075"/>
                  </a:lnTo>
                  <a:lnTo>
                    <a:pt x="822" y="774"/>
                  </a:lnTo>
                  <a:lnTo>
                    <a:pt x="1006" y="487"/>
                  </a:lnTo>
                  <a:lnTo>
                    <a:pt x="1202" y="235"/>
                  </a:lnTo>
                  <a:lnTo>
                    <a:pt x="1219" y="203"/>
                  </a:lnTo>
                  <a:lnTo>
                    <a:pt x="1244" y="173"/>
                  </a:lnTo>
                  <a:lnTo>
                    <a:pt x="1261" y="145"/>
                  </a:lnTo>
                  <a:lnTo>
                    <a:pt x="1285" y="117"/>
                  </a:lnTo>
                  <a:lnTo>
                    <a:pt x="1303" y="87"/>
                  </a:lnTo>
                  <a:lnTo>
                    <a:pt x="1323" y="59"/>
                  </a:lnTo>
                  <a:lnTo>
                    <a:pt x="1348" y="27"/>
                  </a:lnTo>
                  <a:lnTo>
                    <a:pt x="1368" y="0"/>
                  </a:lnTo>
                  <a:lnTo>
                    <a:pt x="885" y="266"/>
                  </a:lnTo>
                  <a:lnTo>
                    <a:pt x="514" y="612"/>
                  </a:lnTo>
                  <a:lnTo>
                    <a:pt x="245" y="998"/>
                  </a:lnTo>
                  <a:lnTo>
                    <a:pt x="79" y="1403"/>
                  </a:lnTo>
                  <a:lnTo>
                    <a:pt x="0" y="1783"/>
                  </a:lnTo>
                  <a:lnTo>
                    <a:pt x="10" y="2112"/>
                  </a:lnTo>
                  <a:lnTo>
                    <a:pt x="99" y="2354"/>
                  </a:lnTo>
                  <a:lnTo>
                    <a:pt x="269" y="2489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49"/>
            <p:cNvSpPr/>
            <p:nvPr/>
          </p:nvSpPr>
          <p:spPr>
            <a:xfrm>
              <a:off x="3787920" y="5055840"/>
              <a:ext cx="294120" cy="578520"/>
            </a:xfrm>
            <a:custGeom>
              <a:avLst/>
              <a:gdLst>
                <a:gd name="textAreaLeft" fmla="*/ 0 w 294120"/>
                <a:gd name="textAreaRight" fmla="*/ 294480 w 294120"/>
                <a:gd name="textAreaTop" fmla="*/ 0 h 578520"/>
                <a:gd name="textAreaBottom" fmla="*/ 578880 h 578520"/>
              </a:gdLst>
              <a:ahLst/>
              <a:rect l="textAreaLeft" t="textAreaTop" r="textAreaRight" b="textAreaBottom"/>
              <a:pathLst>
                <a:path w="1358" h="2447">
                  <a:moveTo>
                    <a:pt x="249" y="2447"/>
                  </a:moveTo>
                  <a:lnTo>
                    <a:pt x="224" y="2205"/>
                  </a:lnTo>
                  <a:lnTo>
                    <a:pt x="259" y="1936"/>
                  </a:lnTo>
                  <a:lnTo>
                    <a:pt x="339" y="1638"/>
                  </a:lnTo>
                  <a:lnTo>
                    <a:pt x="460" y="1337"/>
                  </a:lnTo>
                  <a:lnTo>
                    <a:pt x="608" y="1030"/>
                  </a:lnTo>
                  <a:lnTo>
                    <a:pt x="785" y="739"/>
                  </a:lnTo>
                  <a:lnTo>
                    <a:pt x="978" y="470"/>
                  </a:lnTo>
                  <a:lnTo>
                    <a:pt x="1186" y="235"/>
                  </a:lnTo>
                  <a:lnTo>
                    <a:pt x="1203" y="203"/>
                  </a:lnTo>
                  <a:lnTo>
                    <a:pt x="1223" y="173"/>
                  </a:lnTo>
                  <a:lnTo>
                    <a:pt x="1247" y="145"/>
                  </a:lnTo>
                  <a:lnTo>
                    <a:pt x="1269" y="117"/>
                  </a:lnTo>
                  <a:lnTo>
                    <a:pt x="1293" y="87"/>
                  </a:lnTo>
                  <a:lnTo>
                    <a:pt x="1313" y="59"/>
                  </a:lnTo>
                  <a:lnTo>
                    <a:pt x="1338" y="27"/>
                  </a:lnTo>
                  <a:lnTo>
                    <a:pt x="1358" y="0"/>
                  </a:lnTo>
                  <a:lnTo>
                    <a:pt x="881" y="266"/>
                  </a:lnTo>
                  <a:lnTo>
                    <a:pt x="518" y="608"/>
                  </a:lnTo>
                  <a:lnTo>
                    <a:pt x="252" y="992"/>
                  </a:lnTo>
                  <a:lnTo>
                    <a:pt x="86" y="1386"/>
                  </a:lnTo>
                  <a:lnTo>
                    <a:pt x="0" y="1755"/>
                  </a:lnTo>
                  <a:lnTo>
                    <a:pt x="7" y="2080"/>
                  </a:lnTo>
                  <a:lnTo>
                    <a:pt x="86" y="2316"/>
                  </a:lnTo>
                  <a:lnTo>
                    <a:pt x="249" y="2447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50"/>
            <p:cNvSpPr/>
            <p:nvPr/>
          </p:nvSpPr>
          <p:spPr>
            <a:xfrm>
              <a:off x="3790440" y="5055840"/>
              <a:ext cx="291600" cy="571320"/>
            </a:xfrm>
            <a:custGeom>
              <a:avLst/>
              <a:gdLst>
                <a:gd name="textAreaLeft" fmla="*/ 0 w 291600"/>
                <a:gd name="textAreaRight" fmla="*/ 291960 w 29160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1347" h="2412">
                  <a:moveTo>
                    <a:pt x="213" y="2412"/>
                  </a:moveTo>
                  <a:lnTo>
                    <a:pt x="190" y="2160"/>
                  </a:lnTo>
                  <a:lnTo>
                    <a:pt x="221" y="1887"/>
                  </a:lnTo>
                  <a:lnTo>
                    <a:pt x="297" y="1590"/>
                  </a:lnTo>
                  <a:lnTo>
                    <a:pt x="417" y="1286"/>
                  </a:lnTo>
                  <a:lnTo>
                    <a:pt x="567" y="981"/>
                  </a:lnTo>
                  <a:lnTo>
                    <a:pt x="746" y="698"/>
                  </a:lnTo>
                  <a:lnTo>
                    <a:pt x="942" y="436"/>
                  </a:lnTo>
                  <a:lnTo>
                    <a:pt x="1161" y="225"/>
                  </a:lnTo>
                  <a:lnTo>
                    <a:pt x="1181" y="194"/>
                  </a:lnTo>
                  <a:lnTo>
                    <a:pt x="1206" y="166"/>
                  </a:lnTo>
                  <a:lnTo>
                    <a:pt x="1226" y="142"/>
                  </a:lnTo>
                  <a:lnTo>
                    <a:pt x="1253" y="114"/>
                  </a:lnTo>
                  <a:lnTo>
                    <a:pt x="1278" y="82"/>
                  </a:lnTo>
                  <a:lnTo>
                    <a:pt x="1299" y="55"/>
                  </a:lnTo>
                  <a:lnTo>
                    <a:pt x="1323" y="27"/>
                  </a:lnTo>
                  <a:lnTo>
                    <a:pt x="1347" y="0"/>
                  </a:lnTo>
                  <a:lnTo>
                    <a:pt x="884" y="263"/>
                  </a:lnTo>
                  <a:lnTo>
                    <a:pt x="532" y="605"/>
                  </a:lnTo>
                  <a:lnTo>
                    <a:pt x="265" y="978"/>
                  </a:lnTo>
                  <a:lnTo>
                    <a:pt x="92" y="1369"/>
                  </a:lnTo>
                  <a:lnTo>
                    <a:pt x="3" y="1732"/>
                  </a:lnTo>
                  <a:lnTo>
                    <a:pt x="0" y="2052"/>
                  </a:lnTo>
                  <a:lnTo>
                    <a:pt x="69" y="2285"/>
                  </a:lnTo>
                  <a:lnTo>
                    <a:pt x="213" y="2412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51"/>
            <p:cNvSpPr/>
            <p:nvPr/>
          </p:nvSpPr>
          <p:spPr>
            <a:xfrm>
              <a:off x="3790440" y="5055840"/>
              <a:ext cx="291600" cy="560160"/>
            </a:xfrm>
            <a:custGeom>
              <a:avLst/>
              <a:gdLst>
                <a:gd name="textAreaLeft" fmla="*/ 0 w 291600"/>
                <a:gd name="textAreaRight" fmla="*/ 291960 w 291600"/>
                <a:gd name="textAreaTop" fmla="*/ 0 h 560160"/>
                <a:gd name="textAreaBottom" fmla="*/ 560520 h 560160"/>
              </a:gdLst>
              <a:ahLst/>
              <a:rect l="textAreaLeft" t="textAreaTop" r="textAreaRight" b="textAreaBottom"/>
              <a:pathLst>
                <a:path w="1347" h="2368">
                  <a:moveTo>
                    <a:pt x="207" y="2368"/>
                  </a:moveTo>
                  <a:lnTo>
                    <a:pt x="176" y="2115"/>
                  </a:lnTo>
                  <a:lnTo>
                    <a:pt x="204" y="1842"/>
                  </a:lnTo>
                  <a:lnTo>
                    <a:pt x="273" y="1538"/>
                  </a:lnTo>
                  <a:lnTo>
                    <a:pt x="389" y="1237"/>
                  </a:lnTo>
                  <a:lnTo>
                    <a:pt x="538" y="937"/>
                  </a:lnTo>
                  <a:lnTo>
                    <a:pt x="725" y="663"/>
                  </a:lnTo>
                  <a:lnTo>
                    <a:pt x="925" y="418"/>
                  </a:lnTo>
                  <a:lnTo>
                    <a:pt x="1154" y="225"/>
                  </a:lnTo>
                  <a:lnTo>
                    <a:pt x="1178" y="194"/>
                  </a:lnTo>
                  <a:lnTo>
                    <a:pt x="1198" y="166"/>
                  </a:lnTo>
                  <a:lnTo>
                    <a:pt x="1223" y="142"/>
                  </a:lnTo>
                  <a:lnTo>
                    <a:pt x="1250" y="114"/>
                  </a:lnTo>
                  <a:lnTo>
                    <a:pt x="1271" y="82"/>
                  </a:lnTo>
                  <a:lnTo>
                    <a:pt x="1296" y="55"/>
                  </a:lnTo>
                  <a:lnTo>
                    <a:pt x="1323" y="27"/>
                  </a:lnTo>
                  <a:lnTo>
                    <a:pt x="1347" y="0"/>
                  </a:lnTo>
                  <a:lnTo>
                    <a:pt x="898" y="263"/>
                  </a:lnTo>
                  <a:lnTo>
                    <a:pt x="549" y="594"/>
                  </a:lnTo>
                  <a:lnTo>
                    <a:pt x="282" y="964"/>
                  </a:lnTo>
                  <a:lnTo>
                    <a:pt x="106" y="1351"/>
                  </a:lnTo>
                  <a:lnTo>
                    <a:pt x="14" y="1711"/>
                  </a:lnTo>
                  <a:lnTo>
                    <a:pt x="0" y="2022"/>
                  </a:lnTo>
                  <a:lnTo>
                    <a:pt x="61" y="2247"/>
                  </a:lnTo>
                  <a:lnTo>
                    <a:pt x="207" y="2368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52"/>
            <p:cNvSpPr/>
            <p:nvPr/>
          </p:nvSpPr>
          <p:spPr>
            <a:xfrm>
              <a:off x="3983760" y="5762520"/>
              <a:ext cx="500040" cy="44064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440640"/>
                <a:gd name="textAreaBottom" fmla="*/ 441000 h 440640"/>
              </a:gdLst>
              <a:ahLst/>
              <a:rect l="textAreaLeft" t="textAreaTop" r="textAreaRight" b="textAreaBottom"/>
              <a:pathLst>
                <a:path w="2319" h="1860">
                  <a:moveTo>
                    <a:pt x="0" y="163"/>
                  </a:moveTo>
                  <a:lnTo>
                    <a:pt x="270" y="208"/>
                  </a:lnTo>
                  <a:lnTo>
                    <a:pt x="553" y="319"/>
                  </a:lnTo>
                  <a:lnTo>
                    <a:pt x="840" y="478"/>
                  </a:lnTo>
                  <a:lnTo>
                    <a:pt x="1123" y="682"/>
                  </a:lnTo>
                  <a:lnTo>
                    <a:pt x="1399" y="899"/>
                  </a:lnTo>
                  <a:lnTo>
                    <a:pt x="1663" y="1148"/>
                  </a:lnTo>
                  <a:lnTo>
                    <a:pt x="1908" y="1400"/>
                  </a:lnTo>
                  <a:lnTo>
                    <a:pt x="2133" y="1653"/>
                  </a:lnTo>
                  <a:lnTo>
                    <a:pt x="2153" y="1673"/>
                  </a:lnTo>
                  <a:lnTo>
                    <a:pt x="2177" y="1701"/>
                  </a:lnTo>
                  <a:lnTo>
                    <a:pt x="2198" y="1728"/>
                  </a:lnTo>
                  <a:lnTo>
                    <a:pt x="2225" y="1756"/>
                  </a:lnTo>
                  <a:lnTo>
                    <a:pt x="2250" y="1777"/>
                  </a:lnTo>
                  <a:lnTo>
                    <a:pt x="2271" y="1805"/>
                  </a:lnTo>
                  <a:lnTo>
                    <a:pt x="2295" y="1832"/>
                  </a:lnTo>
                  <a:lnTo>
                    <a:pt x="2319" y="1860"/>
                  </a:lnTo>
                  <a:lnTo>
                    <a:pt x="2285" y="1310"/>
                  </a:lnTo>
                  <a:lnTo>
                    <a:pt x="2095" y="861"/>
                  </a:lnTo>
                  <a:lnTo>
                    <a:pt x="1790" y="501"/>
                  </a:lnTo>
                  <a:lnTo>
                    <a:pt x="1417" y="239"/>
                  </a:lnTo>
                  <a:lnTo>
                    <a:pt x="1006" y="69"/>
                  </a:lnTo>
                  <a:lnTo>
                    <a:pt x="604" y="0"/>
                  </a:lnTo>
                  <a:lnTo>
                    <a:pt x="256" y="28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53"/>
            <p:cNvSpPr/>
            <p:nvPr/>
          </p:nvSpPr>
          <p:spPr>
            <a:xfrm>
              <a:off x="3996720" y="5763600"/>
              <a:ext cx="487440" cy="439200"/>
            </a:xfrm>
            <a:custGeom>
              <a:avLst/>
              <a:gdLst>
                <a:gd name="textAreaLeft" fmla="*/ 0 w 487440"/>
                <a:gd name="textAreaRight" fmla="*/ 487800 w 487440"/>
                <a:gd name="textAreaTop" fmla="*/ 0 h 439200"/>
                <a:gd name="textAreaBottom" fmla="*/ 439560 h 439200"/>
              </a:gdLst>
              <a:ahLst/>
              <a:rect l="textAreaLeft" t="textAreaTop" r="textAreaRight" b="textAreaBottom"/>
              <a:pathLst>
                <a:path w="2260" h="1849">
                  <a:moveTo>
                    <a:pt x="0" y="148"/>
                  </a:moveTo>
                  <a:lnTo>
                    <a:pt x="273" y="193"/>
                  </a:lnTo>
                  <a:lnTo>
                    <a:pt x="567" y="297"/>
                  </a:lnTo>
                  <a:lnTo>
                    <a:pt x="856" y="453"/>
                  </a:lnTo>
                  <a:lnTo>
                    <a:pt x="1140" y="649"/>
                  </a:lnTo>
                  <a:lnTo>
                    <a:pt x="1414" y="871"/>
                  </a:lnTo>
                  <a:lnTo>
                    <a:pt x="1669" y="1120"/>
                  </a:lnTo>
                  <a:lnTo>
                    <a:pt x="1887" y="1372"/>
                  </a:lnTo>
                  <a:lnTo>
                    <a:pt x="2088" y="1628"/>
                  </a:lnTo>
                  <a:lnTo>
                    <a:pt x="2105" y="1656"/>
                  </a:lnTo>
                  <a:lnTo>
                    <a:pt x="2125" y="1679"/>
                  </a:lnTo>
                  <a:lnTo>
                    <a:pt x="2146" y="1708"/>
                  </a:lnTo>
                  <a:lnTo>
                    <a:pt x="2170" y="1735"/>
                  </a:lnTo>
                  <a:lnTo>
                    <a:pt x="2191" y="1763"/>
                  </a:lnTo>
                  <a:lnTo>
                    <a:pt x="2212" y="1790"/>
                  </a:lnTo>
                  <a:lnTo>
                    <a:pt x="2236" y="1814"/>
                  </a:lnTo>
                  <a:lnTo>
                    <a:pt x="2260" y="1849"/>
                  </a:lnTo>
                  <a:lnTo>
                    <a:pt x="2222" y="1313"/>
                  </a:lnTo>
                  <a:lnTo>
                    <a:pt x="2031" y="867"/>
                  </a:lnTo>
                  <a:lnTo>
                    <a:pt x="1731" y="508"/>
                  </a:lnTo>
                  <a:lnTo>
                    <a:pt x="1365" y="245"/>
                  </a:lnTo>
                  <a:lnTo>
                    <a:pt x="971" y="76"/>
                  </a:lnTo>
                  <a:lnTo>
                    <a:pt x="584" y="0"/>
                  </a:lnTo>
                  <a:lnTo>
                    <a:pt x="242" y="21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54"/>
            <p:cNvSpPr/>
            <p:nvPr/>
          </p:nvSpPr>
          <p:spPr>
            <a:xfrm>
              <a:off x="4006800" y="5765400"/>
              <a:ext cx="477000" cy="437760"/>
            </a:xfrm>
            <a:custGeom>
              <a:avLst/>
              <a:gdLst>
                <a:gd name="textAreaLeft" fmla="*/ 0 w 477000"/>
                <a:gd name="textAreaRight" fmla="*/ 477000 w 47700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208" h="1842">
                  <a:moveTo>
                    <a:pt x="0" y="131"/>
                  </a:moveTo>
                  <a:lnTo>
                    <a:pt x="283" y="172"/>
                  </a:lnTo>
                  <a:lnTo>
                    <a:pt x="580" y="279"/>
                  </a:lnTo>
                  <a:lnTo>
                    <a:pt x="878" y="432"/>
                  </a:lnTo>
                  <a:lnTo>
                    <a:pt x="1161" y="629"/>
                  </a:lnTo>
                  <a:lnTo>
                    <a:pt x="1426" y="849"/>
                  </a:lnTo>
                  <a:lnTo>
                    <a:pt x="1668" y="1102"/>
                  </a:lnTo>
                  <a:lnTo>
                    <a:pt x="1876" y="1355"/>
                  </a:lnTo>
                  <a:lnTo>
                    <a:pt x="2042" y="1614"/>
                  </a:lnTo>
                  <a:lnTo>
                    <a:pt x="2063" y="1641"/>
                  </a:lnTo>
                  <a:lnTo>
                    <a:pt x="2083" y="1669"/>
                  </a:lnTo>
                  <a:lnTo>
                    <a:pt x="2100" y="1696"/>
                  </a:lnTo>
                  <a:lnTo>
                    <a:pt x="2125" y="1728"/>
                  </a:lnTo>
                  <a:lnTo>
                    <a:pt x="2143" y="1756"/>
                  </a:lnTo>
                  <a:lnTo>
                    <a:pt x="2163" y="1783"/>
                  </a:lnTo>
                  <a:lnTo>
                    <a:pt x="2187" y="1807"/>
                  </a:lnTo>
                  <a:lnTo>
                    <a:pt x="2208" y="1842"/>
                  </a:lnTo>
                  <a:lnTo>
                    <a:pt x="2163" y="1320"/>
                  </a:lnTo>
                  <a:lnTo>
                    <a:pt x="1976" y="881"/>
                  </a:lnTo>
                  <a:lnTo>
                    <a:pt x="1679" y="529"/>
                  </a:lnTo>
                  <a:lnTo>
                    <a:pt x="1323" y="262"/>
                  </a:lnTo>
                  <a:lnTo>
                    <a:pt x="936" y="83"/>
                  </a:lnTo>
                  <a:lnTo>
                    <a:pt x="562" y="0"/>
                  </a:lnTo>
                  <a:lnTo>
                    <a:pt x="234" y="14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5"/>
            <p:cNvSpPr/>
            <p:nvPr/>
          </p:nvSpPr>
          <p:spPr>
            <a:xfrm>
              <a:off x="4018680" y="5768280"/>
              <a:ext cx="465120" cy="43488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153" h="1832">
                  <a:moveTo>
                    <a:pt x="0" y="118"/>
                  </a:moveTo>
                  <a:lnTo>
                    <a:pt x="290" y="153"/>
                  </a:lnTo>
                  <a:lnTo>
                    <a:pt x="598" y="256"/>
                  </a:lnTo>
                  <a:lnTo>
                    <a:pt x="898" y="407"/>
                  </a:lnTo>
                  <a:lnTo>
                    <a:pt x="1181" y="602"/>
                  </a:lnTo>
                  <a:lnTo>
                    <a:pt x="1445" y="822"/>
                  </a:lnTo>
                  <a:lnTo>
                    <a:pt x="1679" y="1075"/>
                  </a:lnTo>
                  <a:lnTo>
                    <a:pt x="1863" y="1331"/>
                  </a:lnTo>
                  <a:lnTo>
                    <a:pt x="1998" y="1593"/>
                  </a:lnTo>
                  <a:lnTo>
                    <a:pt x="2015" y="1617"/>
                  </a:lnTo>
                  <a:lnTo>
                    <a:pt x="2032" y="1652"/>
                  </a:lnTo>
                  <a:lnTo>
                    <a:pt x="2053" y="1683"/>
                  </a:lnTo>
                  <a:lnTo>
                    <a:pt x="2074" y="1714"/>
                  </a:lnTo>
                  <a:lnTo>
                    <a:pt x="2091" y="1742"/>
                  </a:lnTo>
                  <a:lnTo>
                    <a:pt x="2115" y="1773"/>
                  </a:lnTo>
                  <a:lnTo>
                    <a:pt x="2132" y="1797"/>
                  </a:lnTo>
                  <a:lnTo>
                    <a:pt x="2153" y="1832"/>
                  </a:lnTo>
                  <a:lnTo>
                    <a:pt x="2102" y="1317"/>
                  </a:lnTo>
                  <a:lnTo>
                    <a:pt x="1915" y="885"/>
                  </a:lnTo>
                  <a:lnTo>
                    <a:pt x="1627" y="536"/>
                  </a:lnTo>
                  <a:lnTo>
                    <a:pt x="1279" y="269"/>
                  </a:lnTo>
                  <a:lnTo>
                    <a:pt x="902" y="87"/>
                  </a:lnTo>
                  <a:lnTo>
                    <a:pt x="539" y="0"/>
                  </a:lnTo>
                  <a:lnTo>
                    <a:pt x="221" y="4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56"/>
            <p:cNvSpPr/>
            <p:nvPr/>
          </p:nvSpPr>
          <p:spPr>
            <a:xfrm>
              <a:off x="4030200" y="5769360"/>
              <a:ext cx="453600" cy="433440"/>
            </a:xfrm>
            <a:custGeom>
              <a:avLst/>
              <a:gdLst>
                <a:gd name="textAreaLeft" fmla="*/ 0 w 453600"/>
                <a:gd name="textAreaRight" fmla="*/ 453960 w 453600"/>
                <a:gd name="textAreaTop" fmla="*/ 0 h 433440"/>
                <a:gd name="textAreaBottom" fmla="*/ 433800 h 433440"/>
              </a:gdLst>
              <a:ahLst/>
              <a:rect l="textAreaLeft" t="textAreaTop" r="textAreaRight" b="textAreaBottom"/>
              <a:pathLst>
                <a:path w="2101" h="1825">
                  <a:moveTo>
                    <a:pt x="0" y="103"/>
                  </a:moveTo>
                  <a:lnTo>
                    <a:pt x="304" y="141"/>
                  </a:lnTo>
                  <a:lnTo>
                    <a:pt x="611" y="238"/>
                  </a:lnTo>
                  <a:lnTo>
                    <a:pt x="916" y="388"/>
                  </a:lnTo>
                  <a:lnTo>
                    <a:pt x="1206" y="581"/>
                  </a:lnTo>
                  <a:lnTo>
                    <a:pt x="1465" y="802"/>
                  </a:lnTo>
                  <a:lnTo>
                    <a:pt x="1682" y="1051"/>
                  </a:lnTo>
                  <a:lnTo>
                    <a:pt x="1852" y="1310"/>
                  </a:lnTo>
                  <a:lnTo>
                    <a:pt x="1956" y="1576"/>
                  </a:lnTo>
                  <a:lnTo>
                    <a:pt x="1966" y="1604"/>
                  </a:lnTo>
                  <a:lnTo>
                    <a:pt x="1990" y="1638"/>
                  </a:lnTo>
                  <a:lnTo>
                    <a:pt x="2004" y="1666"/>
                  </a:lnTo>
                  <a:lnTo>
                    <a:pt x="2025" y="1701"/>
                  </a:lnTo>
                  <a:lnTo>
                    <a:pt x="2045" y="1728"/>
                  </a:lnTo>
                  <a:lnTo>
                    <a:pt x="2063" y="1759"/>
                  </a:lnTo>
                  <a:lnTo>
                    <a:pt x="2080" y="1790"/>
                  </a:lnTo>
                  <a:lnTo>
                    <a:pt x="2101" y="1825"/>
                  </a:lnTo>
                  <a:lnTo>
                    <a:pt x="2050" y="1324"/>
                  </a:lnTo>
                  <a:lnTo>
                    <a:pt x="1859" y="902"/>
                  </a:lnTo>
                  <a:lnTo>
                    <a:pt x="1572" y="550"/>
                  </a:lnTo>
                  <a:lnTo>
                    <a:pt x="1233" y="280"/>
                  </a:lnTo>
                  <a:lnTo>
                    <a:pt x="870" y="94"/>
                  </a:lnTo>
                  <a:lnTo>
                    <a:pt x="518" y="0"/>
                  </a:lnTo>
                  <a:lnTo>
                    <a:pt x="214" y="0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57"/>
            <p:cNvSpPr/>
            <p:nvPr/>
          </p:nvSpPr>
          <p:spPr>
            <a:xfrm>
              <a:off x="3926520" y="5813640"/>
              <a:ext cx="457560" cy="595080"/>
            </a:xfrm>
            <a:custGeom>
              <a:avLst/>
              <a:gdLst>
                <a:gd name="textAreaLeft" fmla="*/ 0 w 457560"/>
                <a:gd name="textAreaRight" fmla="*/ 457920 w 457560"/>
                <a:gd name="textAreaTop" fmla="*/ 0 h 595080"/>
                <a:gd name="textAreaBottom" fmla="*/ 595440 h 595080"/>
              </a:gdLst>
              <a:ahLst/>
              <a:rect l="textAreaLeft" t="textAreaTop" r="textAreaRight" b="textAreaBottom"/>
              <a:pathLst>
                <a:path w="2116" h="2512">
                  <a:moveTo>
                    <a:pt x="0" y="196"/>
                  </a:moveTo>
                  <a:lnTo>
                    <a:pt x="267" y="265"/>
                  </a:lnTo>
                  <a:lnTo>
                    <a:pt x="533" y="418"/>
                  </a:lnTo>
                  <a:lnTo>
                    <a:pt x="798" y="639"/>
                  </a:lnTo>
                  <a:lnTo>
                    <a:pt x="1054" y="912"/>
                  </a:lnTo>
                  <a:lnTo>
                    <a:pt x="1296" y="1212"/>
                  </a:lnTo>
                  <a:lnTo>
                    <a:pt x="1521" y="1548"/>
                  </a:lnTo>
                  <a:lnTo>
                    <a:pt x="1728" y="1886"/>
                  </a:lnTo>
                  <a:lnTo>
                    <a:pt x="1918" y="2226"/>
                  </a:lnTo>
                  <a:lnTo>
                    <a:pt x="1932" y="2257"/>
                  </a:lnTo>
                  <a:lnTo>
                    <a:pt x="1953" y="2298"/>
                  </a:lnTo>
                  <a:lnTo>
                    <a:pt x="1970" y="2329"/>
                  </a:lnTo>
                  <a:lnTo>
                    <a:pt x="1995" y="2370"/>
                  </a:lnTo>
                  <a:lnTo>
                    <a:pt x="2012" y="2402"/>
                  </a:lnTo>
                  <a:lnTo>
                    <a:pt x="2036" y="2436"/>
                  </a:lnTo>
                  <a:lnTo>
                    <a:pt x="2053" y="2474"/>
                  </a:lnTo>
                  <a:lnTo>
                    <a:pt x="2081" y="2512"/>
                  </a:lnTo>
                  <a:lnTo>
                    <a:pt x="2116" y="1786"/>
                  </a:lnTo>
                  <a:lnTo>
                    <a:pt x="1991" y="1181"/>
                  </a:lnTo>
                  <a:lnTo>
                    <a:pt x="1736" y="697"/>
                  </a:lnTo>
                  <a:lnTo>
                    <a:pt x="1397" y="334"/>
                  </a:lnTo>
                  <a:lnTo>
                    <a:pt x="1013" y="103"/>
                  </a:lnTo>
                  <a:lnTo>
                    <a:pt x="625" y="0"/>
                  </a:lnTo>
                  <a:lnTo>
                    <a:pt x="270" y="31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58"/>
            <p:cNvSpPr/>
            <p:nvPr/>
          </p:nvSpPr>
          <p:spPr>
            <a:xfrm>
              <a:off x="3939480" y="5817960"/>
              <a:ext cx="442080" cy="59112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591120"/>
                <a:gd name="textAreaBottom" fmla="*/ 591120 h 591120"/>
              </a:gdLst>
              <a:ahLst/>
              <a:rect l="textAreaLeft" t="textAreaTop" r="textAreaRight" b="textAreaBottom"/>
              <a:pathLst>
                <a:path w="2045" h="2495">
                  <a:moveTo>
                    <a:pt x="0" y="179"/>
                  </a:moveTo>
                  <a:lnTo>
                    <a:pt x="265" y="248"/>
                  </a:lnTo>
                  <a:lnTo>
                    <a:pt x="542" y="397"/>
                  </a:lnTo>
                  <a:lnTo>
                    <a:pt x="804" y="608"/>
                  </a:lnTo>
                  <a:lnTo>
                    <a:pt x="1068" y="878"/>
                  </a:lnTo>
                  <a:lnTo>
                    <a:pt x="1302" y="1181"/>
                  </a:lnTo>
                  <a:lnTo>
                    <a:pt x="1517" y="1517"/>
                  </a:lnTo>
                  <a:lnTo>
                    <a:pt x="1707" y="1860"/>
                  </a:lnTo>
                  <a:lnTo>
                    <a:pt x="1863" y="2198"/>
                  </a:lnTo>
                  <a:lnTo>
                    <a:pt x="1883" y="2232"/>
                  </a:lnTo>
                  <a:lnTo>
                    <a:pt x="1901" y="2267"/>
                  </a:lnTo>
                  <a:lnTo>
                    <a:pt x="1918" y="2301"/>
                  </a:lnTo>
                  <a:lnTo>
                    <a:pt x="1942" y="2344"/>
                  </a:lnTo>
                  <a:lnTo>
                    <a:pt x="1959" y="2378"/>
                  </a:lnTo>
                  <a:lnTo>
                    <a:pt x="1976" y="2416"/>
                  </a:lnTo>
                  <a:lnTo>
                    <a:pt x="1993" y="2457"/>
                  </a:lnTo>
                  <a:lnTo>
                    <a:pt x="2018" y="2495"/>
                  </a:lnTo>
                  <a:lnTo>
                    <a:pt x="2045" y="1786"/>
                  </a:lnTo>
                  <a:lnTo>
                    <a:pt x="1918" y="1189"/>
                  </a:lnTo>
                  <a:lnTo>
                    <a:pt x="1673" y="705"/>
                  </a:lnTo>
                  <a:lnTo>
                    <a:pt x="1344" y="346"/>
                  </a:lnTo>
                  <a:lnTo>
                    <a:pt x="974" y="104"/>
                  </a:lnTo>
                  <a:lnTo>
                    <a:pt x="597" y="0"/>
                  </a:lnTo>
                  <a:lnTo>
                    <a:pt x="259" y="17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59"/>
            <p:cNvSpPr/>
            <p:nvPr/>
          </p:nvSpPr>
          <p:spPr>
            <a:xfrm>
              <a:off x="3951360" y="5820840"/>
              <a:ext cx="428760" cy="58824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588240"/>
                <a:gd name="textAreaBottom" fmla="*/ 588600 h 588240"/>
              </a:gdLst>
              <a:ahLst/>
              <a:rect l="textAreaLeft" t="textAreaTop" r="textAreaRight" b="textAreaBottom"/>
              <a:pathLst>
                <a:path w="1987" h="2484">
                  <a:moveTo>
                    <a:pt x="0" y="162"/>
                  </a:moveTo>
                  <a:lnTo>
                    <a:pt x="276" y="224"/>
                  </a:lnTo>
                  <a:lnTo>
                    <a:pt x="559" y="366"/>
                  </a:lnTo>
                  <a:lnTo>
                    <a:pt x="829" y="580"/>
                  </a:lnTo>
                  <a:lnTo>
                    <a:pt x="1091" y="850"/>
                  </a:lnTo>
                  <a:lnTo>
                    <a:pt x="1323" y="1150"/>
                  </a:lnTo>
                  <a:lnTo>
                    <a:pt x="1527" y="1481"/>
                  </a:lnTo>
                  <a:lnTo>
                    <a:pt x="1696" y="1827"/>
                  </a:lnTo>
                  <a:lnTo>
                    <a:pt x="1824" y="2177"/>
                  </a:lnTo>
                  <a:lnTo>
                    <a:pt x="1838" y="2212"/>
                  </a:lnTo>
                  <a:lnTo>
                    <a:pt x="1855" y="2253"/>
                  </a:lnTo>
                  <a:lnTo>
                    <a:pt x="1876" y="2287"/>
                  </a:lnTo>
                  <a:lnTo>
                    <a:pt x="1893" y="2328"/>
                  </a:lnTo>
                  <a:lnTo>
                    <a:pt x="1907" y="2363"/>
                  </a:lnTo>
                  <a:lnTo>
                    <a:pt x="1924" y="2405"/>
                  </a:lnTo>
                  <a:lnTo>
                    <a:pt x="1941" y="2446"/>
                  </a:lnTo>
                  <a:lnTo>
                    <a:pt x="1966" y="2484"/>
                  </a:lnTo>
                  <a:lnTo>
                    <a:pt x="1987" y="1789"/>
                  </a:lnTo>
                  <a:lnTo>
                    <a:pt x="1855" y="1199"/>
                  </a:lnTo>
                  <a:lnTo>
                    <a:pt x="1613" y="721"/>
                  </a:lnTo>
                  <a:lnTo>
                    <a:pt x="1296" y="363"/>
                  </a:lnTo>
                  <a:lnTo>
                    <a:pt x="933" y="113"/>
                  </a:lnTo>
                  <a:lnTo>
                    <a:pt x="573" y="0"/>
                  </a:lnTo>
                  <a:lnTo>
                    <a:pt x="245" y="13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60"/>
            <p:cNvSpPr/>
            <p:nvPr/>
          </p:nvSpPr>
          <p:spPr>
            <a:xfrm>
              <a:off x="3964320" y="5824800"/>
              <a:ext cx="414720" cy="583920"/>
            </a:xfrm>
            <a:custGeom>
              <a:avLst/>
              <a:gdLst>
                <a:gd name="textAreaLeft" fmla="*/ 0 w 414720"/>
                <a:gd name="textAreaRight" fmla="*/ 415080 w 414720"/>
                <a:gd name="textAreaTop" fmla="*/ 0 h 583920"/>
                <a:gd name="textAreaBottom" fmla="*/ 584280 h 583920"/>
              </a:gdLst>
              <a:ahLst/>
              <a:rect l="textAreaLeft" t="textAreaTop" r="textAreaRight" b="textAreaBottom"/>
              <a:pathLst>
                <a:path w="1921" h="2467">
                  <a:moveTo>
                    <a:pt x="0" y="138"/>
                  </a:moveTo>
                  <a:lnTo>
                    <a:pt x="284" y="197"/>
                  </a:lnTo>
                  <a:lnTo>
                    <a:pt x="570" y="341"/>
                  </a:lnTo>
                  <a:lnTo>
                    <a:pt x="843" y="549"/>
                  </a:lnTo>
                  <a:lnTo>
                    <a:pt x="1109" y="812"/>
                  </a:lnTo>
                  <a:lnTo>
                    <a:pt x="1334" y="1116"/>
                  </a:lnTo>
                  <a:lnTo>
                    <a:pt x="1528" y="1444"/>
                  </a:lnTo>
                  <a:lnTo>
                    <a:pt x="1676" y="1790"/>
                  </a:lnTo>
                  <a:lnTo>
                    <a:pt x="1777" y="2146"/>
                  </a:lnTo>
                  <a:lnTo>
                    <a:pt x="1791" y="2181"/>
                  </a:lnTo>
                  <a:lnTo>
                    <a:pt x="1808" y="2222"/>
                  </a:lnTo>
                  <a:lnTo>
                    <a:pt x="1822" y="2259"/>
                  </a:lnTo>
                  <a:lnTo>
                    <a:pt x="1839" y="2301"/>
                  </a:lnTo>
                  <a:lnTo>
                    <a:pt x="1852" y="2343"/>
                  </a:lnTo>
                  <a:lnTo>
                    <a:pt x="1869" y="2385"/>
                  </a:lnTo>
                  <a:lnTo>
                    <a:pt x="1891" y="2422"/>
                  </a:lnTo>
                  <a:lnTo>
                    <a:pt x="1908" y="2467"/>
                  </a:lnTo>
                  <a:lnTo>
                    <a:pt x="1921" y="1786"/>
                  </a:lnTo>
                  <a:lnTo>
                    <a:pt x="1794" y="1210"/>
                  </a:lnTo>
                  <a:lnTo>
                    <a:pt x="1552" y="732"/>
                  </a:lnTo>
                  <a:lnTo>
                    <a:pt x="1241" y="373"/>
                  </a:lnTo>
                  <a:lnTo>
                    <a:pt x="895" y="121"/>
                  </a:lnTo>
                  <a:lnTo>
                    <a:pt x="543" y="0"/>
                  </a:lnTo>
                  <a:lnTo>
                    <a:pt x="228" y="0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61"/>
            <p:cNvSpPr/>
            <p:nvPr/>
          </p:nvSpPr>
          <p:spPr>
            <a:xfrm>
              <a:off x="3974400" y="5826240"/>
              <a:ext cx="403200" cy="58284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582840"/>
                <a:gd name="textAreaBottom" fmla="*/ 583200 h 582840"/>
              </a:gdLst>
              <a:ahLst/>
              <a:rect l="textAreaLeft" t="textAreaTop" r="textAreaRight" b="textAreaBottom"/>
              <a:pathLst>
                <a:path w="1863" h="2464">
                  <a:moveTo>
                    <a:pt x="0" y="131"/>
                  </a:moveTo>
                  <a:lnTo>
                    <a:pt x="294" y="187"/>
                  </a:lnTo>
                  <a:lnTo>
                    <a:pt x="591" y="325"/>
                  </a:lnTo>
                  <a:lnTo>
                    <a:pt x="867" y="533"/>
                  </a:lnTo>
                  <a:lnTo>
                    <a:pt x="1134" y="792"/>
                  </a:lnTo>
                  <a:lnTo>
                    <a:pt x="1355" y="1092"/>
                  </a:lnTo>
                  <a:lnTo>
                    <a:pt x="1541" y="1420"/>
                  </a:lnTo>
                  <a:lnTo>
                    <a:pt x="1669" y="1769"/>
                  </a:lnTo>
                  <a:lnTo>
                    <a:pt x="1739" y="2122"/>
                  </a:lnTo>
                  <a:lnTo>
                    <a:pt x="1753" y="2163"/>
                  </a:lnTo>
                  <a:lnTo>
                    <a:pt x="1766" y="2209"/>
                  </a:lnTo>
                  <a:lnTo>
                    <a:pt x="1780" y="2250"/>
                  </a:lnTo>
                  <a:lnTo>
                    <a:pt x="1790" y="2295"/>
                  </a:lnTo>
                  <a:lnTo>
                    <a:pt x="1804" y="2336"/>
                  </a:lnTo>
                  <a:lnTo>
                    <a:pt x="1817" y="2374"/>
                  </a:lnTo>
                  <a:lnTo>
                    <a:pt x="1839" y="2419"/>
                  </a:lnTo>
                  <a:lnTo>
                    <a:pt x="1856" y="2464"/>
                  </a:lnTo>
                  <a:lnTo>
                    <a:pt x="1863" y="1801"/>
                  </a:lnTo>
                  <a:lnTo>
                    <a:pt x="1739" y="1234"/>
                  </a:lnTo>
                  <a:lnTo>
                    <a:pt x="1500" y="761"/>
                  </a:lnTo>
                  <a:lnTo>
                    <a:pt x="1200" y="398"/>
                  </a:lnTo>
                  <a:lnTo>
                    <a:pt x="861" y="142"/>
                  </a:lnTo>
                  <a:lnTo>
                    <a:pt x="521" y="10"/>
                  </a:lnTo>
                  <a:lnTo>
                    <a:pt x="221" y="0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62"/>
            <p:cNvSpPr/>
            <p:nvPr/>
          </p:nvSpPr>
          <p:spPr>
            <a:xfrm>
              <a:off x="3773520" y="5876280"/>
              <a:ext cx="281160" cy="648000"/>
            </a:xfrm>
            <a:custGeom>
              <a:avLst/>
              <a:gdLst>
                <a:gd name="textAreaLeft" fmla="*/ 0 w 281160"/>
                <a:gd name="textAreaRight" fmla="*/ 281520 w 281160"/>
                <a:gd name="textAreaTop" fmla="*/ 0 h 648000"/>
                <a:gd name="textAreaBottom" fmla="*/ 648360 h 648000"/>
              </a:gdLst>
              <a:ahLst/>
              <a:rect l="textAreaLeft" t="textAreaTop" r="textAreaRight" b="textAreaBottom"/>
              <a:pathLst>
                <a:path w="1303" h="2737">
                  <a:moveTo>
                    <a:pt x="0" y="28"/>
                  </a:moveTo>
                  <a:lnTo>
                    <a:pt x="197" y="190"/>
                  </a:lnTo>
                  <a:lnTo>
                    <a:pt x="362" y="425"/>
                  </a:lnTo>
                  <a:lnTo>
                    <a:pt x="494" y="702"/>
                  </a:lnTo>
                  <a:lnTo>
                    <a:pt x="598" y="1026"/>
                  </a:lnTo>
                  <a:lnTo>
                    <a:pt x="670" y="1368"/>
                  </a:lnTo>
                  <a:lnTo>
                    <a:pt x="719" y="1728"/>
                  </a:lnTo>
                  <a:lnTo>
                    <a:pt x="739" y="2087"/>
                  </a:lnTo>
                  <a:lnTo>
                    <a:pt x="753" y="2433"/>
                  </a:lnTo>
                  <a:lnTo>
                    <a:pt x="753" y="2471"/>
                  </a:lnTo>
                  <a:lnTo>
                    <a:pt x="753" y="2505"/>
                  </a:lnTo>
                  <a:lnTo>
                    <a:pt x="753" y="2543"/>
                  </a:lnTo>
                  <a:lnTo>
                    <a:pt x="753" y="2581"/>
                  </a:lnTo>
                  <a:lnTo>
                    <a:pt x="753" y="2620"/>
                  </a:lnTo>
                  <a:lnTo>
                    <a:pt x="753" y="2654"/>
                  </a:lnTo>
                  <a:lnTo>
                    <a:pt x="753" y="2696"/>
                  </a:lnTo>
                  <a:lnTo>
                    <a:pt x="760" y="2737"/>
                  </a:lnTo>
                  <a:lnTo>
                    <a:pt x="1134" y="2160"/>
                  </a:lnTo>
                  <a:lnTo>
                    <a:pt x="1303" y="1621"/>
                  </a:lnTo>
                  <a:lnTo>
                    <a:pt x="1303" y="1120"/>
                  </a:lnTo>
                  <a:lnTo>
                    <a:pt x="1171" y="698"/>
                  </a:lnTo>
                  <a:lnTo>
                    <a:pt x="940" y="356"/>
                  </a:lnTo>
                  <a:lnTo>
                    <a:pt x="647" y="118"/>
                  </a:lnTo>
                  <a:lnTo>
                    <a:pt x="3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3"/>
            <p:cNvSpPr/>
            <p:nvPr/>
          </p:nvSpPr>
          <p:spPr>
            <a:xfrm>
              <a:off x="3785040" y="5881680"/>
              <a:ext cx="267120" cy="642600"/>
            </a:xfrm>
            <a:custGeom>
              <a:avLst/>
              <a:gdLst>
                <a:gd name="textAreaLeft" fmla="*/ 0 w 267120"/>
                <a:gd name="textAreaRight" fmla="*/ 267480 w 267120"/>
                <a:gd name="textAreaTop" fmla="*/ 0 h 642600"/>
                <a:gd name="textAreaBottom" fmla="*/ 642960 h 642600"/>
              </a:gdLst>
              <a:ahLst/>
              <a:rect l="textAreaLeft" t="textAreaTop" r="textAreaRight" b="textAreaBottom"/>
              <a:pathLst>
                <a:path w="1238" h="2713">
                  <a:moveTo>
                    <a:pt x="0" y="28"/>
                  </a:moveTo>
                  <a:lnTo>
                    <a:pt x="208" y="186"/>
                  </a:lnTo>
                  <a:lnTo>
                    <a:pt x="384" y="419"/>
                  </a:lnTo>
                  <a:lnTo>
                    <a:pt x="519" y="698"/>
                  </a:lnTo>
                  <a:lnTo>
                    <a:pt x="623" y="1019"/>
                  </a:lnTo>
                  <a:lnTo>
                    <a:pt x="685" y="1358"/>
                  </a:lnTo>
                  <a:lnTo>
                    <a:pt x="726" y="1715"/>
                  </a:lnTo>
                  <a:lnTo>
                    <a:pt x="734" y="2063"/>
                  </a:lnTo>
                  <a:lnTo>
                    <a:pt x="716" y="2406"/>
                  </a:lnTo>
                  <a:lnTo>
                    <a:pt x="712" y="2444"/>
                  </a:lnTo>
                  <a:lnTo>
                    <a:pt x="712" y="2478"/>
                  </a:lnTo>
                  <a:lnTo>
                    <a:pt x="712" y="2519"/>
                  </a:lnTo>
                  <a:lnTo>
                    <a:pt x="712" y="2557"/>
                  </a:lnTo>
                  <a:lnTo>
                    <a:pt x="709" y="2596"/>
                  </a:lnTo>
                  <a:lnTo>
                    <a:pt x="709" y="2630"/>
                  </a:lnTo>
                  <a:lnTo>
                    <a:pt x="709" y="2672"/>
                  </a:lnTo>
                  <a:lnTo>
                    <a:pt x="709" y="2713"/>
                  </a:lnTo>
                  <a:lnTo>
                    <a:pt x="1062" y="2150"/>
                  </a:lnTo>
                  <a:lnTo>
                    <a:pt x="1235" y="1614"/>
                  </a:lnTo>
                  <a:lnTo>
                    <a:pt x="1238" y="1123"/>
                  </a:lnTo>
                  <a:lnTo>
                    <a:pt x="1117" y="702"/>
                  </a:lnTo>
                  <a:lnTo>
                    <a:pt x="893" y="359"/>
                  </a:lnTo>
                  <a:lnTo>
                    <a:pt x="613" y="121"/>
                  </a:lnTo>
                  <a:lnTo>
                    <a:pt x="302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4"/>
            <p:cNvSpPr/>
            <p:nvPr/>
          </p:nvSpPr>
          <p:spPr>
            <a:xfrm>
              <a:off x="3795840" y="5884560"/>
              <a:ext cx="252720" cy="639720"/>
            </a:xfrm>
            <a:custGeom>
              <a:avLst/>
              <a:gdLst>
                <a:gd name="textAreaLeft" fmla="*/ 0 w 252720"/>
                <a:gd name="textAreaRight" fmla="*/ 253080 w 25272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1169" h="2696">
                  <a:moveTo>
                    <a:pt x="0" y="25"/>
                  </a:moveTo>
                  <a:lnTo>
                    <a:pt x="215" y="183"/>
                  </a:lnTo>
                  <a:lnTo>
                    <a:pt x="394" y="419"/>
                  </a:lnTo>
                  <a:lnTo>
                    <a:pt x="539" y="699"/>
                  </a:lnTo>
                  <a:lnTo>
                    <a:pt x="647" y="1016"/>
                  </a:lnTo>
                  <a:lnTo>
                    <a:pt x="709" y="1355"/>
                  </a:lnTo>
                  <a:lnTo>
                    <a:pt x="737" y="1704"/>
                  </a:lnTo>
                  <a:lnTo>
                    <a:pt x="726" y="2050"/>
                  </a:lnTo>
                  <a:lnTo>
                    <a:pt x="682" y="2385"/>
                  </a:lnTo>
                  <a:lnTo>
                    <a:pt x="674" y="2419"/>
                  </a:lnTo>
                  <a:lnTo>
                    <a:pt x="668" y="2461"/>
                  </a:lnTo>
                  <a:lnTo>
                    <a:pt x="664" y="2496"/>
                  </a:lnTo>
                  <a:lnTo>
                    <a:pt x="664" y="2537"/>
                  </a:lnTo>
                  <a:lnTo>
                    <a:pt x="660" y="2571"/>
                  </a:lnTo>
                  <a:lnTo>
                    <a:pt x="660" y="2613"/>
                  </a:lnTo>
                  <a:lnTo>
                    <a:pt x="657" y="2655"/>
                  </a:lnTo>
                  <a:lnTo>
                    <a:pt x="657" y="2696"/>
                  </a:lnTo>
                  <a:lnTo>
                    <a:pt x="1003" y="2143"/>
                  </a:lnTo>
                  <a:lnTo>
                    <a:pt x="1166" y="1614"/>
                  </a:lnTo>
                  <a:lnTo>
                    <a:pt x="1169" y="1131"/>
                  </a:lnTo>
                  <a:lnTo>
                    <a:pt x="1054" y="713"/>
                  </a:lnTo>
                  <a:lnTo>
                    <a:pt x="844" y="363"/>
                  </a:lnTo>
                  <a:lnTo>
                    <a:pt x="578" y="121"/>
                  </a:lnTo>
                  <a:lnTo>
                    <a:pt x="288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5"/>
            <p:cNvSpPr/>
            <p:nvPr/>
          </p:nvSpPr>
          <p:spPr>
            <a:xfrm>
              <a:off x="3807360" y="5891760"/>
              <a:ext cx="237240" cy="632520"/>
            </a:xfrm>
            <a:custGeom>
              <a:avLst/>
              <a:gdLst>
                <a:gd name="textAreaLeft" fmla="*/ 0 w 237240"/>
                <a:gd name="textAreaRight" fmla="*/ 237600 w 237240"/>
                <a:gd name="textAreaTop" fmla="*/ 0 h 632520"/>
                <a:gd name="textAreaBottom" fmla="*/ 632880 h 632520"/>
              </a:gdLst>
              <a:ahLst/>
              <a:rect l="textAreaLeft" t="textAreaTop" r="textAreaRight" b="textAreaBottom"/>
              <a:pathLst>
                <a:path w="1100" h="2671">
                  <a:moveTo>
                    <a:pt x="0" y="17"/>
                  </a:moveTo>
                  <a:lnTo>
                    <a:pt x="222" y="179"/>
                  </a:lnTo>
                  <a:lnTo>
                    <a:pt x="412" y="407"/>
                  </a:lnTo>
                  <a:lnTo>
                    <a:pt x="561" y="688"/>
                  </a:lnTo>
                  <a:lnTo>
                    <a:pt x="668" y="1005"/>
                  </a:lnTo>
                  <a:lnTo>
                    <a:pt x="726" y="1344"/>
                  </a:lnTo>
                  <a:lnTo>
                    <a:pt x="746" y="1690"/>
                  </a:lnTo>
                  <a:lnTo>
                    <a:pt x="716" y="2025"/>
                  </a:lnTo>
                  <a:lnTo>
                    <a:pt x="639" y="2350"/>
                  </a:lnTo>
                  <a:lnTo>
                    <a:pt x="630" y="2388"/>
                  </a:lnTo>
                  <a:lnTo>
                    <a:pt x="630" y="2425"/>
                  </a:lnTo>
                  <a:lnTo>
                    <a:pt x="622" y="2463"/>
                  </a:lnTo>
                  <a:lnTo>
                    <a:pt x="622" y="2502"/>
                  </a:lnTo>
                  <a:lnTo>
                    <a:pt x="612" y="2543"/>
                  </a:lnTo>
                  <a:lnTo>
                    <a:pt x="612" y="2584"/>
                  </a:lnTo>
                  <a:lnTo>
                    <a:pt x="605" y="2626"/>
                  </a:lnTo>
                  <a:lnTo>
                    <a:pt x="605" y="2671"/>
                  </a:lnTo>
                  <a:lnTo>
                    <a:pt x="937" y="2125"/>
                  </a:lnTo>
                  <a:lnTo>
                    <a:pt x="1092" y="1607"/>
                  </a:lnTo>
                  <a:lnTo>
                    <a:pt x="1100" y="1126"/>
                  </a:lnTo>
                  <a:lnTo>
                    <a:pt x="996" y="708"/>
                  </a:lnTo>
                  <a:lnTo>
                    <a:pt x="795" y="363"/>
                  </a:lnTo>
                  <a:lnTo>
                    <a:pt x="550" y="124"/>
                  </a:lnTo>
                  <a:lnTo>
                    <a:pt x="270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66"/>
            <p:cNvSpPr/>
            <p:nvPr/>
          </p:nvSpPr>
          <p:spPr>
            <a:xfrm>
              <a:off x="3817800" y="5895720"/>
              <a:ext cx="223920" cy="62856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628560"/>
                <a:gd name="textAreaBottom" fmla="*/ 628920 h 628560"/>
              </a:gdLst>
              <a:ahLst/>
              <a:rect l="textAreaLeft" t="textAreaTop" r="textAreaRight" b="textAreaBottom"/>
              <a:pathLst>
                <a:path w="1037" h="2651">
                  <a:moveTo>
                    <a:pt x="0" y="14"/>
                  </a:moveTo>
                  <a:lnTo>
                    <a:pt x="235" y="176"/>
                  </a:lnTo>
                  <a:lnTo>
                    <a:pt x="432" y="404"/>
                  </a:lnTo>
                  <a:lnTo>
                    <a:pt x="587" y="685"/>
                  </a:lnTo>
                  <a:lnTo>
                    <a:pt x="694" y="1002"/>
                  </a:lnTo>
                  <a:lnTo>
                    <a:pt x="746" y="1337"/>
                  </a:lnTo>
                  <a:lnTo>
                    <a:pt x="757" y="1676"/>
                  </a:lnTo>
                  <a:lnTo>
                    <a:pt x="711" y="2011"/>
                  </a:lnTo>
                  <a:lnTo>
                    <a:pt x="608" y="2327"/>
                  </a:lnTo>
                  <a:lnTo>
                    <a:pt x="601" y="2361"/>
                  </a:lnTo>
                  <a:lnTo>
                    <a:pt x="594" y="2402"/>
                  </a:lnTo>
                  <a:lnTo>
                    <a:pt x="587" y="2443"/>
                  </a:lnTo>
                  <a:lnTo>
                    <a:pt x="581" y="2482"/>
                  </a:lnTo>
                  <a:lnTo>
                    <a:pt x="573" y="2523"/>
                  </a:lnTo>
                  <a:lnTo>
                    <a:pt x="567" y="2564"/>
                  </a:lnTo>
                  <a:lnTo>
                    <a:pt x="559" y="2606"/>
                  </a:lnTo>
                  <a:lnTo>
                    <a:pt x="556" y="2651"/>
                  </a:lnTo>
                  <a:lnTo>
                    <a:pt x="870" y="2115"/>
                  </a:lnTo>
                  <a:lnTo>
                    <a:pt x="1026" y="1607"/>
                  </a:lnTo>
                  <a:lnTo>
                    <a:pt x="1037" y="1130"/>
                  </a:lnTo>
                  <a:lnTo>
                    <a:pt x="939" y="712"/>
                  </a:lnTo>
                  <a:lnTo>
                    <a:pt x="757" y="370"/>
                  </a:lnTo>
                  <a:lnTo>
                    <a:pt x="521" y="124"/>
                  </a:lnTo>
                  <a:lnTo>
                    <a:pt x="259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67"/>
            <p:cNvSpPr/>
            <p:nvPr/>
          </p:nvSpPr>
          <p:spPr>
            <a:xfrm>
              <a:off x="4018680" y="5432760"/>
              <a:ext cx="697320" cy="353880"/>
            </a:xfrm>
            <a:custGeom>
              <a:avLst/>
              <a:gdLst>
                <a:gd name="textAreaLeft" fmla="*/ 0 w 697320"/>
                <a:gd name="textAreaRight" fmla="*/ 697680 w 697320"/>
                <a:gd name="textAreaTop" fmla="*/ 0 h 353880"/>
                <a:gd name="textAreaBottom" fmla="*/ 353880 h 353880"/>
              </a:gdLst>
              <a:ahLst/>
              <a:rect l="textAreaLeft" t="textAreaTop" r="textAreaRight" b="textAreaBottom"/>
              <a:pathLst>
                <a:path w="3228" h="1499">
                  <a:moveTo>
                    <a:pt x="0" y="1499"/>
                  </a:moveTo>
                  <a:lnTo>
                    <a:pt x="210" y="1285"/>
                  </a:lnTo>
                  <a:lnTo>
                    <a:pt x="498" y="1089"/>
                  </a:lnTo>
                  <a:lnTo>
                    <a:pt x="839" y="908"/>
                  </a:lnTo>
                  <a:lnTo>
                    <a:pt x="1223" y="746"/>
                  </a:lnTo>
                  <a:lnTo>
                    <a:pt x="1630" y="597"/>
                  </a:lnTo>
                  <a:lnTo>
                    <a:pt x="2059" y="470"/>
                  </a:lnTo>
                  <a:lnTo>
                    <a:pt x="2477" y="363"/>
                  </a:lnTo>
                  <a:lnTo>
                    <a:pt x="2882" y="277"/>
                  </a:lnTo>
                  <a:lnTo>
                    <a:pt x="2923" y="263"/>
                  </a:lnTo>
                  <a:lnTo>
                    <a:pt x="2961" y="255"/>
                  </a:lnTo>
                  <a:lnTo>
                    <a:pt x="3006" y="245"/>
                  </a:lnTo>
                  <a:lnTo>
                    <a:pt x="3051" y="238"/>
                  </a:lnTo>
                  <a:lnTo>
                    <a:pt x="3093" y="225"/>
                  </a:lnTo>
                  <a:lnTo>
                    <a:pt x="3137" y="214"/>
                  </a:lnTo>
                  <a:lnTo>
                    <a:pt x="3182" y="207"/>
                  </a:lnTo>
                  <a:lnTo>
                    <a:pt x="3228" y="200"/>
                  </a:lnTo>
                  <a:lnTo>
                    <a:pt x="2601" y="13"/>
                  </a:lnTo>
                  <a:lnTo>
                    <a:pt x="1990" y="0"/>
                  </a:lnTo>
                  <a:lnTo>
                    <a:pt x="1417" y="110"/>
                  </a:lnTo>
                  <a:lnTo>
                    <a:pt x="912" y="332"/>
                  </a:lnTo>
                  <a:lnTo>
                    <a:pt x="483" y="605"/>
                  </a:lnTo>
                  <a:lnTo>
                    <a:pt x="172" y="919"/>
                  </a:lnTo>
                  <a:lnTo>
                    <a:pt x="3" y="1227"/>
                  </a:lnTo>
                  <a:lnTo>
                    <a:pt x="0" y="1499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68"/>
            <p:cNvSpPr/>
            <p:nvPr/>
          </p:nvSpPr>
          <p:spPr>
            <a:xfrm>
              <a:off x="4023720" y="5433840"/>
              <a:ext cx="692280" cy="342360"/>
            </a:xfrm>
            <a:custGeom>
              <a:avLst/>
              <a:gdLst>
                <a:gd name="textAreaLeft" fmla="*/ 0 w 692280"/>
                <a:gd name="textAreaRight" fmla="*/ 692640 w 692280"/>
                <a:gd name="textAreaTop" fmla="*/ 0 h 342360"/>
                <a:gd name="textAreaBottom" fmla="*/ 342720 h 342360"/>
              </a:gdLst>
              <a:ahLst/>
              <a:rect l="textAreaLeft" t="textAreaTop" r="textAreaRight" b="textAreaBottom"/>
              <a:pathLst>
                <a:path w="3205" h="1448">
                  <a:moveTo>
                    <a:pt x="0" y="1448"/>
                  </a:moveTo>
                  <a:lnTo>
                    <a:pt x="211" y="1223"/>
                  </a:lnTo>
                  <a:lnTo>
                    <a:pt x="502" y="1022"/>
                  </a:lnTo>
                  <a:lnTo>
                    <a:pt x="844" y="832"/>
                  </a:lnTo>
                  <a:lnTo>
                    <a:pt x="1227" y="670"/>
                  </a:lnTo>
                  <a:lnTo>
                    <a:pt x="1632" y="529"/>
                  </a:lnTo>
                  <a:lnTo>
                    <a:pt x="2054" y="411"/>
                  </a:lnTo>
                  <a:lnTo>
                    <a:pt x="2462" y="314"/>
                  </a:lnTo>
                  <a:lnTo>
                    <a:pt x="2859" y="262"/>
                  </a:lnTo>
                  <a:lnTo>
                    <a:pt x="2900" y="248"/>
                  </a:lnTo>
                  <a:lnTo>
                    <a:pt x="2938" y="238"/>
                  </a:lnTo>
                  <a:lnTo>
                    <a:pt x="2983" y="231"/>
                  </a:lnTo>
                  <a:lnTo>
                    <a:pt x="3028" y="221"/>
                  </a:lnTo>
                  <a:lnTo>
                    <a:pt x="3070" y="210"/>
                  </a:lnTo>
                  <a:lnTo>
                    <a:pt x="3114" y="207"/>
                  </a:lnTo>
                  <a:lnTo>
                    <a:pt x="3159" y="200"/>
                  </a:lnTo>
                  <a:lnTo>
                    <a:pt x="3205" y="193"/>
                  </a:lnTo>
                  <a:lnTo>
                    <a:pt x="2589" y="14"/>
                  </a:lnTo>
                  <a:lnTo>
                    <a:pt x="1988" y="0"/>
                  </a:lnTo>
                  <a:lnTo>
                    <a:pt x="1414" y="114"/>
                  </a:lnTo>
                  <a:lnTo>
                    <a:pt x="913" y="325"/>
                  </a:lnTo>
                  <a:lnTo>
                    <a:pt x="487" y="590"/>
                  </a:lnTo>
                  <a:lnTo>
                    <a:pt x="181" y="892"/>
                  </a:lnTo>
                  <a:lnTo>
                    <a:pt x="11" y="1189"/>
                  </a:lnTo>
                  <a:lnTo>
                    <a:pt x="0" y="1448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69"/>
            <p:cNvSpPr/>
            <p:nvPr/>
          </p:nvSpPr>
          <p:spPr>
            <a:xfrm>
              <a:off x="4030200" y="5436720"/>
              <a:ext cx="685800" cy="328320"/>
            </a:xfrm>
            <a:custGeom>
              <a:avLst/>
              <a:gdLst/>
              <a:ahLst/>
              <a:rect l="l" t="t" r="r" b="b"/>
              <a:pathLst>
                <a:path w="3177" h="1389">
                  <a:moveTo>
                    <a:pt x="0" y="1389"/>
                  </a:moveTo>
                  <a:lnTo>
                    <a:pt x="211" y="1157"/>
                  </a:lnTo>
                  <a:lnTo>
                    <a:pt x="502" y="942"/>
                  </a:lnTo>
                  <a:lnTo>
                    <a:pt x="840" y="749"/>
                  </a:lnTo>
                  <a:lnTo>
                    <a:pt x="1224" y="590"/>
                  </a:lnTo>
                  <a:lnTo>
                    <a:pt x="1625" y="446"/>
                  </a:lnTo>
                  <a:lnTo>
                    <a:pt x="2040" y="338"/>
                  </a:lnTo>
                  <a:lnTo>
                    <a:pt x="2440" y="265"/>
                  </a:lnTo>
                  <a:lnTo>
                    <a:pt x="2820" y="234"/>
                  </a:lnTo>
                  <a:lnTo>
                    <a:pt x="2861" y="224"/>
                  </a:lnTo>
                  <a:lnTo>
                    <a:pt x="2907" y="221"/>
                  </a:lnTo>
                  <a:lnTo>
                    <a:pt x="2952" y="210"/>
                  </a:lnTo>
                  <a:lnTo>
                    <a:pt x="2996" y="207"/>
                  </a:lnTo>
                  <a:lnTo>
                    <a:pt x="3039" y="196"/>
                  </a:lnTo>
                  <a:lnTo>
                    <a:pt x="3083" y="193"/>
                  </a:lnTo>
                  <a:lnTo>
                    <a:pt x="3128" y="186"/>
                  </a:lnTo>
                  <a:lnTo>
                    <a:pt x="3177" y="179"/>
                  </a:lnTo>
                  <a:lnTo>
                    <a:pt x="2568" y="9"/>
                  </a:lnTo>
                  <a:lnTo>
                    <a:pt x="1977" y="0"/>
                  </a:lnTo>
                  <a:lnTo>
                    <a:pt x="1410" y="107"/>
                  </a:lnTo>
                  <a:lnTo>
                    <a:pt x="906" y="311"/>
                  </a:lnTo>
                  <a:lnTo>
                    <a:pt x="488" y="567"/>
                  </a:lnTo>
                  <a:lnTo>
                    <a:pt x="180" y="853"/>
                  </a:lnTo>
                  <a:lnTo>
                    <a:pt x="10" y="1137"/>
                  </a:lnTo>
                  <a:lnTo>
                    <a:pt x="0" y="1389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70"/>
            <p:cNvSpPr/>
            <p:nvPr/>
          </p:nvSpPr>
          <p:spPr>
            <a:xfrm>
              <a:off x="4036680" y="5439600"/>
              <a:ext cx="679320" cy="313920"/>
            </a:xfrm>
            <a:custGeom>
              <a:avLst/>
              <a:gdLst>
                <a:gd name="textAreaLeft" fmla="*/ 0 w 679320"/>
                <a:gd name="textAreaRight" fmla="*/ 679680 w 67932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3145" h="1331">
                  <a:moveTo>
                    <a:pt x="0" y="1331"/>
                  </a:moveTo>
                  <a:lnTo>
                    <a:pt x="217" y="1089"/>
                  </a:lnTo>
                  <a:lnTo>
                    <a:pt x="504" y="872"/>
                  </a:lnTo>
                  <a:lnTo>
                    <a:pt x="842" y="674"/>
                  </a:lnTo>
                  <a:lnTo>
                    <a:pt x="1219" y="509"/>
                  </a:lnTo>
                  <a:lnTo>
                    <a:pt x="1620" y="368"/>
                  </a:lnTo>
                  <a:lnTo>
                    <a:pt x="2025" y="274"/>
                  </a:lnTo>
                  <a:lnTo>
                    <a:pt x="2415" y="215"/>
                  </a:lnTo>
                  <a:lnTo>
                    <a:pt x="2785" y="212"/>
                  </a:lnTo>
                  <a:lnTo>
                    <a:pt x="2826" y="201"/>
                  </a:lnTo>
                  <a:lnTo>
                    <a:pt x="2872" y="198"/>
                  </a:lnTo>
                  <a:lnTo>
                    <a:pt x="2916" y="187"/>
                  </a:lnTo>
                  <a:lnTo>
                    <a:pt x="2961" y="184"/>
                  </a:lnTo>
                  <a:lnTo>
                    <a:pt x="3007" y="181"/>
                  </a:lnTo>
                  <a:lnTo>
                    <a:pt x="3051" y="177"/>
                  </a:lnTo>
                  <a:lnTo>
                    <a:pt x="3096" y="170"/>
                  </a:lnTo>
                  <a:lnTo>
                    <a:pt x="3145" y="170"/>
                  </a:lnTo>
                  <a:lnTo>
                    <a:pt x="2546" y="8"/>
                  </a:lnTo>
                  <a:lnTo>
                    <a:pt x="1962" y="0"/>
                  </a:lnTo>
                  <a:lnTo>
                    <a:pt x="1399" y="104"/>
                  </a:lnTo>
                  <a:lnTo>
                    <a:pt x="902" y="302"/>
                  </a:lnTo>
                  <a:lnTo>
                    <a:pt x="487" y="550"/>
                  </a:lnTo>
                  <a:lnTo>
                    <a:pt x="179" y="823"/>
                  </a:lnTo>
                  <a:lnTo>
                    <a:pt x="10" y="1093"/>
                  </a:lnTo>
                  <a:lnTo>
                    <a:pt x="0" y="1331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71"/>
            <p:cNvSpPr/>
            <p:nvPr/>
          </p:nvSpPr>
          <p:spPr>
            <a:xfrm>
              <a:off x="4041720" y="5442480"/>
              <a:ext cx="674280" cy="299520"/>
            </a:xfrm>
            <a:custGeom>
              <a:avLst/>
              <a:gdLst>
                <a:gd name="textAreaLeft" fmla="*/ 0 w 674280"/>
                <a:gd name="textAreaRight" fmla="*/ 674640 w 674280"/>
                <a:gd name="textAreaTop" fmla="*/ 0 h 299520"/>
                <a:gd name="textAreaBottom" fmla="*/ 299520 h 299520"/>
              </a:gdLst>
              <a:ahLst/>
              <a:rect l="textAreaLeft" t="textAreaTop" r="textAreaRight" b="textAreaBottom"/>
              <a:pathLst>
                <a:path w="3121" h="1269">
                  <a:moveTo>
                    <a:pt x="0" y="1269"/>
                  </a:moveTo>
                  <a:lnTo>
                    <a:pt x="213" y="1020"/>
                  </a:lnTo>
                  <a:lnTo>
                    <a:pt x="504" y="795"/>
                  </a:lnTo>
                  <a:lnTo>
                    <a:pt x="835" y="591"/>
                  </a:lnTo>
                  <a:lnTo>
                    <a:pt x="1220" y="426"/>
                  </a:lnTo>
                  <a:lnTo>
                    <a:pt x="1613" y="291"/>
                  </a:lnTo>
                  <a:lnTo>
                    <a:pt x="2015" y="201"/>
                  </a:lnTo>
                  <a:lnTo>
                    <a:pt x="2402" y="167"/>
                  </a:lnTo>
                  <a:lnTo>
                    <a:pt x="2758" y="184"/>
                  </a:lnTo>
                  <a:lnTo>
                    <a:pt x="2796" y="173"/>
                  </a:lnTo>
                  <a:lnTo>
                    <a:pt x="2848" y="173"/>
                  </a:lnTo>
                  <a:lnTo>
                    <a:pt x="2885" y="167"/>
                  </a:lnTo>
                  <a:lnTo>
                    <a:pt x="2937" y="167"/>
                  </a:lnTo>
                  <a:lnTo>
                    <a:pt x="2983" y="163"/>
                  </a:lnTo>
                  <a:lnTo>
                    <a:pt x="3027" y="156"/>
                  </a:lnTo>
                  <a:lnTo>
                    <a:pt x="3072" y="156"/>
                  </a:lnTo>
                  <a:lnTo>
                    <a:pt x="3121" y="156"/>
                  </a:lnTo>
                  <a:lnTo>
                    <a:pt x="2537" y="4"/>
                  </a:lnTo>
                  <a:lnTo>
                    <a:pt x="1955" y="0"/>
                  </a:lnTo>
                  <a:lnTo>
                    <a:pt x="1402" y="98"/>
                  </a:lnTo>
                  <a:lnTo>
                    <a:pt x="909" y="288"/>
                  </a:lnTo>
                  <a:lnTo>
                    <a:pt x="494" y="522"/>
                  </a:lnTo>
                  <a:lnTo>
                    <a:pt x="183" y="786"/>
                  </a:lnTo>
                  <a:lnTo>
                    <a:pt x="6" y="1045"/>
                  </a:lnTo>
                  <a:lnTo>
                    <a:pt x="0" y="1269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72"/>
            <p:cNvSpPr/>
            <p:nvPr/>
          </p:nvSpPr>
          <p:spPr>
            <a:xfrm>
              <a:off x="4006800" y="5630040"/>
              <a:ext cx="627480" cy="227160"/>
            </a:xfrm>
            <a:custGeom>
              <a:avLst/>
              <a:gdLst>
                <a:gd name="textAreaLeft" fmla="*/ 0 w 627480"/>
                <a:gd name="textAreaRight" fmla="*/ 627840 w 627480"/>
                <a:gd name="textAreaTop" fmla="*/ 0 h 227160"/>
                <a:gd name="textAreaBottom" fmla="*/ 227520 h 227160"/>
              </a:gdLst>
              <a:ahLst/>
              <a:rect l="textAreaLeft" t="textAreaTop" r="textAreaRight" b="textAreaBottom"/>
              <a:pathLst>
                <a:path w="2903" h="961">
                  <a:moveTo>
                    <a:pt x="0" y="602"/>
                  </a:moveTo>
                  <a:lnTo>
                    <a:pt x="231" y="512"/>
                  </a:lnTo>
                  <a:lnTo>
                    <a:pt x="518" y="477"/>
                  </a:lnTo>
                  <a:lnTo>
                    <a:pt x="843" y="470"/>
                  </a:lnTo>
                  <a:lnTo>
                    <a:pt x="1189" y="512"/>
                  </a:lnTo>
                  <a:lnTo>
                    <a:pt x="1547" y="570"/>
                  </a:lnTo>
                  <a:lnTo>
                    <a:pt x="1918" y="660"/>
                  </a:lnTo>
                  <a:lnTo>
                    <a:pt x="2273" y="760"/>
                  </a:lnTo>
                  <a:lnTo>
                    <a:pt x="2616" y="871"/>
                  </a:lnTo>
                  <a:lnTo>
                    <a:pt x="2647" y="881"/>
                  </a:lnTo>
                  <a:lnTo>
                    <a:pt x="2681" y="888"/>
                  </a:lnTo>
                  <a:lnTo>
                    <a:pt x="2716" y="902"/>
                  </a:lnTo>
                  <a:lnTo>
                    <a:pt x="2754" y="916"/>
                  </a:lnTo>
                  <a:lnTo>
                    <a:pt x="2788" y="927"/>
                  </a:lnTo>
                  <a:lnTo>
                    <a:pt x="2826" y="933"/>
                  </a:lnTo>
                  <a:lnTo>
                    <a:pt x="2861" y="947"/>
                  </a:lnTo>
                  <a:lnTo>
                    <a:pt x="2903" y="961"/>
                  </a:lnTo>
                  <a:lnTo>
                    <a:pt x="2485" y="508"/>
                  </a:lnTo>
                  <a:lnTo>
                    <a:pt x="2022" y="211"/>
                  </a:lnTo>
                  <a:lnTo>
                    <a:pt x="1544" y="45"/>
                  </a:lnTo>
                  <a:lnTo>
                    <a:pt x="1081" y="0"/>
                  </a:lnTo>
                  <a:lnTo>
                    <a:pt x="663" y="45"/>
                  </a:lnTo>
                  <a:lnTo>
                    <a:pt x="325" y="173"/>
                  </a:lnTo>
                  <a:lnTo>
                    <a:pt x="89" y="363"/>
                  </a:lnTo>
                  <a:lnTo>
                    <a:pt x="0" y="602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73"/>
            <p:cNvSpPr/>
            <p:nvPr/>
          </p:nvSpPr>
          <p:spPr>
            <a:xfrm>
              <a:off x="4015800" y="5633280"/>
              <a:ext cx="618480" cy="224280"/>
            </a:xfrm>
            <a:custGeom>
              <a:avLst/>
              <a:gdLst>
                <a:gd name="textAreaLeft" fmla="*/ 0 w 618480"/>
                <a:gd name="textAreaRight" fmla="*/ 618840 w 618480"/>
                <a:gd name="textAreaTop" fmla="*/ 0 h 224280"/>
                <a:gd name="textAreaBottom" fmla="*/ 224640 h 224280"/>
              </a:gdLst>
              <a:ahLst/>
              <a:rect l="textAreaLeft" t="textAreaTop" r="textAreaRight" b="textAreaBottom"/>
              <a:pathLst>
                <a:path w="2865" h="947">
                  <a:moveTo>
                    <a:pt x="0" y="560"/>
                  </a:moveTo>
                  <a:lnTo>
                    <a:pt x="231" y="463"/>
                  </a:lnTo>
                  <a:lnTo>
                    <a:pt x="521" y="418"/>
                  </a:lnTo>
                  <a:lnTo>
                    <a:pt x="843" y="412"/>
                  </a:lnTo>
                  <a:lnTo>
                    <a:pt x="1192" y="449"/>
                  </a:lnTo>
                  <a:lnTo>
                    <a:pt x="1552" y="511"/>
                  </a:lnTo>
                  <a:lnTo>
                    <a:pt x="1911" y="605"/>
                  </a:lnTo>
                  <a:lnTo>
                    <a:pt x="2253" y="715"/>
                  </a:lnTo>
                  <a:lnTo>
                    <a:pt x="2578" y="844"/>
                  </a:lnTo>
                  <a:lnTo>
                    <a:pt x="2609" y="853"/>
                  </a:lnTo>
                  <a:lnTo>
                    <a:pt x="2643" y="867"/>
                  </a:lnTo>
                  <a:lnTo>
                    <a:pt x="2678" y="881"/>
                  </a:lnTo>
                  <a:lnTo>
                    <a:pt x="2716" y="895"/>
                  </a:lnTo>
                  <a:lnTo>
                    <a:pt x="2750" y="905"/>
                  </a:lnTo>
                  <a:lnTo>
                    <a:pt x="2788" y="919"/>
                  </a:lnTo>
                  <a:lnTo>
                    <a:pt x="2823" y="933"/>
                  </a:lnTo>
                  <a:lnTo>
                    <a:pt x="2865" y="947"/>
                  </a:lnTo>
                  <a:lnTo>
                    <a:pt x="2450" y="501"/>
                  </a:lnTo>
                  <a:lnTo>
                    <a:pt x="1998" y="211"/>
                  </a:lnTo>
                  <a:lnTo>
                    <a:pt x="1520" y="49"/>
                  </a:lnTo>
                  <a:lnTo>
                    <a:pt x="1064" y="0"/>
                  </a:lnTo>
                  <a:lnTo>
                    <a:pt x="650" y="35"/>
                  </a:lnTo>
                  <a:lnTo>
                    <a:pt x="317" y="156"/>
                  </a:lnTo>
                  <a:lnTo>
                    <a:pt x="89" y="335"/>
                  </a:lnTo>
                  <a:lnTo>
                    <a:pt x="0" y="560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74"/>
            <p:cNvSpPr/>
            <p:nvPr/>
          </p:nvSpPr>
          <p:spPr>
            <a:xfrm>
              <a:off x="4023720" y="5637240"/>
              <a:ext cx="610560" cy="219960"/>
            </a:xfrm>
            <a:custGeom>
              <a:avLst/>
              <a:gdLst>
                <a:gd name="textAreaLeft" fmla="*/ 0 w 610560"/>
                <a:gd name="textAreaRight" fmla="*/ 610920 w 610560"/>
                <a:gd name="textAreaTop" fmla="*/ 0 h 219960"/>
                <a:gd name="textAreaBottom" fmla="*/ 220320 h 219960"/>
              </a:gdLst>
              <a:ahLst/>
              <a:rect l="textAreaLeft" t="textAreaTop" r="textAreaRight" b="textAreaBottom"/>
              <a:pathLst>
                <a:path w="2828" h="933">
                  <a:moveTo>
                    <a:pt x="0" y="514"/>
                  </a:moveTo>
                  <a:lnTo>
                    <a:pt x="239" y="411"/>
                  </a:lnTo>
                  <a:lnTo>
                    <a:pt x="530" y="363"/>
                  </a:lnTo>
                  <a:lnTo>
                    <a:pt x="850" y="352"/>
                  </a:lnTo>
                  <a:lnTo>
                    <a:pt x="1200" y="390"/>
                  </a:lnTo>
                  <a:lnTo>
                    <a:pt x="1549" y="453"/>
                  </a:lnTo>
                  <a:lnTo>
                    <a:pt x="1904" y="546"/>
                  </a:lnTo>
                  <a:lnTo>
                    <a:pt x="2233" y="666"/>
                  </a:lnTo>
                  <a:lnTo>
                    <a:pt x="2541" y="816"/>
                  </a:lnTo>
                  <a:lnTo>
                    <a:pt x="2572" y="830"/>
                  </a:lnTo>
                  <a:lnTo>
                    <a:pt x="2606" y="843"/>
                  </a:lnTo>
                  <a:lnTo>
                    <a:pt x="2641" y="857"/>
                  </a:lnTo>
                  <a:lnTo>
                    <a:pt x="2679" y="874"/>
                  </a:lnTo>
                  <a:lnTo>
                    <a:pt x="2713" y="888"/>
                  </a:lnTo>
                  <a:lnTo>
                    <a:pt x="2751" y="902"/>
                  </a:lnTo>
                  <a:lnTo>
                    <a:pt x="2786" y="916"/>
                  </a:lnTo>
                  <a:lnTo>
                    <a:pt x="2828" y="933"/>
                  </a:lnTo>
                  <a:lnTo>
                    <a:pt x="2416" y="508"/>
                  </a:lnTo>
                  <a:lnTo>
                    <a:pt x="1967" y="217"/>
                  </a:lnTo>
                  <a:lnTo>
                    <a:pt x="1501" y="52"/>
                  </a:lnTo>
                  <a:lnTo>
                    <a:pt x="1051" y="0"/>
                  </a:lnTo>
                  <a:lnTo>
                    <a:pt x="640" y="24"/>
                  </a:lnTo>
                  <a:lnTo>
                    <a:pt x="311" y="138"/>
                  </a:lnTo>
                  <a:lnTo>
                    <a:pt x="87" y="304"/>
                  </a:lnTo>
                  <a:lnTo>
                    <a:pt x="0" y="514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75"/>
            <p:cNvSpPr/>
            <p:nvPr/>
          </p:nvSpPr>
          <p:spPr>
            <a:xfrm>
              <a:off x="4030200" y="5638680"/>
              <a:ext cx="604080" cy="218880"/>
            </a:xfrm>
            <a:custGeom>
              <a:avLst/>
              <a:gdLst>
                <a:gd name="textAreaLeft" fmla="*/ 0 w 604080"/>
                <a:gd name="textAreaRight" fmla="*/ 604440 w 60408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2796" h="923">
                  <a:moveTo>
                    <a:pt x="0" y="474"/>
                  </a:moveTo>
                  <a:lnTo>
                    <a:pt x="245" y="363"/>
                  </a:lnTo>
                  <a:lnTo>
                    <a:pt x="535" y="308"/>
                  </a:lnTo>
                  <a:lnTo>
                    <a:pt x="860" y="294"/>
                  </a:lnTo>
                  <a:lnTo>
                    <a:pt x="1206" y="328"/>
                  </a:lnTo>
                  <a:lnTo>
                    <a:pt x="1558" y="394"/>
                  </a:lnTo>
                  <a:lnTo>
                    <a:pt x="1901" y="501"/>
                  </a:lnTo>
                  <a:lnTo>
                    <a:pt x="2218" y="633"/>
                  </a:lnTo>
                  <a:lnTo>
                    <a:pt x="2509" y="798"/>
                  </a:lnTo>
                  <a:lnTo>
                    <a:pt x="2540" y="812"/>
                  </a:lnTo>
                  <a:lnTo>
                    <a:pt x="2574" y="826"/>
                  </a:lnTo>
                  <a:lnTo>
                    <a:pt x="2609" y="843"/>
                  </a:lnTo>
                  <a:lnTo>
                    <a:pt x="2647" y="861"/>
                  </a:lnTo>
                  <a:lnTo>
                    <a:pt x="2681" y="875"/>
                  </a:lnTo>
                  <a:lnTo>
                    <a:pt x="2719" y="889"/>
                  </a:lnTo>
                  <a:lnTo>
                    <a:pt x="2754" y="906"/>
                  </a:lnTo>
                  <a:lnTo>
                    <a:pt x="2796" y="923"/>
                  </a:lnTo>
                  <a:lnTo>
                    <a:pt x="2391" y="504"/>
                  </a:lnTo>
                  <a:lnTo>
                    <a:pt x="1946" y="224"/>
                  </a:lnTo>
                  <a:lnTo>
                    <a:pt x="1483" y="59"/>
                  </a:lnTo>
                  <a:lnTo>
                    <a:pt x="1037" y="0"/>
                  </a:lnTo>
                  <a:lnTo>
                    <a:pt x="636" y="20"/>
                  </a:lnTo>
                  <a:lnTo>
                    <a:pt x="311" y="118"/>
                  </a:lnTo>
                  <a:lnTo>
                    <a:pt x="86" y="273"/>
                  </a:lnTo>
                  <a:lnTo>
                    <a:pt x="0" y="474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76"/>
            <p:cNvSpPr/>
            <p:nvPr/>
          </p:nvSpPr>
          <p:spPr>
            <a:xfrm>
              <a:off x="4038120" y="5641560"/>
              <a:ext cx="596160" cy="215640"/>
            </a:xfrm>
            <a:custGeom>
              <a:avLst/>
              <a:gdLst>
                <a:gd name="textAreaLeft" fmla="*/ 0 w 596160"/>
                <a:gd name="textAreaRight" fmla="*/ 596520 w 59616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2758" h="912">
                  <a:moveTo>
                    <a:pt x="0" y="432"/>
                  </a:moveTo>
                  <a:lnTo>
                    <a:pt x="241" y="317"/>
                  </a:lnTo>
                  <a:lnTo>
                    <a:pt x="543" y="256"/>
                  </a:lnTo>
                  <a:lnTo>
                    <a:pt x="867" y="242"/>
                  </a:lnTo>
                  <a:lnTo>
                    <a:pt x="1217" y="269"/>
                  </a:lnTo>
                  <a:lnTo>
                    <a:pt x="1562" y="338"/>
                  </a:lnTo>
                  <a:lnTo>
                    <a:pt x="1897" y="446"/>
                  </a:lnTo>
                  <a:lnTo>
                    <a:pt x="2205" y="590"/>
                  </a:lnTo>
                  <a:lnTo>
                    <a:pt x="2471" y="770"/>
                  </a:lnTo>
                  <a:lnTo>
                    <a:pt x="2502" y="780"/>
                  </a:lnTo>
                  <a:lnTo>
                    <a:pt x="2536" y="801"/>
                  </a:lnTo>
                  <a:lnTo>
                    <a:pt x="2571" y="818"/>
                  </a:lnTo>
                  <a:lnTo>
                    <a:pt x="2609" y="836"/>
                  </a:lnTo>
                  <a:lnTo>
                    <a:pt x="2643" y="853"/>
                  </a:lnTo>
                  <a:lnTo>
                    <a:pt x="2681" y="870"/>
                  </a:lnTo>
                  <a:lnTo>
                    <a:pt x="2716" y="891"/>
                  </a:lnTo>
                  <a:lnTo>
                    <a:pt x="2758" y="912"/>
                  </a:lnTo>
                  <a:lnTo>
                    <a:pt x="2357" y="507"/>
                  </a:lnTo>
                  <a:lnTo>
                    <a:pt x="1921" y="234"/>
                  </a:lnTo>
                  <a:lnTo>
                    <a:pt x="1462" y="61"/>
                  </a:lnTo>
                  <a:lnTo>
                    <a:pt x="1022" y="0"/>
                  </a:lnTo>
                  <a:lnTo>
                    <a:pt x="625" y="14"/>
                  </a:lnTo>
                  <a:lnTo>
                    <a:pt x="301" y="100"/>
                  </a:lnTo>
                  <a:lnTo>
                    <a:pt x="79" y="242"/>
                  </a:lnTo>
                  <a:lnTo>
                    <a:pt x="0" y="432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77"/>
            <p:cNvSpPr/>
            <p:nvPr/>
          </p:nvSpPr>
          <p:spPr>
            <a:xfrm>
              <a:off x="3920040" y="5202000"/>
              <a:ext cx="486000" cy="463320"/>
            </a:xfrm>
            <a:custGeom>
              <a:avLst/>
              <a:gdLst>
                <a:gd name="textAreaLeft" fmla="*/ 0 w 486000"/>
                <a:gd name="textAreaRight" fmla="*/ 486360 w 48600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2254" h="1956">
                  <a:moveTo>
                    <a:pt x="128" y="1956"/>
                  </a:moveTo>
                  <a:lnTo>
                    <a:pt x="204" y="1721"/>
                  </a:lnTo>
                  <a:lnTo>
                    <a:pt x="356" y="1482"/>
                  </a:lnTo>
                  <a:lnTo>
                    <a:pt x="557" y="1240"/>
                  </a:lnTo>
                  <a:lnTo>
                    <a:pt x="816" y="1003"/>
                  </a:lnTo>
                  <a:lnTo>
                    <a:pt x="1093" y="764"/>
                  </a:lnTo>
                  <a:lnTo>
                    <a:pt x="1396" y="543"/>
                  </a:lnTo>
                  <a:lnTo>
                    <a:pt x="1701" y="335"/>
                  </a:lnTo>
                  <a:lnTo>
                    <a:pt x="2009" y="156"/>
                  </a:lnTo>
                  <a:lnTo>
                    <a:pt x="2036" y="134"/>
                  </a:lnTo>
                  <a:lnTo>
                    <a:pt x="2067" y="117"/>
                  </a:lnTo>
                  <a:lnTo>
                    <a:pt x="2098" y="93"/>
                  </a:lnTo>
                  <a:lnTo>
                    <a:pt x="2130" y="76"/>
                  </a:lnTo>
                  <a:lnTo>
                    <a:pt x="2160" y="52"/>
                  </a:lnTo>
                  <a:lnTo>
                    <a:pt x="2191" y="35"/>
                  </a:lnTo>
                  <a:lnTo>
                    <a:pt x="2222" y="18"/>
                  </a:lnTo>
                  <a:lnTo>
                    <a:pt x="2254" y="0"/>
                  </a:lnTo>
                  <a:lnTo>
                    <a:pt x="1635" y="21"/>
                  </a:lnTo>
                  <a:lnTo>
                    <a:pt x="1113" y="180"/>
                  </a:lnTo>
                  <a:lnTo>
                    <a:pt x="674" y="432"/>
                  </a:lnTo>
                  <a:lnTo>
                    <a:pt x="345" y="750"/>
                  </a:lnTo>
                  <a:lnTo>
                    <a:pt x="117" y="1092"/>
                  </a:lnTo>
                  <a:lnTo>
                    <a:pt x="0" y="1435"/>
                  </a:lnTo>
                  <a:lnTo>
                    <a:pt x="0" y="1732"/>
                  </a:lnTo>
                  <a:lnTo>
                    <a:pt x="128" y="1956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78"/>
            <p:cNvSpPr/>
            <p:nvPr/>
          </p:nvSpPr>
          <p:spPr>
            <a:xfrm>
              <a:off x="3922920" y="5202000"/>
              <a:ext cx="483480" cy="453240"/>
            </a:xfrm>
            <a:custGeom>
              <a:avLst/>
              <a:gdLst>
                <a:gd name="textAreaLeft" fmla="*/ 0 w 483480"/>
                <a:gd name="textAreaRight" fmla="*/ 483840 w 483480"/>
                <a:gd name="textAreaTop" fmla="*/ 0 h 453240"/>
                <a:gd name="textAreaBottom" fmla="*/ 453600 h 453240"/>
              </a:gdLst>
              <a:ahLst/>
              <a:rect l="textAreaLeft" t="textAreaTop" r="textAreaRight" b="textAreaBottom"/>
              <a:pathLst>
                <a:path w="2243" h="1914">
                  <a:moveTo>
                    <a:pt x="117" y="1914"/>
                  </a:moveTo>
                  <a:lnTo>
                    <a:pt x="193" y="1672"/>
                  </a:lnTo>
                  <a:lnTo>
                    <a:pt x="342" y="1424"/>
                  </a:lnTo>
                  <a:lnTo>
                    <a:pt x="542" y="1179"/>
                  </a:lnTo>
                  <a:lnTo>
                    <a:pt x="794" y="940"/>
                  </a:lnTo>
                  <a:lnTo>
                    <a:pt x="1068" y="705"/>
                  </a:lnTo>
                  <a:lnTo>
                    <a:pt x="1376" y="497"/>
                  </a:lnTo>
                  <a:lnTo>
                    <a:pt x="1676" y="311"/>
                  </a:lnTo>
                  <a:lnTo>
                    <a:pt x="1984" y="152"/>
                  </a:lnTo>
                  <a:lnTo>
                    <a:pt x="2015" y="131"/>
                  </a:lnTo>
                  <a:lnTo>
                    <a:pt x="2045" y="111"/>
                  </a:lnTo>
                  <a:lnTo>
                    <a:pt x="2076" y="90"/>
                  </a:lnTo>
                  <a:lnTo>
                    <a:pt x="2114" y="73"/>
                  </a:lnTo>
                  <a:lnTo>
                    <a:pt x="2146" y="48"/>
                  </a:lnTo>
                  <a:lnTo>
                    <a:pt x="2177" y="35"/>
                  </a:lnTo>
                  <a:lnTo>
                    <a:pt x="2208" y="13"/>
                  </a:lnTo>
                  <a:lnTo>
                    <a:pt x="2243" y="0"/>
                  </a:lnTo>
                  <a:lnTo>
                    <a:pt x="1638" y="27"/>
                  </a:lnTo>
                  <a:lnTo>
                    <a:pt x="1120" y="183"/>
                  </a:lnTo>
                  <a:lnTo>
                    <a:pt x="691" y="432"/>
                  </a:lnTo>
                  <a:lnTo>
                    <a:pt x="359" y="747"/>
                  </a:lnTo>
                  <a:lnTo>
                    <a:pt x="124" y="1078"/>
                  </a:lnTo>
                  <a:lnTo>
                    <a:pt x="3" y="1410"/>
                  </a:lnTo>
                  <a:lnTo>
                    <a:pt x="0" y="1700"/>
                  </a:lnTo>
                  <a:lnTo>
                    <a:pt x="117" y="1914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79"/>
            <p:cNvSpPr/>
            <p:nvPr/>
          </p:nvSpPr>
          <p:spPr>
            <a:xfrm>
              <a:off x="3922920" y="5202000"/>
              <a:ext cx="483480" cy="442080"/>
            </a:xfrm>
            <a:custGeom>
              <a:avLst/>
              <a:gdLst>
                <a:gd name="textAreaLeft" fmla="*/ 0 w 483480"/>
                <a:gd name="textAreaRight" fmla="*/ 483840 w 483480"/>
                <a:gd name="textAreaTop" fmla="*/ 0 h 442080"/>
                <a:gd name="textAreaBottom" fmla="*/ 442440 h 442080"/>
              </a:gdLst>
              <a:ahLst/>
              <a:rect l="textAreaLeft" t="textAreaTop" r="textAreaRight" b="textAreaBottom"/>
              <a:pathLst>
                <a:path w="2240" h="1867">
                  <a:moveTo>
                    <a:pt x="114" y="1867"/>
                  </a:moveTo>
                  <a:lnTo>
                    <a:pt x="183" y="1617"/>
                  </a:lnTo>
                  <a:lnTo>
                    <a:pt x="328" y="1366"/>
                  </a:lnTo>
                  <a:lnTo>
                    <a:pt x="532" y="1116"/>
                  </a:lnTo>
                  <a:lnTo>
                    <a:pt x="777" y="877"/>
                  </a:lnTo>
                  <a:lnTo>
                    <a:pt x="1054" y="646"/>
                  </a:lnTo>
                  <a:lnTo>
                    <a:pt x="1355" y="445"/>
                  </a:lnTo>
                  <a:lnTo>
                    <a:pt x="1655" y="269"/>
                  </a:lnTo>
                  <a:lnTo>
                    <a:pt x="1967" y="139"/>
                  </a:lnTo>
                  <a:lnTo>
                    <a:pt x="1998" y="117"/>
                  </a:lnTo>
                  <a:lnTo>
                    <a:pt x="2032" y="97"/>
                  </a:lnTo>
                  <a:lnTo>
                    <a:pt x="2067" y="79"/>
                  </a:lnTo>
                  <a:lnTo>
                    <a:pt x="2102" y="65"/>
                  </a:lnTo>
                  <a:lnTo>
                    <a:pt x="2133" y="48"/>
                  </a:lnTo>
                  <a:lnTo>
                    <a:pt x="2171" y="31"/>
                  </a:lnTo>
                  <a:lnTo>
                    <a:pt x="2205" y="13"/>
                  </a:lnTo>
                  <a:lnTo>
                    <a:pt x="2240" y="0"/>
                  </a:lnTo>
                  <a:lnTo>
                    <a:pt x="1649" y="31"/>
                  </a:lnTo>
                  <a:lnTo>
                    <a:pt x="1137" y="183"/>
                  </a:lnTo>
                  <a:lnTo>
                    <a:pt x="712" y="432"/>
                  </a:lnTo>
                  <a:lnTo>
                    <a:pt x="377" y="736"/>
                  </a:lnTo>
                  <a:lnTo>
                    <a:pt x="138" y="1064"/>
                  </a:lnTo>
                  <a:lnTo>
                    <a:pt x="14" y="1386"/>
                  </a:lnTo>
                  <a:lnTo>
                    <a:pt x="0" y="1659"/>
                  </a:lnTo>
                  <a:lnTo>
                    <a:pt x="114" y="1867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80"/>
            <p:cNvSpPr/>
            <p:nvPr/>
          </p:nvSpPr>
          <p:spPr>
            <a:xfrm>
              <a:off x="3922920" y="5202000"/>
              <a:ext cx="483480" cy="430920"/>
            </a:xfrm>
            <a:custGeom>
              <a:avLst/>
              <a:gdLst>
                <a:gd name="textAreaLeft" fmla="*/ 0 w 483480"/>
                <a:gd name="textAreaRight" fmla="*/ 483840 w 483480"/>
                <a:gd name="textAreaTop" fmla="*/ 0 h 430920"/>
                <a:gd name="textAreaBottom" fmla="*/ 431280 h 430920"/>
              </a:gdLst>
              <a:ahLst/>
              <a:rect l="textAreaLeft" t="textAreaTop" r="textAreaRight" b="textAreaBottom"/>
              <a:pathLst>
                <a:path w="2240" h="1818">
                  <a:moveTo>
                    <a:pt x="103" y="1818"/>
                  </a:moveTo>
                  <a:lnTo>
                    <a:pt x="176" y="1559"/>
                  </a:lnTo>
                  <a:lnTo>
                    <a:pt x="318" y="1303"/>
                  </a:lnTo>
                  <a:lnTo>
                    <a:pt x="521" y="1047"/>
                  </a:lnTo>
                  <a:lnTo>
                    <a:pt x="771" y="808"/>
                  </a:lnTo>
                  <a:lnTo>
                    <a:pt x="1044" y="584"/>
                  </a:lnTo>
                  <a:lnTo>
                    <a:pt x="1344" y="394"/>
                  </a:lnTo>
                  <a:lnTo>
                    <a:pt x="1649" y="238"/>
                  </a:lnTo>
                  <a:lnTo>
                    <a:pt x="1956" y="134"/>
                  </a:lnTo>
                  <a:lnTo>
                    <a:pt x="1987" y="117"/>
                  </a:lnTo>
                  <a:lnTo>
                    <a:pt x="2025" y="97"/>
                  </a:lnTo>
                  <a:lnTo>
                    <a:pt x="2059" y="79"/>
                  </a:lnTo>
                  <a:lnTo>
                    <a:pt x="2098" y="65"/>
                  </a:lnTo>
                  <a:lnTo>
                    <a:pt x="2133" y="48"/>
                  </a:lnTo>
                  <a:lnTo>
                    <a:pt x="2171" y="31"/>
                  </a:lnTo>
                  <a:lnTo>
                    <a:pt x="2205" y="13"/>
                  </a:lnTo>
                  <a:lnTo>
                    <a:pt x="2240" y="0"/>
                  </a:lnTo>
                  <a:lnTo>
                    <a:pt x="1659" y="31"/>
                  </a:lnTo>
                  <a:lnTo>
                    <a:pt x="1161" y="191"/>
                  </a:lnTo>
                  <a:lnTo>
                    <a:pt x="733" y="425"/>
                  </a:lnTo>
                  <a:lnTo>
                    <a:pt x="401" y="729"/>
                  </a:lnTo>
                  <a:lnTo>
                    <a:pt x="159" y="1044"/>
                  </a:lnTo>
                  <a:lnTo>
                    <a:pt x="25" y="1355"/>
                  </a:lnTo>
                  <a:lnTo>
                    <a:pt x="0" y="1617"/>
                  </a:lnTo>
                  <a:lnTo>
                    <a:pt x="103" y="1818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81"/>
            <p:cNvSpPr/>
            <p:nvPr/>
          </p:nvSpPr>
          <p:spPr>
            <a:xfrm>
              <a:off x="3925440" y="5202000"/>
              <a:ext cx="480960" cy="419400"/>
            </a:xfrm>
            <a:custGeom>
              <a:avLst/>
              <a:gdLst>
                <a:gd name="textAreaLeft" fmla="*/ 0 w 480960"/>
                <a:gd name="textAreaRight" fmla="*/ 481320 w 480960"/>
                <a:gd name="textAreaTop" fmla="*/ 0 h 419400"/>
                <a:gd name="textAreaBottom" fmla="*/ 419760 h 419400"/>
              </a:gdLst>
              <a:ahLst/>
              <a:rect l="textAreaLeft" t="textAreaTop" r="textAreaRight" b="textAreaBottom"/>
              <a:pathLst>
                <a:path w="2229" h="1766">
                  <a:moveTo>
                    <a:pt x="92" y="1766"/>
                  </a:moveTo>
                  <a:lnTo>
                    <a:pt x="165" y="1507"/>
                  </a:lnTo>
                  <a:lnTo>
                    <a:pt x="303" y="1245"/>
                  </a:lnTo>
                  <a:lnTo>
                    <a:pt x="501" y="985"/>
                  </a:lnTo>
                  <a:lnTo>
                    <a:pt x="749" y="747"/>
                  </a:lnTo>
                  <a:lnTo>
                    <a:pt x="1019" y="525"/>
                  </a:lnTo>
                  <a:lnTo>
                    <a:pt x="1319" y="346"/>
                  </a:lnTo>
                  <a:lnTo>
                    <a:pt x="1627" y="200"/>
                  </a:lnTo>
                  <a:lnTo>
                    <a:pt x="1938" y="121"/>
                  </a:lnTo>
                  <a:lnTo>
                    <a:pt x="1970" y="104"/>
                  </a:lnTo>
                  <a:lnTo>
                    <a:pt x="2011" y="90"/>
                  </a:lnTo>
                  <a:lnTo>
                    <a:pt x="2042" y="76"/>
                  </a:lnTo>
                  <a:lnTo>
                    <a:pt x="2080" y="62"/>
                  </a:lnTo>
                  <a:lnTo>
                    <a:pt x="2118" y="45"/>
                  </a:lnTo>
                  <a:lnTo>
                    <a:pt x="2152" y="31"/>
                  </a:lnTo>
                  <a:lnTo>
                    <a:pt x="2191" y="13"/>
                  </a:lnTo>
                  <a:lnTo>
                    <a:pt x="2229" y="0"/>
                  </a:lnTo>
                  <a:lnTo>
                    <a:pt x="1659" y="35"/>
                  </a:lnTo>
                  <a:lnTo>
                    <a:pt x="1167" y="194"/>
                  </a:lnTo>
                  <a:lnTo>
                    <a:pt x="746" y="425"/>
                  </a:lnTo>
                  <a:lnTo>
                    <a:pt x="411" y="719"/>
                  </a:lnTo>
                  <a:lnTo>
                    <a:pt x="165" y="1026"/>
                  </a:lnTo>
                  <a:lnTo>
                    <a:pt x="23" y="1327"/>
                  </a:lnTo>
                  <a:lnTo>
                    <a:pt x="0" y="1583"/>
                  </a:lnTo>
                  <a:lnTo>
                    <a:pt x="92" y="1766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82"/>
            <p:cNvSpPr/>
            <p:nvPr/>
          </p:nvSpPr>
          <p:spPr>
            <a:xfrm>
              <a:off x="3007440" y="5343120"/>
              <a:ext cx="641160" cy="359640"/>
            </a:xfrm>
            <a:custGeom>
              <a:avLst/>
              <a:gdLst>
                <a:gd name="textAreaLeft" fmla="*/ 0 w 641160"/>
                <a:gd name="textAreaRight" fmla="*/ 641520 w 641160"/>
                <a:gd name="textAreaTop" fmla="*/ 0 h 359640"/>
                <a:gd name="textAreaBottom" fmla="*/ 360000 h 359640"/>
              </a:gdLst>
              <a:ahLst/>
              <a:rect l="textAreaLeft" t="textAreaTop" r="textAreaRight" b="textAreaBottom"/>
              <a:pathLst>
                <a:path w="2969" h="1515">
                  <a:moveTo>
                    <a:pt x="2969" y="1515"/>
                  </a:moveTo>
                  <a:lnTo>
                    <a:pt x="2779" y="1124"/>
                  </a:lnTo>
                  <a:lnTo>
                    <a:pt x="2520" y="733"/>
                  </a:lnTo>
                  <a:lnTo>
                    <a:pt x="2191" y="387"/>
                  </a:lnTo>
                  <a:lnTo>
                    <a:pt x="1808" y="128"/>
                  </a:lnTo>
                  <a:lnTo>
                    <a:pt x="1382" y="0"/>
                  </a:lnTo>
                  <a:lnTo>
                    <a:pt x="933" y="46"/>
                  </a:lnTo>
                  <a:lnTo>
                    <a:pt x="463" y="301"/>
                  </a:lnTo>
                  <a:lnTo>
                    <a:pt x="0" y="823"/>
                  </a:lnTo>
                  <a:lnTo>
                    <a:pt x="567" y="547"/>
                  </a:lnTo>
                  <a:lnTo>
                    <a:pt x="1054" y="436"/>
                  </a:lnTo>
                  <a:lnTo>
                    <a:pt x="1462" y="450"/>
                  </a:lnTo>
                  <a:lnTo>
                    <a:pt x="1818" y="567"/>
                  </a:lnTo>
                  <a:lnTo>
                    <a:pt x="2129" y="750"/>
                  </a:lnTo>
                  <a:lnTo>
                    <a:pt x="2413" y="992"/>
                  </a:lnTo>
                  <a:lnTo>
                    <a:pt x="2685" y="1255"/>
                  </a:lnTo>
                  <a:lnTo>
                    <a:pt x="2969" y="1515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83"/>
            <p:cNvSpPr/>
            <p:nvPr/>
          </p:nvSpPr>
          <p:spPr>
            <a:xfrm>
              <a:off x="3020400" y="5344200"/>
              <a:ext cx="628560" cy="35820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358200"/>
                <a:gd name="textAreaBottom" fmla="*/ 358200 h 358200"/>
              </a:gdLst>
              <a:ahLst/>
              <a:rect l="textAreaLeft" t="textAreaTop" r="textAreaRight" b="textAreaBottom"/>
              <a:pathLst>
                <a:path w="2906" h="1508">
                  <a:moveTo>
                    <a:pt x="2906" y="1508"/>
                  </a:moveTo>
                  <a:lnTo>
                    <a:pt x="2726" y="1120"/>
                  </a:lnTo>
                  <a:lnTo>
                    <a:pt x="2466" y="740"/>
                  </a:lnTo>
                  <a:lnTo>
                    <a:pt x="2142" y="391"/>
                  </a:lnTo>
                  <a:lnTo>
                    <a:pt x="1769" y="135"/>
                  </a:lnTo>
                  <a:lnTo>
                    <a:pt x="1347" y="0"/>
                  </a:lnTo>
                  <a:lnTo>
                    <a:pt x="905" y="31"/>
                  </a:lnTo>
                  <a:lnTo>
                    <a:pt x="452" y="270"/>
                  </a:lnTo>
                  <a:lnTo>
                    <a:pt x="0" y="765"/>
                  </a:lnTo>
                  <a:lnTo>
                    <a:pt x="553" y="505"/>
                  </a:lnTo>
                  <a:lnTo>
                    <a:pt x="1026" y="397"/>
                  </a:lnTo>
                  <a:lnTo>
                    <a:pt x="1426" y="415"/>
                  </a:lnTo>
                  <a:lnTo>
                    <a:pt x="1776" y="536"/>
                  </a:lnTo>
                  <a:lnTo>
                    <a:pt x="2083" y="730"/>
                  </a:lnTo>
                  <a:lnTo>
                    <a:pt x="2363" y="972"/>
                  </a:lnTo>
                  <a:lnTo>
                    <a:pt x="2626" y="1238"/>
                  </a:lnTo>
                  <a:lnTo>
                    <a:pt x="2906" y="1508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84"/>
            <p:cNvSpPr/>
            <p:nvPr/>
          </p:nvSpPr>
          <p:spPr>
            <a:xfrm>
              <a:off x="3033360" y="5347080"/>
              <a:ext cx="615600" cy="355320"/>
            </a:xfrm>
            <a:custGeom>
              <a:avLst/>
              <a:gdLst>
                <a:gd name="textAreaLeft" fmla="*/ 0 w 615600"/>
                <a:gd name="textAreaRight" fmla="*/ 615960 w 615600"/>
                <a:gd name="textAreaTop" fmla="*/ 0 h 355320"/>
                <a:gd name="textAreaBottom" fmla="*/ 355680 h 355320"/>
              </a:gdLst>
              <a:ahLst/>
              <a:rect l="textAreaLeft" t="textAreaTop" r="textAreaRight" b="textAreaBottom"/>
              <a:pathLst>
                <a:path w="2851" h="1497">
                  <a:moveTo>
                    <a:pt x="2851" y="1497"/>
                  </a:moveTo>
                  <a:lnTo>
                    <a:pt x="2675" y="1120"/>
                  </a:lnTo>
                  <a:lnTo>
                    <a:pt x="2422" y="746"/>
                  </a:lnTo>
                  <a:lnTo>
                    <a:pt x="2101" y="404"/>
                  </a:lnTo>
                  <a:lnTo>
                    <a:pt x="1731" y="141"/>
                  </a:lnTo>
                  <a:lnTo>
                    <a:pt x="1316" y="0"/>
                  </a:lnTo>
                  <a:lnTo>
                    <a:pt x="884" y="17"/>
                  </a:lnTo>
                  <a:lnTo>
                    <a:pt x="435" y="238"/>
                  </a:lnTo>
                  <a:lnTo>
                    <a:pt x="0" y="705"/>
                  </a:lnTo>
                  <a:lnTo>
                    <a:pt x="542" y="452"/>
                  </a:lnTo>
                  <a:lnTo>
                    <a:pt x="1008" y="356"/>
                  </a:lnTo>
                  <a:lnTo>
                    <a:pt x="1403" y="377"/>
                  </a:lnTo>
                  <a:lnTo>
                    <a:pt x="1748" y="507"/>
                  </a:lnTo>
                  <a:lnTo>
                    <a:pt x="2045" y="702"/>
                  </a:lnTo>
                  <a:lnTo>
                    <a:pt x="2322" y="953"/>
                  </a:lnTo>
                  <a:lnTo>
                    <a:pt x="2581" y="1223"/>
                  </a:lnTo>
                  <a:lnTo>
                    <a:pt x="2851" y="1497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85"/>
            <p:cNvSpPr/>
            <p:nvPr/>
          </p:nvSpPr>
          <p:spPr>
            <a:xfrm>
              <a:off x="3044880" y="5348880"/>
              <a:ext cx="604080" cy="353880"/>
            </a:xfrm>
            <a:custGeom>
              <a:avLst/>
              <a:gdLst>
                <a:gd name="textAreaLeft" fmla="*/ 0 w 604080"/>
                <a:gd name="textAreaRight" fmla="*/ 604440 w 60408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2793" h="1494">
                  <a:moveTo>
                    <a:pt x="2793" y="1494"/>
                  </a:moveTo>
                  <a:lnTo>
                    <a:pt x="2623" y="1123"/>
                  </a:lnTo>
                  <a:lnTo>
                    <a:pt x="2375" y="757"/>
                  </a:lnTo>
                  <a:lnTo>
                    <a:pt x="2061" y="415"/>
                  </a:lnTo>
                  <a:lnTo>
                    <a:pt x="1698" y="152"/>
                  </a:lnTo>
                  <a:lnTo>
                    <a:pt x="1286" y="0"/>
                  </a:lnTo>
                  <a:lnTo>
                    <a:pt x="864" y="11"/>
                  </a:lnTo>
                  <a:lnTo>
                    <a:pt x="429" y="211"/>
                  </a:lnTo>
                  <a:lnTo>
                    <a:pt x="0" y="657"/>
                  </a:lnTo>
                  <a:lnTo>
                    <a:pt x="536" y="415"/>
                  </a:lnTo>
                  <a:lnTo>
                    <a:pt x="989" y="322"/>
                  </a:lnTo>
                  <a:lnTo>
                    <a:pt x="1376" y="353"/>
                  </a:lnTo>
                  <a:lnTo>
                    <a:pt x="1707" y="487"/>
                  </a:lnTo>
                  <a:lnTo>
                    <a:pt x="2001" y="685"/>
                  </a:lnTo>
                  <a:lnTo>
                    <a:pt x="2271" y="941"/>
                  </a:lnTo>
                  <a:lnTo>
                    <a:pt x="2526" y="1217"/>
                  </a:lnTo>
                  <a:lnTo>
                    <a:pt x="2793" y="1494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86"/>
            <p:cNvSpPr/>
            <p:nvPr/>
          </p:nvSpPr>
          <p:spPr>
            <a:xfrm>
              <a:off x="3057840" y="5348880"/>
              <a:ext cx="591120" cy="353880"/>
            </a:xfrm>
            <a:custGeom>
              <a:avLst/>
              <a:gdLst>
                <a:gd name="textAreaLeft" fmla="*/ 0 w 591120"/>
                <a:gd name="textAreaRight" fmla="*/ 591480 w 59112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2734" h="1491">
                  <a:moveTo>
                    <a:pt x="2734" y="1491"/>
                  </a:moveTo>
                  <a:lnTo>
                    <a:pt x="2568" y="1131"/>
                  </a:lnTo>
                  <a:lnTo>
                    <a:pt x="2326" y="768"/>
                  </a:lnTo>
                  <a:lnTo>
                    <a:pt x="2015" y="429"/>
                  </a:lnTo>
                  <a:lnTo>
                    <a:pt x="1659" y="170"/>
                  </a:lnTo>
                  <a:lnTo>
                    <a:pt x="1259" y="8"/>
                  </a:lnTo>
                  <a:lnTo>
                    <a:pt x="840" y="0"/>
                  </a:lnTo>
                  <a:lnTo>
                    <a:pt x="415" y="190"/>
                  </a:lnTo>
                  <a:lnTo>
                    <a:pt x="0" y="609"/>
                  </a:lnTo>
                  <a:lnTo>
                    <a:pt x="522" y="374"/>
                  </a:lnTo>
                  <a:lnTo>
                    <a:pt x="971" y="291"/>
                  </a:lnTo>
                  <a:lnTo>
                    <a:pt x="1348" y="325"/>
                  </a:lnTo>
                  <a:lnTo>
                    <a:pt x="1677" y="460"/>
                  </a:lnTo>
                  <a:lnTo>
                    <a:pt x="1959" y="668"/>
                  </a:lnTo>
                  <a:lnTo>
                    <a:pt x="2225" y="930"/>
                  </a:lnTo>
                  <a:lnTo>
                    <a:pt x="2478" y="1207"/>
                  </a:lnTo>
                  <a:lnTo>
                    <a:pt x="2734" y="1491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87"/>
            <p:cNvSpPr/>
            <p:nvPr/>
          </p:nvSpPr>
          <p:spPr>
            <a:xfrm>
              <a:off x="3068280" y="5581800"/>
              <a:ext cx="121680" cy="15912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159120"/>
                <a:gd name="textAreaBottom" fmla="*/ 159480 h 159120"/>
              </a:gdLst>
              <a:ahLst/>
              <a:rect l="textAreaLeft" t="textAreaTop" r="textAreaRight" b="textAreaBottom"/>
              <a:pathLst>
                <a:path w="567" h="668">
                  <a:moveTo>
                    <a:pt x="59" y="101"/>
                  </a:moveTo>
                  <a:lnTo>
                    <a:pt x="28" y="177"/>
                  </a:lnTo>
                  <a:lnTo>
                    <a:pt x="14" y="250"/>
                  </a:lnTo>
                  <a:lnTo>
                    <a:pt x="0" y="319"/>
                  </a:lnTo>
                  <a:lnTo>
                    <a:pt x="4" y="385"/>
                  </a:lnTo>
                  <a:lnTo>
                    <a:pt x="7" y="443"/>
                  </a:lnTo>
                  <a:lnTo>
                    <a:pt x="21" y="498"/>
                  </a:lnTo>
                  <a:lnTo>
                    <a:pt x="45" y="547"/>
                  </a:lnTo>
                  <a:lnTo>
                    <a:pt x="76" y="595"/>
                  </a:lnTo>
                  <a:lnTo>
                    <a:pt x="108" y="668"/>
                  </a:lnTo>
                  <a:lnTo>
                    <a:pt x="138" y="664"/>
                  </a:lnTo>
                  <a:lnTo>
                    <a:pt x="177" y="595"/>
                  </a:lnTo>
                  <a:lnTo>
                    <a:pt x="224" y="488"/>
                  </a:lnTo>
                  <a:lnTo>
                    <a:pt x="280" y="353"/>
                  </a:lnTo>
                  <a:lnTo>
                    <a:pt x="356" y="218"/>
                  </a:lnTo>
                  <a:lnTo>
                    <a:pt x="446" y="91"/>
                  </a:lnTo>
                  <a:lnTo>
                    <a:pt x="567" y="0"/>
                  </a:lnTo>
                  <a:lnTo>
                    <a:pt x="498" y="11"/>
                  </a:lnTo>
                  <a:lnTo>
                    <a:pt x="436" y="25"/>
                  </a:lnTo>
                  <a:lnTo>
                    <a:pt x="373" y="39"/>
                  </a:lnTo>
                  <a:lnTo>
                    <a:pt x="311" y="52"/>
                  </a:lnTo>
                  <a:lnTo>
                    <a:pt x="242" y="60"/>
                  </a:lnTo>
                  <a:lnTo>
                    <a:pt x="180" y="74"/>
                  </a:lnTo>
                  <a:lnTo>
                    <a:pt x="117" y="87"/>
                  </a:lnTo>
                  <a:lnTo>
                    <a:pt x="59" y="101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88"/>
            <p:cNvSpPr/>
            <p:nvPr/>
          </p:nvSpPr>
          <p:spPr>
            <a:xfrm>
              <a:off x="3068280" y="5581800"/>
              <a:ext cx="121680" cy="15912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159120"/>
                <a:gd name="textAreaBottom" fmla="*/ 159480 h 159120"/>
              </a:gdLst>
              <a:ahLst/>
              <a:rect l="textAreaLeft" t="textAreaTop" r="textAreaRight" b="textAreaBottom"/>
              <a:pathLst>
                <a:path w="567" h="668">
                  <a:moveTo>
                    <a:pt x="59" y="101"/>
                  </a:moveTo>
                  <a:lnTo>
                    <a:pt x="28" y="177"/>
                  </a:lnTo>
                  <a:lnTo>
                    <a:pt x="14" y="250"/>
                  </a:lnTo>
                  <a:lnTo>
                    <a:pt x="0" y="319"/>
                  </a:lnTo>
                  <a:lnTo>
                    <a:pt x="4" y="385"/>
                  </a:lnTo>
                  <a:lnTo>
                    <a:pt x="7" y="443"/>
                  </a:lnTo>
                  <a:lnTo>
                    <a:pt x="21" y="498"/>
                  </a:lnTo>
                  <a:lnTo>
                    <a:pt x="45" y="547"/>
                  </a:lnTo>
                  <a:lnTo>
                    <a:pt x="76" y="595"/>
                  </a:lnTo>
                  <a:lnTo>
                    <a:pt x="108" y="668"/>
                  </a:lnTo>
                  <a:lnTo>
                    <a:pt x="138" y="664"/>
                  </a:lnTo>
                  <a:lnTo>
                    <a:pt x="177" y="595"/>
                  </a:lnTo>
                  <a:lnTo>
                    <a:pt x="224" y="488"/>
                  </a:lnTo>
                  <a:lnTo>
                    <a:pt x="280" y="353"/>
                  </a:lnTo>
                  <a:lnTo>
                    <a:pt x="356" y="218"/>
                  </a:lnTo>
                  <a:lnTo>
                    <a:pt x="446" y="91"/>
                  </a:lnTo>
                  <a:lnTo>
                    <a:pt x="567" y="0"/>
                  </a:lnTo>
                  <a:lnTo>
                    <a:pt x="498" y="11"/>
                  </a:lnTo>
                  <a:lnTo>
                    <a:pt x="436" y="25"/>
                  </a:lnTo>
                  <a:lnTo>
                    <a:pt x="373" y="39"/>
                  </a:lnTo>
                  <a:lnTo>
                    <a:pt x="311" y="52"/>
                  </a:lnTo>
                  <a:lnTo>
                    <a:pt x="242" y="60"/>
                  </a:lnTo>
                  <a:lnTo>
                    <a:pt x="180" y="74"/>
                  </a:lnTo>
                  <a:lnTo>
                    <a:pt x="117" y="87"/>
                  </a:lnTo>
                  <a:lnTo>
                    <a:pt x="59" y="101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89"/>
            <p:cNvSpPr/>
            <p:nvPr/>
          </p:nvSpPr>
          <p:spPr>
            <a:xfrm>
              <a:off x="3074760" y="5481000"/>
              <a:ext cx="537840" cy="224640"/>
            </a:xfrm>
            <a:custGeom>
              <a:avLst/>
              <a:gdLst>
                <a:gd name="textAreaLeft" fmla="*/ 0 w 537840"/>
                <a:gd name="textAreaRight" fmla="*/ 538200 w 537840"/>
                <a:gd name="textAreaTop" fmla="*/ 0 h 224640"/>
                <a:gd name="textAreaBottom" fmla="*/ 225000 h 224640"/>
              </a:gdLst>
              <a:ahLst/>
              <a:rect l="textAreaLeft" t="textAreaTop" r="textAreaRight" b="textAreaBottom"/>
              <a:pathLst>
                <a:path w="2485" h="951">
                  <a:moveTo>
                    <a:pt x="2485" y="951"/>
                  </a:moveTo>
                  <a:lnTo>
                    <a:pt x="2271" y="791"/>
                  </a:lnTo>
                  <a:lnTo>
                    <a:pt x="2067" y="636"/>
                  </a:lnTo>
                  <a:lnTo>
                    <a:pt x="1849" y="488"/>
                  </a:lnTo>
                  <a:lnTo>
                    <a:pt x="1629" y="359"/>
                  </a:lnTo>
                  <a:lnTo>
                    <a:pt x="1397" y="232"/>
                  </a:lnTo>
                  <a:lnTo>
                    <a:pt x="1148" y="128"/>
                  </a:lnTo>
                  <a:lnTo>
                    <a:pt x="881" y="48"/>
                  </a:lnTo>
                  <a:lnTo>
                    <a:pt x="599" y="0"/>
                  </a:lnTo>
                  <a:lnTo>
                    <a:pt x="402" y="62"/>
                  </a:lnTo>
                  <a:lnTo>
                    <a:pt x="250" y="125"/>
                  </a:lnTo>
                  <a:lnTo>
                    <a:pt x="135" y="183"/>
                  </a:lnTo>
                  <a:lnTo>
                    <a:pt x="66" y="246"/>
                  </a:lnTo>
                  <a:lnTo>
                    <a:pt x="14" y="304"/>
                  </a:lnTo>
                  <a:lnTo>
                    <a:pt x="0" y="373"/>
                  </a:lnTo>
                  <a:lnTo>
                    <a:pt x="8" y="439"/>
                  </a:lnTo>
                  <a:lnTo>
                    <a:pt x="32" y="519"/>
                  </a:lnTo>
                  <a:lnTo>
                    <a:pt x="346" y="525"/>
                  </a:lnTo>
                  <a:lnTo>
                    <a:pt x="657" y="557"/>
                  </a:lnTo>
                  <a:lnTo>
                    <a:pt x="965" y="605"/>
                  </a:lnTo>
                  <a:lnTo>
                    <a:pt x="1276" y="667"/>
                  </a:lnTo>
                  <a:lnTo>
                    <a:pt x="1577" y="733"/>
                  </a:lnTo>
                  <a:lnTo>
                    <a:pt x="1877" y="808"/>
                  </a:lnTo>
                  <a:lnTo>
                    <a:pt x="2178" y="882"/>
                  </a:lnTo>
                  <a:lnTo>
                    <a:pt x="2485" y="951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90"/>
            <p:cNvSpPr/>
            <p:nvPr/>
          </p:nvSpPr>
          <p:spPr>
            <a:xfrm>
              <a:off x="3074760" y="5486400"/>
              <a:ext cx="537840" cy="218880"/>
            </a:xfrm>
            <a:custGeom>
              <a:avLst/>
              <a:gdLst>
                <a:gd name="textAreaLeft" fmla="*/ 0 w 537840"/>
                <a:gd name="textAreaRight" fmla="*/ 538200 w 53784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2485" h="930">
                  <a:moveTo>
                    <a:pt x="2485" y="930"/>
                  </a:moveTo>
                  <a:lnTo>
                    <a:pt x="2271" y="774"/>
                  </a:lnTo>
                  <a:lnTo>
                    <a:pt x="2067" y="625"/>
                  </a:lnTo>
                  <a:lnTo>
                    <a:pt x="1853" y="481"/>
                  </a:lnTo>
                  <a:lnTo>
                    <a:pt x="1639" y="352"/>
                  </a:lnTo>
                  <a:lnTo>
                    <a:pt x="1404" y="228"/>
                  </a:lnTo>
                  <a:lnTo>
                    <a:pt x="1162" y="124"/>
                  </a:lnTo>
                  <a:lnTo>
                    <a:pt x="896" y="49"/>
                  </a:lnTo>
                  <a:lnTo>
                    <a:pt x="619" y="0"/>
                  </a:lnTo>
                  <a:lnTo>
                    <a:pt x="415" y="55"/>
                  </a:lnTo>
                  <a:lnTo>
                    <a:pt x="264" y="113"/>
                  </a:lnTo>
                  <a:lnTo>
                    <a:pt x="146" y="170"/>
                  </a:lnTo>
                  <a:lnTo>
                    <a:pt x="69" y="228"/>
                  </a:lnTo>
                  <a:lnTo>
                    <a:pt x="22" y="286"/>
                  </a:lnTo>
                  <a:lnTo>
                    <a:pt x="0" y="352"/>
                  </a:lnTo>
                  <a:lnTo>
                    <a:pt x="8" y="418"/>
                  </a:lnTo>
                  <a:lnTo>
                    <a:pt x="32" y="498"/>
                  </a:lnTo>
                  <a:lnTo>
                    <a:pt x="336" y="476"/>
                  </a:lnTo>
                  <a:lnTo>
                    <a:pt x="640" y="490"/>
                  </a:lnTo>
                  <a:lnTo>
                    <a:pt x="941" y="525"/>
                  </a:lnTo>
                  <a:lnTo>
                    <a:pt x="1252" y="591"/>
                  </a:lnTo>
                  <a:lnTo>
                    <a:pt x="1560" y="660"/>
                  </a:lnTo>
                  <a:lnTo>
                    <a:pt x="1863" y="750"/>
                  </a:lnTo>
                  <a:lnTo>
                    <a:pt x="2174" y="839"/>
                  </a:lnTo>
                  <a:lnTo>
                    <a:pt x="2485" y="930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91"/>
            <p:cNvSpPr/>
            <p:nvPr/>
          </p:nvSpPr>
          <p:spPr>
            <a:xfrm>
              <a:off x="3077640" y="5492160"/>
              <a:ext cx="535320" cy="213120"/>
            </a:xfrm>
            <a:custGeom>
              <a:avLst/>
              <a:gdLst>
                <a:gd name="textAreaLeft" fmla="*/ 0 w 535320"/>
                <a:gd name="textAreaRight" fmla="*/ 535680 w 535320"/>
                <a:gd name="textAreaTop" fmla="*/ 0 h 213120"/>
                <a:gd name="textAreaBottom" fmla="*/ 213480 h 213120"/>
              </a:gdLst>
              <a:ahLst/>
              <a:rect l="textAreaLeft" t="textAreaTop" r="textAreaRight" b="textAreaBottom"/>
              <a:pathLst>
                <a:path w="2477" h="903">
                  <a:moveTo>
                    <a:pt x="2477" y="903"/>
                  </a:moveTo>
                  <a:lnTo>
                    <a:pt x="2270" y="751"/>
                  </a:lnTo>
                  <a:lnTo>
                    <a:pt x="2066" y="602"/>
                  </a:lnTo>
                  <a:lnTo>
                    <a:pt x="1855" y="460"/>
                  </a:lnTo>
                  <a:lnTo>
                    <a:pt x="1641" y="333"/>
                  </a:lnTo>
                  <a:lnTo>
                    <a:pt x="1406" y="212"/>
                  </a:lnTo>
                  <a:lnTo>
                    <a:pt x="1164" y="118"/>
                  </a:lnTo>
                  <a:lnTo>
                    <a:pt x="902" y="42"/>
                  </a:lnTo>
                  <a:lnTo>
                    <a:pt x="622" y="0"/>
                  </a:lnTo>
                  <a:lnTo>
                    <a:pt x="418" y="49"/>
                  </a:lnTo>
                  <a:lnTo>
                    <a:pt x="259" y="104"/>
                  </a:lnTo>
                  <a:lnTo>
                    <a:pt x="141" y="152"/>
                  </a:lnTo>
                  <a:lnTo>
                    <a:pt x="66" y="212"/>
                  </a:lnTo>
                  <a:lnTo>
                    <a:pt x="17" y="267"/>
                  </a:lnTo>
                  <a:lnTo>
                    <a:pt x="0" y="328"/>
                  </a:lnTo>
                  <a:lnTo>
                    <a:pt x="0" y="394"/>
                  </a:lnTo>
                  <a:lnTo>
                    <a:pt x="24" y="471"/>
                  </a:lnTo>
                  <a:lnTo>
                    <a:pt x="317" y="419"/>
                  </a:lnTo>
                  <a:lnTo>
                    <a:pt x="619" y="419"/>
                  </a:lnTo>
                  <a:lnTo>
                    <a:pt x="916" y="449"/>
                  </a:lnTo>
                  <a:lnTo>
                    <a:pt x="1227" y="512"/>
                  </a:lnTo>
                  <a:lnTo>
                    <a:pt x="1530" y="588"/>
                  </a:lnTo>
                  <a:lnTo>
                    <a:pt x="1841" y="688"/>
                  </a:lnTo>
                  <a:lnTo>
                    <a:pt x="2155" y="795"/>
                  </a:lnTo>
                  <a:lnTo>
                    <a:pt x="2477" y="903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92"/>
            <p:cNvSpPr/>
            <p:nvPr/>
          </p:nvSpPr>
          <p:spPr>
            <a:xfrm>
              <a:off x="3077640" y="5496480"/>
              <a:ext cx="535320" cy="209160"/>
            </a:xfrm>
            <a:custGeom>
              <a:avLst/>
              <a:gdLst>
                <a:gd name="textAreaLeft" fmla="*/ 0 w 535320"/>
                <a:gd name="textAreaRight" fmla="*/ 535680 w 53532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2477" h="886">
                  <a:moveTo>
                    <a:pt x="2477" y="886"/>
                  </a:moveTo>
                  <a:lnTo>
                    <a:pt x="2270" y="734"/>
                  </a:lnTo>
                  <a:lnTo>
                    <a:pt x="2066" y="592"/>
                  </a:lnTo>
                  <a:lnTo>
                    <a:pt x="1855" y="446"/>
                  </a:lnTo>
                  <a:lnTo>
                    <a:pt x="1641" y="319"/>
                  </a:lnTo>
                  <a:lnTo>
                    <a:pt x="1409" y="204"/>
                  </a:lnTo>
                  <a:lnTo>
                    <a:pt x="1167" y="115"/>
                  </a:lnTo>
                  <a:lnTo>
                    <a:pt x="905" y="42"/>
                  </a:lnTo>
                  <a:lnTo>
                    <a:pt x="632" y="0"/>
                  </a:lnTo>
                  <a:lnTo>
                    <a:pt x="424" y="46"/>
                  </a:lnTo>
                  <a:lnTo>
                    <a:pt x="269" y="101"/>
                  </a:lnTo>
                  <a:lnTo>
                    <a:pt x="148" y="149"/>
                  </a:lnTo>
                  <a:lnTo>
                    <a:pt x="69" y="204"/>
                  </a:lnTo>
                  <a:lnTo>
                    <a:pt x="20" y="256"/>
                  </a:lnTo>
                  <a:lnTo>
                    <a:pt x="0" y="316"/>
                  </a:lnTo>
                  <a:lnTo>
                    <a:pt x="3" y="385"/>
                  </a:lnTo>
                  <a:lnTo>
                    <a:pt x="24" y="454"/>
                  </a:lnTo>
                  <a:lnTo>
                    <a:pt x="303" y="374"/>
                  </a:lnTo>
                  <a:lnTo>
                    <a:pt x="601" y="353"/>
                  </a:lnTo>
                  <a:lnTo>
                    <a:pt x="898" y="374"/>
                  </a:lnTo>
                  <a:lnTo>
                    <a:pt x="1209" y="443"/>
                  </a:lnTo>
                  <a:lnTo>
                    <a:pt x="1513" y="526"/>
                  </a:lnTo>
                  <a:lnTo>
                    <a:pt x="1835" y="640"/>
                  </a:lnTo>
                  <a:lnTo>
                    <a:pt x="2152" y="761"/>
                  </a:lnTo>
                  <a:lnTo>
                    <a:pt x="2477" y="886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3"/>
            <p:cNvSpPr/>
            <p:nvPr/>
          </p:nvSpPr>
          <p:spPr>
            <a:xfrm>
              <a:off x="3077640" y="5500800"/>
              <a:ext cx="535320" cy="204480"/>
            </a:xfrm>
            <a:custGeom>
              <a:avLst/>
              <a:gdLst>
                <a:gd name="textAreaLeft" fmla="*/ 0 w 535320"/>
                <a:gd name="textAreaRight" fmla="*/ 535320 w 53532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2474" h="868">
                  <a:moveTo>
                    <a:pt x="2474" y="868"/>
                  </a:moveTo>
                  <a:lnTo>
                    <a:pt x="2267" y="719"/>
                  </a:lnTo>
                  <a:lnTo>
                    <a:pt x="2063" y="577"/>
                  </a:lnTo>
                  <a:lnTo>
                    <a:pt x="1855" y="442"/>
                  </a:lnTo>
                  <a:lnTo>
                    <a:pt x="1645" y="315"/>
                  </a:lnTo>
                  <a:lnTo>
                    <a:pt x="1417" y="204"/>
                  </a:lnTo>
                  <a:lnTo>
                    <a:pt x="1178" y="108"/>
                  </a:lnTo>
                  <a:lnTo>
                    <a:pt x="916" y="42"/>
                  </a:lnTo>
                  <a:lnTo>
                    <a:pt x="643" y="0"/>
                  </a:lnTo>
                  <a:lnTo>
                    <a:pt x="432" y="42"/>
                  </a:lnTo>
                  <a:lnTo>
                    <a:pt x="270" y="90"/>
                  </a:lnTo>
                  <a:lnTo>
                    <a:pt x="149" y="135"/>
                  </a:lnTo>
                  <a:lnTo>
                    <a:pt x="72" y="190"/>
                  </a:lnTo>
                  <a:lnTo>
                    <a:pt x="17" y="246"/>
                  </a:lnTo>
                  <a:lnTo>
                    <a:pt x="0" y="301"/>
                  </a:lnTo>
                  <a:lnTo>
                    <a:pt x="0" y="367"/>
                  </a:lnTo>
                  <a:lnTo>
                    <a:pt x="21" y="436"/>
                  </a:lnTo>
                  <a:lnTo>
                    <a:pt x="291" y="325"/>
                  </a:lnTo>
                  <a:lnTo>
                    <a:pt x="581" y="290"/>
                  </a:lnTo>
                  <a:lnTo>
                    <a:pt x="870" y="307"/>
                  </a:lnTo>
                  <a:lnTo>
                    <a:pt x="1182" y="370"/>
                  </a:lnTo>
                  <a:lnTo>
                    <a:pt x="1493" y="463"/>
                  </a:lnTo>
                  <a:lnTo>
                    <a:pt x="1818" y="591"/>
                  </a:lnTo>
                  <a:lnTo>
                    <a:pt x="2140" y="725"/>
                  </a:lnTo>
                  <a:lnTo>
                    <a:pt x="2474" y="868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94"/>
            <p:cNvSpPr/>
            <p:nvPr/>
          </p:nvSpPr>
          <p:spPr>
            <a:xfrm>
              <a:off x="3486960" y="6284160"/>
              <a:ext cx="128160" cy="14472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44720"/>
                <a:gd name="textAreaBottom" fmla="*/ 144720 h 144720"/>
              </a:gdLst>
              <a:ahLst/>
              <a:rect l="textAreaLeft" t="textAreaTop" r="textAreaRight" b="textAreaBottom"/>
              <a:pathLst>
                <a:path w="590" h="611">
                  <a:moveTo>
                    <a:pt x="9" y="515"/>
                  </a:moveTo>
                  <a:lnTo>
                    <a:pt x="78" y="549"/>
                  </a:lnTo>
                  <a:lnTo>
                    <a:pt x="151" y="573"/>
                  </a:lnTo>
                  <a:lnTo>
                    <a:pt x="220" y="594"/>
                  </a:lnTo>
                  <a:lnTo>
                    <a:pt x="286" y="611"/>
                  </a:lnTo>
                  <a:lnTo>
                    <a:pt x="345" y="611"/>
                  </a:lnTo>
                  <a:lnTo>
                    <a:pt x="404" y="611"/>
                  </a:lnTo>
                  <a:lnTo>
                    <a:pt x="459" y="597"/>
                  </a:lnTo>
                  <a:lnTo>
                    <a:pt x="510" y="584"/>
                  </a:lnTo>
                  <a:lnTo>
                    <a:pt x="590" y="559"/>
                  </a:lnTo>
                  <a:lnTo>
                    <a:pt x="590" y="524"/>
                  </a:lnTo>
                  <a:lnTo>
                    <a:pt x="531" y="476"/>
                  </a:lnTo>
                  <a:lnTo>
                    <a:pt x="432" y="411"/>
                  </a:lnTo>
                  <a:lnTo>
                    <a:pt x="306" y="331"/>
                  </a:lnTo>
                  <a:lnTo>
                    <a:pt x="179" y="238"/>
                  </a:lnTo>
                  <a:lnTo>
                    <a:pt x="69" y="124"/>
                  </a:lnTo>
                  <a:lnTo>
                    <a:pt x="0" y="0"/>
                  </a:lnTo>
                  <a:lnTo>
                    <a:pt x="0" y="61"/>
                  </a:lnTo>
                  <a:lnTo>
                    <a:pt x="0" y="124"/>
                  </a:lnTo>
                  <a:lnTo>
                    <a:pt x="0" y="186"/>
                  </a:lnTo>
                  <a:lnTo>
                    <a:pt x="3" y="256"/>
                  </a:lnTo>
                  <a:lnTo>
                    <a:pt x="3" y="317"/>
                  </a:lnTo>
                  <a:lnTo>
                    <a:pt x="3" y="386"/>
                  </a:lnTo>
                  <a:lnTo>
                    <a:pt x="3" y="449"/>
                  </a:lnTo>
                  <a:lnTo>
                    <a:pt x="9" y="515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5"/>
            <p:cNvSpPr/>
            <p:nvPr/>
          </p:nvSpPr>
          <p:spPr>
            <a:xfrm>
              <a:off x="3486960" y="6284160"/>
              <a:ext cx="128160" cy="14472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44720"/>
                <a:gd name="textAreaBottom" fmla="*/ 144720 h 144720"/>
              </a:gdLst>
              <a:ahLst/>
              <a:rect l="textAreaLeft" t="textAreaTop" r="textAreaRight" b="textAreaBottom"/>
              <a:pathLst>
                <a:path w="590" h="611">
                  <a:moveTo>
                    <a:pt x="9" y="515"/>
                  </a:moveTo>
                  <a:lnTo>
                    <a:pt x="78" y="549"/>
                  </a:lnTo>
                  <a:lnTo>
                    <a:pt x="151" y="573"/>
                  </a:lnTo>
                  <a:lnTo>
                    <a:pt x="220" y="594"/>
                  </a:lnTo>
                  <a:lnTo>
                    <a:pt x="286" y="611"/>
                  </a:lnTo>
                  <a:lnTo>
                    <a:pt x="345" y="611"/>
                  </a:lnTo>
                  <a:lnTo>
                    <a:pt x="404" y="611"/>
                  </a:lnTo>
                  <a:lnTo>
                    <a:pt x="459" y="597"/>
                  </a:lnTo>
                  <a:lnTo>
                    <a:pt x="510" y="584"/>
                  </a:lnTo>
                  <a:lnTo>
                    <a:pt x="590" y="559"/>
                  </a:lnTo>
                  <a:lnTo>
                    <a:pt x="590" y="524"/>
                  </a:lnTo>
                  <a:lnTo>
                    <a:pt x="531" y="476"/>
                  </a:lnTo>
                  <a:lnTo>
                    <a:pt x="432" y="411"/>
                  </a:lnTo>
                  <a:lnTo>
                    <a:pt x="306" y="331"/>
                  </a:lnTo>
                  <a:lnTo>
                    <a:pt x="179" y="238"/>
                  </a:lnTo>
                  <a:lnTo>
                    <a:pt x="69" y="124"/>
                  </a:lnTo>
                  <a:lnTo>
                    <a:pt x="0" y="0"/>
                  </a:lnTo>
                  <a:lnTo>
                    <a:pt x="0" y="61"/>
                  </a:lnTo>
                  <a:lnTo>
                    <a:pt x="0" y="124"/>
                  </a:lnTo>
                  <a:lnTo>
                    <a:pt x="0" y="186"/>
                  </a:lnTo>
                  <a:lnTo>
                    <a:pt x="3" y="256"/>
                  </a:lnTo>
                  <a:lnTo>
                    <a:pt x="3" y="317"/>
                  </a:lnTo>
                  <a:lnTo>
                    <a:pt x="3" y="386"/>
                  </a:lnTo>
                  <a:lnTo>
                    <a:pt x="3" y="449"/>
                  </a:lnTo>
                  <a:lnTo>
                    <a:pt x="9" y="515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6"/>
            <p:cNvSpPr/>
            <p:nvPr/>
          </p:nvSpPr>
          <p:spPr>
            <a:xfrm>
              <a:off x="3397680" y="5859000"/>
              <a:ext cx="277200" cy="5443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544320"/>
                <a:gd name="textAreaBottom" fmla="*/ 544680 h 544320"/>
              </a:gdLst>
              <a:ahLst/>
              <a:rect l="textAreaLeft" t="textAreaTop" r="textAreaRight" b="textAreaBottom"/>
              <a:pathLst>
                <a:path w="1282" h="2298">
                  <a:moveTo>
                    <a:pt x="1282" y="0"/>
                  </a:moveTo>
                  <a:lnTo>
                    <a:pt x="1084" y="166"/>
                  </a:lnTo>
                  <a:lnTo>
                    <a:pt x="894" y="345"/>
                  </a:lnTo>
                  <a:lnTo>
                    <a:pt x="708" y="525"/>
                  </a:lnTo>
                  <a:lnTo>
                    <a:pt x="536" y="719"/>
                  </a:lnTo>
                  <a:lnTo>
                    <a:pt x="372" y="919"/>
                  </a:lnTo>
                  <a:lnTo>
                    <a:pt x="224" y="1140"/>
                  </a:lnTo>
                  <a:lnTo>
                    <a:pt x="100" y="1382"/>
                  </a:lnTo>
                  <a:lnTo>
                    <a:pt x="0" y="1652"/>
                  </a:lnTo>
                  <a:lnTo>
                    <a:pt x="27" y="1852"/>
                  </a:lnTo>
                  <a:lnTo>
                    <a:pt x="58" y="2007"/>
                  </a:lnTo>
                  <a:lnTo>
                    <a:pt x="100" y="2125"/>
                  </a:lnTo>
                  <a:lnTo>
                    <a:pt x="148" y="2215"/>
                  </a:lnTo>
                  <a:lnTo>
                    <a:pt x="200" y="2263"/>
                  </a:lnTo>
                  <a:lnTo>
                    <a:pt x="262" y="2291"/>
                  </a:lnTo>
                  <a:lnTo>
                    <a:pt x="335" y="2298"/>
                  </a:lnTo>
                  <a:lnTo>
                    <a:pt x="418" y="2291"/>
                  </a:lnTo>
                  <a:lnTo>
                    <a:pt x="484" y="1987"/>
                  </a:lnTo>
                  <a:lnTo>
                    <a:pt x="566" y="1690"/>
                  </a:lnTo>
                  <a:lnTo>
                    <a:pt x="666" y="1403"/>
                  </a:lnTo>
                  <a:lnTo>
                    <a:pt x="784" y="1120"/>
                  </a:lnTo>
                  <a:lnTo>
                    <a:pt x="905" y="836"/>
                  </a:lnTo>
                  <a:lnTo>
                    <a:pt x="1029" y="556"/>
                  </a:lnTo>
                  <a:lnTo>
                    <a:pt x="1158" y="276"/>
                  </a:lnTo>
                  <a:lnTo>
                    <a:pt x="1282" y="0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7"/>
            <p:cNvSpPr/>
            <p:nvPr/>
          </p:nvSpPr>
          <p:spPr>
            <a:xfrm>
              <a:off x="3402720" y="5859000"/>
              <a:ext cx="272520" cy="544320"/>
            </a:xfrm>
            <a:custGeom>
              <a:avLst/>
              <a:gdLst>
                <a:gd name="textAreaLeft" fmla="*/ 0 w 272520"/>
                <a:gd name="textAreaRight" fmla="*/ 272880 w 272520"/>
                <a:gd name="textAreaTop" fmla="*/ 0 h 544320"/>
                <a:gd name="textAreaBottom" fmla="*/ 544680 h 544320"/>
              </a:gdLst>
              <a:ahLst/>
              <a:rect l="textAreaLeft" t="textAreaTop" r="textAreaRight" b="textAreaBottom"/>
              <a:pathLst>
                <a:path w="1258" h="2298">
                  <a:moveTo>
                    <a:pt x="1258" y="0"/>
                  </a:moveTo>
                  <a:lnTo>
                    <a:pt x="1060" y="166"/>
                  </a:lnTo>
                  <a:lnTo>
                    <a:pt x="878" y="339"/>
                  </a:lnTo>
                  <a:lnTo>
                    <a:pt x="691" y="515"/>
                  </a:lnTo>
                  <a:lnTo>
                    <a:pt x="521" y="708"/>
                  </a:lnTo>
                  <a:lnTo>
                    <a:pt x="359" y="912"/>
                  </a:lnTo>
                  <a:lnTo>
                    <a:pt x="221" y="1129"/>
                  </a:lnTo>
                  <a:lnTo>
                    <a:pt x="94" y="1368"/>
                  </a:lnTo>
                  <a:lnTo>
                    <a:pt x="0" y="1641"/>
                  </a:lnTo>
                  <a:lnTo>
                    <a:pt x="20" y="1842"/>
                  </a:lnTo>
                  <a:lnTo>
                    <a:pt x="51" y="2004"/>
                  </a:lnTo>
                  <a:lnTo>
                    <a:pt x="89" y="2122"/>
                  </a:lnTo>
                  <a:lnTo>
                    <a:pt x="135" y="2205"/>
                  </a:lnTo>
                  <a:lnTo>
                    <a:pt x="183" y="2260"/>
                  </a:lnTo>
                  <a:lnTo>
                    <a:pt x="242" y="2287"/>
                  </a:lnTo>
                  <a:lnTo>
                    <a:pt x="311" y="2298"/>
                  </a:lnTo>
                  <a:lnTo>
                    <a:pt x="394" y="2291"/>
                  </a:lnTo>
                  <a:lnTo>
                    <a:pt x="422" y="1990"/>
                  </a:lnTo>
                  <a:lnTo>
                    <a:pt x="490" y="1696"/>
                  </a:lnTo>
                  <a:lnTo>
                    <a:pt x="581" y="1410"/>
                  </a:lnTo>
                  <a:lnTo>
                    <a:pt x="702" y="1126"/>
                  </a:lnTo>
                  <a:lnTo>
                    <a:pt x="826" y="843"/>
                  </a:lnTo>
                  <a:lnTo>
                    <a:pt x="967" y="559"/>
                  </a:lnTo>
                  <a:lnTo>
                    <a:pt x="1109" y="276"/>
                  </a:lnTo>
                  <a:lnTo>
                    <a:pt x="1258" y="0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98"/>
            <p:cNvSpPr/>
            <p:nvPr/>
          </p:nvSpPr>
          <p:spPr>
            <a:xfrm>
              <a:off x="3409560" y="5859000"/>
              <a:ext cx="265680" cy="544320"/>
            </a:xfrm>
            <a:custGeom>
              <a:avLst/>
              <a:gdLst>
                <a:gd name="textAreaLeft" fmla="*/ 0 w 265680"/>
                <a:gd name="textAreaRight" fmla="*/ 266040 w 265680"/>
                <a:gd name="textAreaTop" fmla="*/ 0 h 544320"/>
                <a:gd name="textAreaBottom" fmla="*/ 544680 h 544320"/>
              </a:gdLst>
              <a:ahLst/>
              <a:rect l="textAreaLeft" t="textAreaTop" r="textAreaRight" b="textAreaBottom"/>
              <a:pathLst>
                <a:path w="1230" h="2298">
                  <a:moveTo>
                    <a:pt x="1230" y="0"/>
                  </a:moveTo>
                  <a:lnTo>
                    <a:pt x="1043" y="166"/>
                  </a:lnTo>
                  <a:lnTo>
                    <a:pt x="856" y="339"/>
                  </a:lnTo>
                  <a:lnTo>
                    <a:pt x="677" y="515"/>
                  </a:lnTo>
                  <a:lnTo>
                    <a:pt x="511" y="708"/>
                  </a:lnTo>
                  <a:lnTo>
                    <a:pt x="349" y="905"/>
                  </a:lnTo>
                  <a:lnTo>
                    <a:pt x="214" y="1126"/>
                  </a:lnTo>
                  <a:lnTo>
                    <a:pt x="93" y="1365"/>
                  </a:lnTo>
                  <a:lnTo>
                    <a:pt x="0" y="1635"/>
                  </a:lnTo>
                  <a:lnTo>
                    <a:pt x="14" y="1838"/>
                  </a:lnTo>
                  <a:lnTo>
                    <a:pt x="37" y="2001"/>
                  </a:lnTo>
                  <a:lnTo>
                    <a:pt x="69" y="2122"/>
                  </a:lnTo>
                  <a:lnTo>
                    <a:pt x="113" y="2205"/>
                  </a:lnTo>
                  <a:lnTo>
                    <a:pt x="158" y="2260"/>
                  </a:lnTo>
                  <a:lnTo>
                    <a:pt x="217" y="2287"/>
                  </a:lnTo>
                  <a:lnTo>
                    <a:pt x="286" y="2298"/>
                  </a:lnTo>
                  <a:lnTo>
                    <a:pt x="366" y="2291"/>
                  </a:lnTo>
                  <a:lnTo>
                    <a:pt x="366" y="1993"/>
                  </a:lnTo>
                  <a:lnTo>
                    <a:pt x="418" y="1707"/>
                  </a:lnTo>
                  <a:lnTo>
                    <a:pt x="501" y="1420"/>
                  </a:lnTo>
                  <a:lnTo>
                    <a:pt x="617" y="1137"/>
                  </a:lnTo>
                  <a:lnTo>
                    <a:pt x="752" y="853"/>
                  </a:lnTo>
                  <a:lnTo>
                    <a:pt x="905" y="570"/>
                  </a:lnTo>
                  <a:lnTo>
                    <a:pt x="1067" y="279"/>
                  </a:lnTo>
                  <a:lnTo>
                    <a:pt x="1230" y="0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9"/>
            <p:cNvSpPr/>
            <p:nvPr/>
          </p:nvSpPr>
          <p:spPr>
            <a:xfrm>
              <a:off x="3413160" y="5859000"/>
              <a:ext cx="261720" cy="54432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544320"/>
                <a:gd name="textAreaBottom" fmla="*/ 544680 h 544320"/>
              </a:gdLst>
              <a:ahLst/>
              <a:rect l="textAreaLeft" t="textAreaTop" r="textAreaRight" b="textAreaBottom"/>
              <a:pathLst>
                <a:path w="1210" h="2298">
                  <a:moveTo>
                    <a:pt x="1210" y="0"/>
                  </a:moveTo>
                  <a:lnTo>
                    <a:pt x="1023" y="166"/>
                  </a:lnTo>
                  <a:lnTo>
                    <a:pt x="836" y="335"/>
                  </a:lnTo>
                  <a:lnTo>
                    <a:pt x="660" y="512"/>
                  </a:lnTo>
                  <a:lnTo>
                    <a:pt x="494" y="702"/>
                  </a:lnTo>
                  <a:lnTo>
                    <a:pt x="339" y="898"/>
                  </a:lnTo>
                  <a:lnTo>
                    <a:pt x="208" y="1120"/>
                  </a:lnTo>
                  <a:lnTo>
                    <a:pt x="90" y="1358"/>
                  </a:lnTo>
                  <a:lnTo>
                    <a:pt x="0" y="1621"/>
                  </a:lnTo>
                  <a:lnTo>
                    <a:pt x="11" y="1825"/>
                  </a:lnTo>
                  <a:lnTo>
                    <a:pt x="32" y="1990"/>
                  </a:lnTo>
                  <a:lnTo>
                    <a:pt x="59" y="2111"/>
                  </a:lnTo>
                  <a:lnTo>
                    <a:pt x="101" y="2201"/>
                  </a:lnTo>
                  <a:lnTo>
                    <a:pt x="145" y="2257"/>
                  </a:lnTo>
                  <a:lnTo>
                    <a:pt x="204" y="2287"/>
                  </a:lnTo>
                  <a:lnTo>
                    <a:pt x="266" y="2298"/>
                  </a:lnTo>
                  <a:lnTo>
                    <a:pt x="346" y="2291"/>
                  </a:lnTo>
                  <a:lnTo>
                    <a:pt x="314" y="2001"/>
                  </a:lnTo>
                  <a:lnTo>
                    <a:pt x="346" y="1710"/>
                  </a:lnTo>
                  <a:lnTo>
                    <a:pt x="421" y="1427"/>
                  </a:lnTo>
                  <a:lnTo>
                    <a:pt x="539" y="1143"/>
                  </a:lnTo>
                  <a:lnTo>
                    <a:pt x="681" y="857"/>
                  </a:lnTo>
                  <a:lnTo>
                    <a:pt x="850" y="573"/>
                  </a:lnTo>
                  <a:lnTo>
                    <a:pt x="1026" y="287"/>
                  </a:lnTo>
                  <a:lnTo>
                    <a:pt x="1210" y="0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0"/>
            <p:cNvSpPr/>
            <p:nvPr/>
          </p:nvSpPr>
          <p:spPr>
            <a:xfrm>
              <a:off x="3418200" y="5859000"/>
              <a:ext cx="256680" cy="544320"/>
            </a:xfrm>
            <a:custGeom>
              <a:avLst/>
              <a:gdLst>
                <a:gd name="textAreaLeft" fmla="*/ 0 w 256680"/>
                <a:gd name="textAreaRight" fmla="*/ 257040 w 256680"/>
                <a:gd name="textAreaTop" fmla="*/ 0 h 544320"/>
                <a:gd name="textAreaBottom" fmla="*/ 544680 h 544320"/>
              </a:gdLst>
              <a:ahLst/>
              <a:rect l="textAreaLeft" t="textAreaTop" r="textAreaRight" b="textAreaBottom"/>
              <a:pathLst>
                <a:path w="1186" h="2298">
                  <a:moveTo>
                    <a:pt x="1186" y="0"/>
                  </a:moveTo>
                  <a:lnTo>
                    <a:pt x="1002" y="158"/>
                  </a:lnTo>
                  <a:lnTo>
                    <a:pt x="823" y="331"/>
                  </a:lnTo>
                  <a:lnTo>
                    <a:pt x="647" y="507"/>
                  </a:lnTo>
                  <a:lnTo>
                    <a:pt x="484" y="694"/>
                  </a:lnTo>
                  <a:lnTo>
                    <a:pt x="333" y="892"/>
                  </a:lnTo>
                  <a:lnTo>
                    <a:pt x="201" y="1112"/>
                  </a:lnTo>
                  <a:lnTo>
                    <a:pt x="83" y="1351"/>
                  </a:lnTo>
                  <a:lnTo>
                    <a:pt x="0" y="1618"/>
                  </a:lnTo>
                  <a:lnTo>
                    <a:pt x="4" y="1821"/>
                  </a:lnTo>
                  <a:lnTo>
                    <a:pt x="22" y="1987"/>
                  </a:lnTo>
                  <a:lnTo>
                    <a:pt x="45" y="2108"/>
                  </a:lnTo>
                  <a:lnTo>
                    <a:pt x="83" y="2198"/>
                  </a:lnTo>
                  <a:lnTo>
                    <a:pt x="125" y="2257"/>
                  </a:lnTo>
                  <a:lnTo>
                    <a:pt x="184" y="2287"/>
                  </a:lnTo>
                  <a:lnTo>
                    <a:pt x="246" y="2298"/>
                  </a:lnTo>
                  <a:lnTo>
                    <a:pt x="322" y="2291"/>
                  </a:lnTo>
                  <a:lnTo>
                    <a:pt x="259" y="2007"/>
                  </a:lnTo>
                  <a:lnTo>
                    <a:pt x="273" y="1724"/>
                  </a:lnTo>
                  <a:lnTo>
                    <a:pt x="342" y="1440"/>
                  </a:lnTo>
                  <a:lnTo>
                    <a:pt x="457" y="1157"/>
                  </a:lnTo>
                  <a:lnTo>
                    <a:pt x="605" y="870"/>
                  </a:lnTo>
                  <a:lnTo>
                    <a:pt x="785" y="584"/>
                  </a:lnTo>
                  <a:lnTo>
                    <a:pt x="985" y="290"/>
                  </a:lnTo>
                  <a:lnTo>
                    <a:pt x="1186" y="0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01"/>
            <p:cNvSpPr/>
            <p:nvPr/>
          </p:nvSpPr>
          <p:spPr>
            <a:xfrm>
              <a:off x="3799440" y="5058720"/>
              <a:ext cx="174600" cy="13068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30680"/>
                <a:gd name="textAreaBottom" fmla="*/ 131040 h 130680"/>
              </a:gdLst>
              <a:ahLst/>
              <a:rect l="textAreaLeft" t="textAreaTop" r="textAreaRight" b="textAreaBottom"/>
              <a:pathLst>
                <a:path w="812" h="548">
                  <a:moveTo>
                    <a:pt x="273" y="44"/>
                  </a:moveTo>
                  <a:lnTo>
                    <a:pt x="356" y="20"/>
                  </a:lnTo>
                  <a:lnTo>
                    <a:pt x="435" y="6"/>
                  </a:lnTo>
                  <a:lnTo>
                    <a:pt x="501" y="0"/>
                  </a:lnTo>
                  <a:lnTo>
                    <a:pt x="570" y="6"/>
                  </a:lnTo>
                  <a:lnTo>
                    <a:pt x="625" y="9"/>
                  </a:lnTo>
                  <a:lnTo>
                    <a:pt x="673" y="27"/>
                  </a:lnTo>
                  <a:lnTo>
                    <a:pt x="716" y="51"/>
                  </a:lnTo>
                  <a:lnTo>
                    <a:pt x="753" y="82"/>
                  </a:lnTo>
                  <a:lnTo>
                    <a:pt x="812" y="113"/>
                  </a:lnTo>
                  <a:lnTo>
                    <a:pt x="794" y="148"/>
                  </a:lnTo>
                  <a:lnTo>
                    <a:pt x="716" y="185"/>
                  </a:lnTo>
                  <a:lnTo>
                    <a:pt x="595" y="231"/>
                  </a:lnTo>
                  <a:lnTo>
                    <a:pt x="439" y="279"/>
                  </a:lnTo>
                  <a:lnTo>
                    <a:pt x="284" y="348"/>
                  </a:lnTo>
                  <a:lnTo>
                    <a:pt x="124" y="432"/>
                  </a:lnTo>
                  <a:lnTo>
                    <a:pt x="0" y="548"/>
                  </a:lnTo>
                  <a:lnTo>
                    <a:pt x="31" y="483"/>
                  </a:lnTo>
                  <a:lnTo>
                    <a:pt x="65" y="418"/>
                  </a:lnTo>
                  <a:lnTo>
                    <a:pt x="97" y="355"/>
                  </a:lnTo>
                  <a:lnTo>
                    <a:pt x="135" y="293"/>
                  </a:lnTo>
                  <a:lnTo>
                    <a:pt x="166" y="228"/>
                  </a:lnTo>
                  <a:lnTo>
                    <a:pt x="200" y="168"/>
                  </a:lnTo>
                  <a:lnTo>
                    <a:pt x="238" y="103"/>
                  </a:lnTo>
                  <a:lnTo>
                    <a:pt x="273" y="44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02"/>
            <p:cNvSpPr/>
            <p:nvPr/>
          </p:nvSpPr>
          <p:spPr>
            <a:xfrm>
              <a:off x="3799440" y="5058720"/>
              <a:ext cx="174600" cy="13068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30680"/>
                <a:gd name="textAreaBottom" fmla="*/ 131040 h 130680"/>
              </a:gdLst>
              <a:ahLst/>
              <a:rect l="textAreaLeft" t="textAreaTop" r="textAreaRight" b="textAreaBottom"/>
              <a:pathLst>
                <a:path w="812" h="548">
                  <a:moveTo>
                    <a:pt x="273" y="44"/>
                  </a:moveTo>
                  <a:lnTo>
                    <a:pt x="356" y="20"/>
                  </a:lnTo>
                  <a:lnTo>
                    <a:pt x="435" y="6"/>
                  </a:lnTo>
                  <a:lnTo>
                    <a:pt x="501" y="0"/>
                  </a:lnTo>
                  <a:lnTo>
                    <a:pt x="570" y="6"/>
                  </a:lnTo>
                  <a:lnTo>
                    <a:pt x="625" y="9"/>
                  </a:lnTo>
                  <a:lnTo>
                    <a:pt x="673" y="27"/>
                  </a:lnTo>
                  <a:lnTo>
                    <a:pt x="716" y="51"/>
                  </a:lnTo>
                  <a:lnTo>
                    <a:pt x="753" y="82"/>
                  </a:lnTo>
                  <a:lnTo>
                    <a:pt x="812" y="113"/>
                  </a:lnTo>
                  <a:lnTo>
                    <a:pt x="794" y="148"/>
                  </a:lnTo>
                  <a:lnTo>
                    <a:pt x="716" y="185"/>
                  </a:lnTo>
                  <a:lnTo>
                    <a:pt x="595" y="231"/>
                  </a:lnTo>
                  <a:lnTo>
                    <a:pt x="439" y="279"/>
                  </a:lnTo>
                  <a:lnTo>
                    <a:pt x="284" y="348"/>
                  </a:lnTo>
                  <a:lnTo>
                    <a:pt x="124" y="432"/>
                  </a:lnTo>
                  <a:lnTo>
                    <a:pt x="0" y="548"/>
                  </a:lnTo>
                  <a:lnTo>
                    <a:pt x="31" y="483"/>
                  </a:lnTo>
                  <a:lnTo>
                    <a:pt x="65" y="418"/>
                  </a:lnTo>
                  <a:lnTo>
                    <a:pt x="97" y="355"/>
                  </a:lnTo>
                  <a:lnTo>
                    <a:pt x="135" y="293"/>
                  </a:lnTo>
                  <a:lnTo>
                    <a:pt x="166" y="228"/>
                  </a:lnTo>
                  <a:lnTo>
                    <a:pt x="200" y="168"/>
                  </a:lnTo>
                  <a:lnTo>
                    <a:pt x="238" y="103"/>
                  </a:lnTo>
                  <a:lnTo>
                    <a:pt x="273" y="44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03"/>
            <p:cNvSpPr/>
            <p:nvPr/>
          </p:nvSpPr>
          <p:spPr>
            <a:xfrm>
              <a:off x="3690360" y="5062680"/>
              <a:ext cx="164520" cy="596880"/>
            </a:xfrm>
            <a:custGeom>
              <a:avLst/>
              <a:gdLst>
                <a:gd name="textAreaLeft" fmla="*/ 0 w 164520"/>
                <a:gd name="textAreaRight" fmla="*/ 164880 w 164520"/>
                <a:gd name="textAreaTop" fmla="*/ 0 h 596880"/>
                <a:gd name="textAreaBottom" fmla="*/ 597240 h 596880"/>
              </a:gdLst>
              <a:ahLst/>
              <a:rect l="textAreaLeft" t="textAreaTop" r="textAreaRight" b="textAreaBottom"/>
              <a:pathLst>
                <a:path w="764" h="2519">
                  <a:moveTo>
                    <a:pt x="346" y="2519"/>
                  </a:moveTo>
                  <a:lnTo>
                    <a:pt x="259" y="2298"/>
                  </a:lnTo>
                  <a:lnTo>
                    <a:pt x="179" y="2084"/>
                  </a:lnTo>
                  <a:lnTo>
                    <a:pt x="107" y="1863"/>
                  </a:lnTo>
                  <a:lnTo>
                    <a:pt x="55" y="1638"/>
                  </a:lnTo>
                  <a:lnTo>
                    <a:pt x="14" y="1396"/>
                  </a:lnTo>
                  <a:lnTo>
                    <a:pt x="0" y="1144"/>
                  </a:lnTo>
                  <a:lnTo>
                    <a:pt x="14" y="871"/>
                  </a:lnTo>
                  <a:lnTo>
                    <a:pt x="63" y="587"/>
                  </a:lnTo>
                  <a:lnTo>
                    <a:pt x="190" y="387"/>
                  </a:lnTo>
                  <a:lnTo>
                    <a:pt x="300" y="238"/>
                  </a:lnTo>
                  <a:lnTo>
                    <a:pt x="398" y="128"/>
                  </a:lnTo>
                  <a:lnTo>
                    <a:pt x="487" y="59"/>
                  </a:lnTo>
                  <a:lnTo>
                    <a:pt x="556" y="14"/>
                  </a:lnTo>
                  <a:lnTo>
                    <a:pt x="629" y="0"/>
                  </a:lnTo>
                  <a:lnTo>
                    <a:pt x="698" y="10"/>
                  </a:lnTo>
                  <a:lnTo>
                    <a:pt x="764" y="45"/>
                  </a:lnTo>
                  <a:lnTo>
                    <a:pt x="660" y="356"/>
                  </a:lnTo>
                  <a:lnTo>
                    <a:pt x="584" y="670"/>
                  </a:lnTo>
                  <a:lnTo>
                    <a:pt x="525" y="981"/>
                  </a:lnTo>
                  <a:lnTo>
                    <a:pt x="481" y="1292"/>
                  </a:lnTo>
                  <a:lnTo>
                    <a:pt x="443" y="1594"/>
                  </a:lnTo>
                  <a:lnTo>
                    <a:pt x="415" y="1905"/>
                  </a:lnTo>
                  <a:lnTo>
                    <a:pt x="377" y="2208"/>
                  </a:lnTo>
                  <a:lnTo>
                    <a:pt x="346" y="2519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04"/>
            <p:cNvSpPr/>
            <p:nvPr/>
          </p:nvSpPr>
          <p:spPr>
            <a:xfrm>
              <a:off x="3693240" y="5064480"/>
              <a:ext cx="161640" cy="59508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95080"/>
                <a:gd name="textAreaBottom" fmla="*/ 595440 h 595080"/>
              </a:gdLst>
              <a:ahLst/>
              <a:rect l="textAreaLeft" t="textAreaTop" r="textAreaRight" b="textAreaBottom"/>
              <a:pathLst>
                <a:path w="750" h="2512">
                  <a:moveTo>
                    <a:pt x="332" y="2512"/>
                  </a:moveTo>
                  <a:lnTo>
                    <a:pt x="245" y="2298"/>
                  </a:lnTo>
                  <a:lnTo>
                    <a:pt x="170" y="2080"/>
                  </a:lnTo>
                  <a:lnTo>
                    <a:pt x="104" y="1859"/>
                  </a:lnTo>
                  <a:lnTo>
                    <a:pt x="49" y="1634"/>
                  </a:lnTo>
                  <a:lnTo>
                    <a:pt x="10" y="1392"/>
                  </a:lnTo>
                  <a:lnTo>
                    <a:pt x="0" y="1147"/>
                  </a:lnTo>
                  <a:lnTo>
                    <a:pt x="14" y="874"/>
                  </a:lnTo>
                  <a:lnTo>
                    <a:pt x="66" y="591"/>
                  </a:lnTo>
                  <a:lnTo>
                    <a:pt x="190" y="390"/>
                  </a:lnTo>
                  <a:lnTo>
                    <a:pt x="297" y="239"/>
                  </a:lnTo>
                  <a:lnTo>
                    <a:pt x="390" y="124"/>
                  </a:lnTo>
                  <a:lnTo>
                    <a:pt x="477" y="52"/>
                  </a:lnTo>
                  <a:lnTo>
                    <a:pt x="542" y="7"/>
                  </a:lnTo>
                  <a:lnTo>
                    <a:pt x="615" y="0"/>
                  </a:lnTo>
                  <a:lnTo>
                    <a:pt x="684" y="7"/>
                  </a:lnTo>
                  <a:lnTo>
                    <a:pt x="750" y="38"/>
                  </a:lnTo>
                  <a:lnTo>
                    <a:pt x="626" y="343"/>
                  </a:lnTo>
                  <a:lnTo>
                    <a:pt x="536" y="646"/>
                  </a:lnTo>
                  <a:lnTo>
                    <a:pt x="467" y="954"/>
                  </a:lnTo>
                  <a:lnTo>
                    <a:pt x="429" y="1262"/>
                  </a:lnTo>
                  <a:lnTo>
                    <a:pt x="390" y="1573"/>
                  </a:lnTo>
                  <a:lnTo>
                    <a:pt x="373" y="1884"/>
                  </a:lnTo>
                  <a:lnTo>
                    <a:pt x="349" y="2195"/>
                  </a:lnTo>
                  <a:lnTo>
                    <a:pt x="332" y="2512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05"/>
            <p:cNvSpPr/>
            <p:nvPr/>
          </p:nvSpPr>
          <p:spPr>
            <a:xfrm>
              <a:off x="3695760" y="5064480"/>
              <a:ext cx="159120" cy="59508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595080"/>
                <a:gd name="textAreaBottom" fmla="*/ 595440 h 595080"/>
              </a:gdLst>
              <a:ahLst/>
              <a:rect l="textAreaLeft" t="textAreaTop" r="textAreaRight" b="textAreaBottom"/>
              <a:pathLst>
                <a:path w="740" h="2512">
                  <a:moveTo>
                    <a:pt x="322" y="2512"/>
                  </a:moveTo>
                  <a:lnTo>
                    <a:pt x="242" y="2298"/>
                  </a:lnTo>
                  <a:lnTo>
                    <a:pt x="166" y="2088"/>
                  </a:lnTo>
                  <a:lnTo>
                    <a:pt x="97" y="1866"/>
                  </a:lnTo>
                  <a:lnTo>
                    <a:pt x="49" y="1645"/>
                  </a:lnTo>
                  <a:lnTo>
                    <a:pt x="8" y="1406"/>
                  </a:lnTo>
                  <a:lnTo>
                    <a:pt x="0" y="1158"/>
                  </a:lnTo>
                  <a:lnTo>
                    <a:pt x="11" y="888"/>
                  </a:lnTo>
                  <a:lnTo>
                    <a:pt x="66" y="611"/>
                  </a:lnTo>
                  <a:lnTo>
                    <a:pt x="187" y="404"/>
                  </a:lnTo>
                  <a:lnTo>
                    <a:pt x="294" y="252"/>
                  </a:lnTo>
                  <a:lnTo>
                    <a:pt x="384" y="135"/>
                  </a:lnTo>
                  <a:lnTo>
                    <a:pt x="471" y="62"/>
                  </a:lnTo>
                  <a:lnTo>
                    <a:pt x="540" y="17"/>
                  </a:lnTo>
                  <a:lnTo>
                    <a:pt x="609" y="0"/>
                  </a:lnTo>
                  <a:lnTo>
                    <a:pt x="674" y="7"/>
                  </a:lnTo>
                  <a:lnTo>
                    <a:pt x="740" y="38"/>
                  </a:lnTo>
                  <a:lnTo>
                    <a:pt x="587" y="328"/>
                  </a:lnTo>
                  <a:lnTo>
                    <a:pt x="484" y="625"/>
                  </a:lnTo>
                  <a:lnTo>
                    <a:pt x="411" y="930"/>
                  </a:lnTo>
                  <a:lnTo>
                    <a:pt x="367" y="1241"/>
                  </a:lnTo>
                  <a:lnTo>
                    <a:pt x="339" y="1552"/>
                  </a:lnTo>
                  <a:lnTo>
                    <a:pt x="333" y="1870"/>
                  </a:lnTo>
                  <a:lnTo>
                    <a:pt x="328" y="2187"/>
                  </a:lnTo>
                  <a:lnTo>
                    <a:pt x="322" y="2512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06"/>
            <p:cNvSpPr/>
            <p:nvPr/>
          </p:nvSpPr>
          <p:spPr>
            <a:xfrm>
              <a:off x="3698280" y="5064480"/>
              <a:ext cx="156600" cy="595080"/>
            </a:xfrm>
            <a:custGeom>
              <a:avLst/>
              <a:gdLst>
                <a:gd name="textAreaLeft" fmla="*/ 0 w 156600"/>
                <a:gd name="textAreaRight" fmla="*/ 156960 w 156600"/>
                <a:gd name="textAreaTop" fmla="*/ 0 h 595080"/>
                <a:gd name="textAreaBottom" fmla="*/ 595440 h 595080"/>
              </a:gdLst>
              <a:ahLst/>
              <a:rect l="textAreaLeft" t="textAreaTop" r="textAreaRight" b="textAreaBottom"/>
              <a:pathLst>
                <a:path w="729" h="2509">
                  <a:moveTo>
                    <a:pt x="311" y="2509"/>
                  </a:moveTo>
                  <a:lnTo>
                    <a:pt x="231" y="2299"/>
                  </a:lnTo>
                  <a:lnTo>
                    <a:pt x="159" y="2088"/>
                  </a:lnTo>
                  <a:lnTo>
                    <a:pt x="89" y="1870"/>
                  </a:lnTo>
                  <a:lnTo>
                    <a:pt x="41" y="1653"/>
                  </a:lnTo>
                  <a:lnTo>
                    <a:pt x="6" y="1414"/>
                  </a:lnTo>
                  <a:lnTo>
                    <a:pt x="0" y="1165"/>
                  </a:lnTo>
                  <a:lnTo>
                    <a:pt x="14" y="896"/>
                  </a:lnTo>
                  <a:lnTo>
                    <a:pt x="72" y="616"/>
                  </a:lnTo>
                  <a:lnTo>
                    <a:pt x="190" y="409"/>
                  </a:lnTo>
                  <a:lnTo>
                    <a:pt x="294" y="253"/>
                  </a:lnTo>
                  <a:lnTo>
                    <a:pt x="383" y="135"/>
                  </a:lnTo>
                  <a:lnTo>
                    <a:pt x="463" y="63"/>
                  </a:lnTo>
                  <a:lnTo>
                    <a:pt x="532" y="14"/>
                  </a:lnTo>
                  <a:lnTo>
                    <a:pt x="605" y="0"/>
                  </a:lnTo>
                  <a:lnTo>
                    <a:pt x="663" y="4"/>
                  </a:lnTo>
                  <a:lnTo>
                    <a:pt x="729" y="35"/>
                  </a:lnTo>
                  <a:lnTo>
                    <a:pt x="553" y="311"/>
                  </a:lnTo>
                  <a:lnTo>
                    <a:pt x="432" y="602"/>
                  </a:lnTo>
                  <a:lnTo>
                    <a:pt x="352" y="905"/>
                  </a:lnTo>
                  <a:lnTo>
                    <a:pt x="311" y="1213"/>
                  </a:lnTo>
                  <a:lnTo>
                    <a:pt x="290" y="1528"/>
                  </a:lnTo>
                  <a:lnTo>
                    <a:pt x="290" y="1853"/>
                  </a:lnTo>
                  <a:lnTo>
                    <a:pt x="297" y="2178"/>
                  </a:lnTo>
                  <a:lnTo>
                    <a:pt x="311" y="2509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07"/>
            <p:cNvSpPr/>
            <p:nvPr/>
          </p:nvSpPr>
          <p:spPr>
            <a:xfrm>
              <a:off x="3701160" y="5065560"/>
              <a:ext cx="153720" cy="59400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594000"/>
                <a:gd name="textAreaBottom" fmla="*/ 594360 h 594000"/>
              </a:gdLst>
              <a:ahLst/>
              <a:rect l="textAreaLeft" t="textAreaTop" r="textAreaRight" b="textAreaBottom"/>
              <a:pathLst>
                <a:path w="718" h="2505">
                  <a:moveTo>
                    <a:pt x="300" y="2505"/>
                  </a:moveTo>
                  <a:lnTo>
                    <a:pt x="224" y="2295"/>
                  </a:lnTo>
                  <a:lnTo>
                    <a:pt x="151" y="2084"/>
                  </a:lnTo>
                  <a:lnTo>
                    <a:pt x="89" y="1866"/>
                  </a:lnTo>
                  <a:lnTo>
                    <a:pt x="41" y="1652"/>
                  </a:lnTo>
                  <a:lnTo>
                    <a:pt x="3" y="1417"/>
                  </a:lnTo>
                  <a:lnTo>
                    <a:pt x="0" y="1171"/>
                  </a:lnTo>
                  <a:lnTo>
                    <a:pt x="23" y="909"/>
                  </a:lnTo>
                  <a:lnTo>
                    <a:pt x="78" y="629"/>
                  </a:lnTo>
                  <a:lnTo>
                    <a:pt x="193" y="418"/>
                  </a:lnTo>
                  <a:lnTo>
                    <a:pt x="293" y="262"/>
                  </a:lnTo>
                  <a:lnTo>
                    <a:pt x="375" y="141"/>
                  </a:lnTo>
                  <a:lnTo>
                    <a:pt x="459" y="62"/>
                  </a:lnTo>
                  <a:lnTo>
                    <a:pt x="524" y="14"/>
                  </a:lnTo>
                  <a:lnTo>
                    <a:pt x="594" y="0"/>
                  </a:lnTo>
                  <a:lnTo>
                    <a:pt x="656" y="7"/>
                  </a:lnTo>
                  <a:lnTo>
                    <a:pt x="718" y="31"/>
                  </a:lnTo>
                  <a:lnTo>
                    <a:pt x="518" y="297"/>
                  </a:lnTo>
                  <a:lnTo>
                    <a:pt x="383" y="581"/>
                  </a:lnTo>
                  <a:lnTo>
                    <a:pt x="297" y="878"/>
                  </a:lnTo>
                  <a:lnTo>
                    <a:pt x="254" y="1189"/>
                  </a:lnTo>
                  <a:lnTo>
                    <a:pt x="237" y="1506"/>
                  </a:lnTo>
                  <a:lnTo>
                    <a:pt x="251" y="1835"/>
                  </a:lnTo>
                  <a:lnTo>
                    <a:pt x="272" y="2170"/>
                  </a:lnTo>
                  <a:lnTo>
                    <a:pt x="300" y="2505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08"/>
            <p:cNvSpPr/>
            <p:nvPr/>
          </p:nvSpPr>
          <p:spPr>
            <a:xfrm>
              <a:off x="2771640" y="5634360"/>
              <a:ext cx="817560" cy="189000"/>
            </a:xfrm>
            <a:custGeom>
              <a:avLst/>
              <a:gdLst>
                <a:gd name="textAreaLeft" fmla="*/ 0 w 817560"/>
                <a:gd name="textAreaRight" fmla="*/ 817920 w 81756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3788" h="798">
                  <a:moveTo>
                    <a:pt x="0" y="798"/>
                  </a:moveTo>
                  <a:lnTo>
                    <a:pt x="300" y="670"/>
                  </a:lnTo>
                  <a:lnTo>
                    <a:pt x="671" y="590"/>
                  </a:lnTo>
                  <a:lnTo>
                    <a:pt x="1089" y="538"/>
                  </a:lnTo>
                  <a:lnTo>
                    <a:pt x="1549" y="526"/>
                  </a:lnTo>
                  <a:lnTo>
                    <a:pt x="2019" y="532"/>
                  </a:lnTo>
                  <a:lnTo>
                    <a:pt x="2502" y="567"/>
                  </a:lnTo>
                  <a:lnTo>
                    <a:pt x="2972" y="618"/>
                  </a:lnTo>
                  <a:lnTo>
                    <a:pt x="3418" y="681"/>
                  </a:lnTo>
                  <a:lnTo>
                    <a:pt x="3463" y="684"/>
                  </a:lnTo>
                  <a:lnTo>
                    <a:pt x="3508" y="688"/>
                  </a:lnTo>
                  <a:lnTo>
                    <a:pt x="3552" y="694"/>
                  </a:lnTo>
                  <a:lnTo>
                    <a:pt x="3601" y="702"/>
                  </a:lnTo>
                  <a:lnTo>
                    <a:pt x="3646" y="708"/>
                  </a:lnTo>
                  <a:lnTo>
                    <a:pt x="3690" y="716"/>
                  </a:lnTo>
                  <a:lnTo>
                    <a:pt x="3736" y="719"/>
                  </a:lnTo>
                  <a:lnTo>
                    <a:pt x="3788" y="729"/>
                  </a:lnTo>
                  <a:lnTo>
                    <a:pt x="3235" y="335"/>
                  </a:lnTo>
                  <a:lnTo>
                    <a:pt x="2627" y="100"/>
                  </a:lnTo>
                  <a:lnTo>
                    <a:pt x="2001" y="0"/>
                  </a:lnTo>
                  <a:lnTo>
                    <a:pt x="1400" y="28"/>
                  </a:lnTo>
                  <a:lnTo>
                    <a:pt x="853" y="135"/>
                  </a:lnTo>
                  <a:lnTo>
                    <a:pt x="415" y="321"/>
                  </a:lnTo>
                  <a:lnTo>
                    <a:pt x="114" y="546"/>
                  </a:lnTo>
                  <a:lnTo>
                    <a:pt x="0" y="798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09"/>
            <p:cNvSpPr/>
            <p:nvPr/>
          </p:nvSpPr>
          <p:spPr>
            <a:xfrm>
              <a:off x="2781720" y="5638680"/>
              <a:ext cx="807480" cy="176040"/>
            </a:xfrm>
            <a:custGeom>
              <a:avLst/>
              <a:gdLst>
                <a:gd name="textAreaLeft" fmla="*/ 0 w 807480"/>
                <a:gd name="textAreaRight" fmla="*/ 807840 w 807480"/>
                <a:gd name="textAreaTop" fmla="*/ 0 h 176040"/>
                <a:gd name="textAreaBottom" fmla="*/ 176040 h 176040"/>
              </a:gdLst>
              <a:ahLst/>
              <a:rect l="textAreaLeft" t="textAreaTop" r="textAreaRight" b="textAreaBottom"/>
              <a:pathLst>
                <a:path w="3739" h="743">
                  <a:moveTo>
                    <a:pt x="0" y="743"/>
                  </a:moveTo>
                  <a:lnTo>
                    <a:pt x="303" y="612"/>
                  </a:lnTo>
                  <a:lnTo>
                    <a:pt x="677" y="529"/>
                  </a:lnTo>
                  <a:lnTo>
                    <a:pt x="1095" y="474"/>
                  </a:lnTo>
                  <a:lnTo>
                    <a:pt x="1552" y="460"/>
                  </a:lnTo>
                  <a:lnTo>
                    <a:pt x="2021" y="470"/>
                  </a:lnTo>
                  <a:lnTo>
                    <a:pt x="2491" y="504"/>
                  </a:lnTo>
                  <a:lnTo>
                    <a:pt x="2947" y="567"/>
                  </a:lnTo>
                  <a:lnTo>
                    <a:pt x="3369" y="650"/>
                  </a:lnTo>
                  <a:lnTo>
                    <a:pt x="3410" y="653"/>
                  </a:lnTo>
                  <a:lnTo>
                    <a:pt x="3459" y="664"/>
                  </a:lnTo>
                  <a:lnTo>
                    <a:pt x="3503" y="667"/>
                  </a:lnTo>
                  <a:lnTo>
                    <a:pt x="3552" y="681"/>
                  </a:lnTo>
                  <a:lnTo>
                    <a:pt x="3594" y="685"/>
                  </a:lnTo>
                  <a:lnTo>
                    <a:pt x="3641" y="694"/>
                  </a:lnTo>
                  <a:lnTo>
                    <a:pt x="3687" y="702"/>
                  </a:lnTo>
                  <a:lnTo>
                    <a:pt x="3739" y="712"/>
                  </a:lnTo>
                  <a:lnTo>
                    <a:pt x="3189" y="325"/>
                  </a:lnTo>
                  <a:lnTo>
                    <a:pt x="2592" y="100"/>
                  </a:lnTo>
                  <a:lnTo>
                    <a:pt x="1970" y="0"/>
                  </a:lnTo>
                  <a:lnTo>
                    <a:pt x="1379" y="20"/>
                  </a:lnTo>
                  <a:lnTo>
                    <a:pt x="836" y="118"/>
                  </a:lnTo>
                  <a:lnTo>
                    <a:pt x="404" y="290"/>
                  </a:lnTo>
                  <a:lnTo>
                    <a:pt x="110" y="501"/>
                  </a:lnTo>
                  <a:lnTo>
                    <a:pt x="0" y="743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10"/>
            <p:cNvSpPr/>
            <p:nvPr/>
          </p:nvSpPr>
          <p:spPr>
            <a:xfrm>
              <a:off x="2793600" y="5644440"/>
              <a:ext cx="795600" cy="163440"/>
            </a:xfrm>
            <a:custGeom>
              <a:avLst/>
              <a:gdLst>
                <a:gd name="textAreaLeft" fmla="*/ 0 w 795600"/>
                <a:gd name="textAreaRight" fmla="*/ 795960 w 79560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3688" h="692">
                  <a:moveTo>
                    <a:pt x="0" y="682"/>
                  </a:moveTo>
                  <a:lnTo>
                    <a:pt x="304" y="547"/>
                  </a:lnTo>
                  <a:lnTo>
                    <a:pt x="681" y="454"/>
                  </a:lnTo>
                  <a:lnTo>
                    <a:pt x="1106" y="395"/>
                  </a:lnTo>
                  <a:lnTo>
                    <a:pt x="1559" y="381"/>
                  </a:lnTo>
                  <a:lnTo>
                    <a:pt x="2019" y="391"/>
                  </a:lnTo>
                  <a:lnTo>
                    <a:pt x="2481" y="440"/>
                  </a:lnTo>
                  <a:lnTo>
                    <a:pt x="2918" y="516"/>
                  </a:lnTo>
                  <a:lnTo>
                    <a:pt x="3318" y="619"/>
                  </a:lnTo>
                  <a:lnTo>
                    <a:pt x="3359" y="627"/>
                  </a:lnTo>
                  <a:lnTo>
                    <a:pt x="3408" y="633"/>
                  </a:lnTo>
                  <a:lnTo>
                    <a:pt x="3452" y="644"/>
                  </a:lnTo>
                  <a:lnTo>
                    <a:pt x="3501" y="651"/>
                  </a:lnTo>
                  <a:lnTo>
                    <a:pt x="3543" y="661"/>
                  </a:lnTo>
                  <a:lnTo>
                    <a:pt x="3590" y="671"/>
                  </a:lnTo>
                  <a:lnTo>
                    <a:pt x="3636" y="679"/>
                  </a:lnTo>
                  <a:lnTo>
                    <a:pt x="3688" y="692"/>
                  </a:lnTo>
                  <a:lnTo>
                    <a:pt x="3149" y="319"/>
                  </a:lnTo>
                  <a:lnTo>
                    <a:pt x="2555" y="98"/>
                  </a:lnTo>
                  <a:lnTo>
                    <a:pt x="1942" y="0"/>
                  </a:lnTo>
                  <a:lnTo>
                    <a:pt x="1358" y="8"/>
                  </a:lnTo>
                  <a:lnTo>
                    <a:pt x="827" y="98"/>
                  </a:lnTo>
                  <a:lnTo>
                    <a:pt x="395" y="256"/>
                  </a:lnTo>
                  <a:lnTo>
                    <a:pt x="107" y="454"/>
                  </a:lnTo>
                  <a:lnTo>
                    <a:pt x="0" y="682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11"/>
            <p:cNvSpPr/>
            <p:nvPr/>
          </p:nvSpPr>
          <p:spPr>
            <a:xfrm>
              <a:off x="2802600" y="5647320"/>
              <a:ext cx="786600" cy="160200"/>
            </a:xfrm>
            <a:custGeom>
              <a:avLst/>
              <a:gdLst>
                <a:gd name="textAreaLeft" fmla="*/ 0 w 786600"/>
                <a:gd name="textAreaRight" fmla="*/ 786960 w 786600"/>
                <a:gd name="textAreaTop" fmla="*/ 0 h 160200"/>
                <a:gd name="textAreaBottom" fmla="*/ 160200 h 160200"/>
              </a:gdLst>
              <a:ahLst/>
              <a:rect l="textAreaLeft" t="textAreaTop" r="textAreaRight" b="textAreaBottom"/>
              <a:pathLst>
                <a:path w="3643" h="678">
                  <a:moveTo>
                    <a:pt x="0" y="633"/>
                  </a:moveTo>
                  <a:lnTo>
                    <a:pt x="308" y="487"/>
                  </a:lnTo>
                  <a:lnTo>
                    <a:pt x="691" y="391"/>
                  </a:lnTo>
                  <a:lnTo>
                    <a:pt x="1113" y="329"/>
                  </a:lnTo>
                  <a:lnTo>
                    <a:pt x="1569" y="308"/>
                  </a:lnTo>
                  <a:lnTo>
                    <a:pt x="2029" y="322"/>
                  </a:lnTo>
                  <a:lnTo>
                    <a:pt x="2478" y="377"/>
                  </a:lnTo>
                  <a:lnTo>
                    <a:pt x="2896" y="464"/>
                  </a:lnTo>
                  <a:lnTo>
                    <a:pt x="3273" y="588"/>
                  </a:lnTo>
                  <a:lnTo>
                    <a:pt x="3314" y="599"/>
                  </a:lnTo>
                  <a:lnTo>
                    <a:pt x="3363" y="605"/>
                  </a:lnTo>
                  <a:lnTo>
                    <a:pt x="3407" y="616"/>
                  </a:lnTo>
                  <a:lnTo>
                    <a:pt x="3456" y="630"/>
                  </a:lnTo>
                  <a:lnTo>
                    <a:pt x="3498" y="637"/>
                  </a:lnTo>
                  <a:lnTo>
                    <a:pt x="3545" y="651"/>
                  </a:lnTo>
                  <a:lnTo>
                    <a:pt x="3591" y="665"/>
                  </a:lnTo>
                  <a:lnTo>
                    <a:pt x="3643" y="678"/>
                  </a:lnTo>
                  <a:lnTo>
                    <a:pt x="3107" y="315"/>
                  </a:lnTo>
                  <a:lnTo>
                    <a:pt x="2523" y="98"/>
                  </a:lnTo>
                  <a:lnTo>
                    <a:pt x="1915" y="0"/>
                  </a:lnTo>
                  <a:lnTo>
                    <a:pt x="1335" y="4"/>
                  </a:lnTo>
                  <a:lnTo>
                    <a:pt x="809" y="84"/>
                  </a:lnTo>
                  <a:lnTo>
                    <a:pt x="387" y="233"/>
                  </a:lnTo>
                  <a:lnTo>
                    <a:pt x="103" y="418"/>
                  </a:lnTo>
                  <a:lnTo>
                    <a:pt x="0" y="633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2"/>
            <p:cNvSpPr/>
            <p:nvPr/>
          </p:nvSpPr>
          <p:spPr>
            <a:xfrm>
              <a:off x="2813040" y="5650200"/>
              <a:ext cx="776160" cy="157320"/>
            </a:xfrm>
            <a:custGeom>
              <a:avLst/>
              <a:gdLst>
                <a:gd name="textAreaLeft" fmla="*/ 0 w 776160"/>
                <a:gd name="textAreaRight" fmla="*/ 776520 w 77616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3598" h="667">
                  <a:moveTo>
                    <a:pt x="0" y="588"/>
                  </a:moveTo>
                  <a:lnTo>
                    <a:pt x="314" y="439"/>
                  </a:lnTo>
                  <a:lnTo>
                    <a:pt x="702" y="335"/>
                  </a:lnTo>
                  <a:lnTo>
                    <a:pt x="1123" y="273"/>
                  </a:lnTo>
                  <a:lnTo>
                    <a:pt x="1576" y="249"/>
                  </a:lnTo>
                  <a:lnTo>
                    <a:pt x="2028" y="263"/>
                  </a:lnTo>
                  <a:lnTo>
                    <a:pt x="2468" y="321"/>
                  </a:lnTo>
                  <a:lnTo>
                    <a:pt x="2872" y="418"/>
                  </a:lnTo>
                  <a:lnTo>
                    <a:pt x="3228" y="563"/>
                  </a:lnTo>
                  <a:lnTo>
                    <a:pt x="3269" y="574"/>
                  </a:lnTo>
                  <a:lnTo>
                    <a:pt x="3318" y="588"/>
                  </a:lnTo>
                  <a:lnTo>
                    <a:pt x="3362" y="602"/>
                  </a:lnTo>
                  <a:lnTo>
                    <a:pt x="3411" y="611"/>
                  </a:lnTo>
                  <a:lnTo>
                    <a:pt x="3453" y="626"/>
                  </a:lnTo>
                  <a:lnTo>
                    <a:pt x="3500" y="640"/>
                  </a:lnTo>
                  <a:lnTo>
                    <a:pt x="3546" y="654"/>
                  </a:lnTo>
                  <a:lnTo>
                    <a:pt x="3598" y="667"/>
                  </a:lnTo>
                  <a:lnTo>
                    <a:pt x="3069" y="318"/>
                  </a:lnTo>
                  <a:lnTo>
                    <a:pt x="2492" y="104"/>
                  </a:lnTo>
                  <a:lnTo>
                    <a:pt x="1890" y="0"/>
                  </a:lnTo>
                  <a:lnTo>
                    <a:pt x="1317" y="0"/>
                  </a:lnTo>
                  <a:lnTo>
                    <a:pt x="795" y="73"/>
                  </a:lnTo>
                  <a:lnTo>
                    <a:pt x="380" y="208"/>
                  </a:lnTo>
                  <a:lnTo>
                    <a:pt x="97" y="384"/>
                  </a:lnTo>
                  <a:lnTo>
                    <a:pt x="0" y="588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13"/>
            <p:cNvSpPr/>
            <p:nvPr/>
          </p:nvSpPr>
          <p:spPr>
            <a:xfrm>
              <a:off x="3881160" y="5881680"/>
              <a:ext cx="375480" cy="635400"/>
            </a:xfrm>
            <a:custGeom>
              <a:avLst/>
              <a:gdLst>
                <a:gd name="textAreaLeft" fmla="*/ 0 w 375480"/>
                <a:gd name="textAreaRight" fmla="*/ 375840 w 375480"/>
                <a:gd name="textAreaTop" fmla="*/ 0 h 635400"/>
                <a:gd name="textAreaBottom" fmla="*/ 635760 h 635400"/>
              </a:gdLst>
              <a:ahLst/>
              <a:rect l="textAreaLeft" t="textAreaTop" r="textAreaRight" b="textAreaBottom"/>
              <a:pathLst>
                <a:path w="1739" h="2686">
                  <a:moveTo>
                    <a:pt x="0" y="21"/>
                  </a:moveTo>
                  <a:lnTo>
                    <a:pt x="363" y="0"/>
                  </a:lnTo>
                  <a:lnTo>
                    <a:pt x="761" y="59"/>
                  </a:lnTo>
                  <a:lnTo>
                    <a:pt x="1130" y="211"/>
                  </a:lnTo>
                  <a:lnTo>
                    <a:pt x="1449" y="466"/>
                  </a:lnTo>
                  <a:lnTo>
                    <a:pt x="1656" y="826"/>
                  </a:lnTo>
                  <a:lnTo>
                    <a:pt x="1739" y="1313"/>
                  </a:lnTo>
                  <a:lnTo>
                    <a:pt x="1642" y="1928"/>
                  </a:lnTo>
                  <a:lnTo>
                    <a:pt x="1338" y="2686"/>
                  </a:lnTo>
                  <a:lnTo>
                    <a:pt x="1407" y="1952"/>
                  </a:lnTo>
                  <a:lnTo>
                    <a:pt x="1383" y="1399"/>
                  </a:lnTo>
                  <a:lnTo>
                    <a:pt x="1265" y="985"/>
                  </a:lnTo>
                  <a:lnTo>
                    <a:pt x="1078" y="684"/>
                  </a:lnTo>
                  <a:lnTo>
                    <a:pt x="841" y="463"/>
                  </a:lnTo>
                  <a:lnTo>
                    <a:pt x="571" y="301"/>
                  </a:lnTo>
                  <a:lnTo>
                    <a:pt x="283" y="163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14"/>
            <p:cNvSpPr/>
            <p:nvPr/>
          </p:nvSpPr>
          <p:spPr>
            <a:xfrm>
              <a:off x="3881160" y="5880240"/>
              <a:ext cx="373320" cy="61668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616680"/>
                <a:gd name="textAreaBottom" fmla="*/ 617040 h 616680"/>
              </a:gdLst>
              <a:ahLst/>
              <a:rect l="textAreaLeft" t="textAreaTop" r="textAreaRight" b="textAreaBottom"/>
              <a:pathLst>
                <a:path w="1729" h="2603">
                  <a:moveTo>
                    <a:pt x="0" y="25"/>
                  </a:moveTo>
                  <a:lnTo>
                    <a:pt x="360" y="0"/>
                  </a:lnTo>
                  <a:lnTo>
                    <a:pt x="744" y="55"/>
                  </a:lnTo>
                  <a:lnTo>
                    <a:pt x="1110" y="204"/>
                  </a:lnTo>
                  <a:lnTo>
                    <a:pt x="1428" y="457"/>
                  </a:lnTo>
                  <a:lnTo>
                    <a:pt x="1639" y="809"/>
                  </a:lnTo>
                  <a:lnTo>
                    <a:pt x="1729" y="1276"/>
                  </a:lnTo>
                  <a:lnTo>
                    <a:pt x="1649" y="1870"/>
                  </a:lnTo>
                  <a:lnTo>
                    <a:pt x="1362" y="2603"/>
                  </a:lnTo>
                  <a:lnTo>
                    <a:pt x="1432" y="1887"/>
                  </a:lnTo>
                  <a:lnTo>
                    <a:pt x="1400" y="1348"/>
                  </a:lnTo>
                  <a:lnTo>
                    <a:pt x="1279" y="944"/>
                  </a:lnTo>
                  <a:lnTo>
                    <a:pt x="1092" y="657"/>
                  </a:lnTo>
                  <a:lnTo>
                    <a:pt x="850" y="443"/>
                  </a:lnTo>
                  <a:lnTo>
                    <a:pt x="582" y="291"/>
                  </a:lnTo>
                  <a:lnTo>
                    <a:pt x="288" y="159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15"/>
            <p:cNvSpPr/>
            <p:nvPr/>
          </p:nvSpPr>
          <p:spPr>
            <a:xfrm>
              <a:off x="3881160" y="5880240"/>
              <a:ext cx="371880" cy="595440"/>
            </a:xfrm>
            <a:custGeom>
              <a:avLst/>
              <a:gdLst>
                <a:gd name="textAreaLeft" fmla="*/ 0 w 371880"/>
                <a:gd name="textAreaRight" fmla="*/ 372240 w 371880"/>
                <a:gd name="textAreaTop" fmla="*/ 0 h 595440"/>
                <a:gd name="textAreaBottom" fmla="*/ 595800 h 595440"/>
              </a:gdLst>
              <a:ahLst/>
              <a:rect l="textAreaLeft" t="textAreaTop" r="textAreaRight" b="textAreaBottom"/>
              <a:pathLst>
                <a:path w="1725" h="2517">
                  <a:moveTo>
                    <a:pt x="0" y="25"/>
                  </a:moveTo>
                  <a:lnTo>
                    <a:pt x="353" y="0"/>
                  </a:lnTo>
                  <a:lnTo>
                    <a:pt x="730" y="55"/>
                  </a:lnTo>
                  <a:lnTo>
                    <a:pt x="1092" y="201"/>
                  </a:lnTo>
                  <a:lnTo>
                    <a:pt x="1407" y="443"/>
                  </a:lnTo>
                  <a:lnTo>
                    <a:pt x="1625" y="786"/>
                  </a:lnTo>
                  <a:lnTo>
                    <a:pt x="1725" y="1241"/>
                  </a:lnTo>
                  <a:lnTo>
                    <a:pt x="1653" y="1812"/>
                  </a:lnTo>
                  <a:lnTo>
                    <a:pt x="1386" y="2517"/>
                  </a:lnTo>
                  <a:lnTo>
                    <a:pt x="1449" y="1822"/>
                  </a:lnTo>
                  <a:lnTo>
                    <a:pt x="1414" y="1293"/>
                  </a:lnTo>
                  <a:lnTo>
                    <a:pt x="1293" y="902"/>
                  </a:lnTo>
                  <a:lnTo>
                    <a:pt x="1103" y="622"/>
                  </a:lnTo>
                  <a:lnTo>
                    <a:pt x="854" y="423"/>
                  </a:lnTo>
                  <a:lnTo>
                    <a:pt x="582" y="274"/>
                  </a:lnTo>
                  <a:lnTo>
                    <a:pt x="288" y="146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16"/>
            <p:cNvSpPr/>
            <p:nvPr/>
          </p:nvSpPr>
          <p:spPr>
            <a:xfrm>
              <a:off x="3881160" y="5880240"/>
              <a:ext cx="370440" cy="576720"/>
            </a:xfrm>
            <a:custGeom>
              <a:avLst/>
              <a:gdLst>
                <a:gd name="textAreaLeft" fmla="*/ 0 w 370440"/>
                <a:gd name="textAreaRight" fmla="*/ 370800 w 370440"/>
                <a:gd name="textAreaTop" fmla="*/ 0 h 576720"/>
                <a:gd name="textAreaBottom" fmla="*/ 577080 h 576720"/>
              </a:gdLst>
              <a:ahLst/>
              <a:rect l="textAreaLeft" t="textAreaTop" r="textAreaRight" b="textAreaBottom"/>
              <a:pathLst>
                <a:path w="1718" h="2434">
                  <a:moveTo>
                    <a:pt x="0" y="25"/>
                  </a:moveTo>
                  <a:lnTo>
                    <a:pt x="343" y="0"/>
                  </a:lnTo>
                  <a:lnTo>
                    <a:pt x="715" y="52"/>
                  </a:lnTo>
                  <a:lnTo>
                    <a:pt x="1075" y="190"/>
                  </a:lnTo>
                  <a:lnTo>
                    <a:pt x="1394" y="429"/>
                  </a:lnTo>
                  <a:lnTo>
                    <a:pt x="1618" y="757"/>
                  </a:lnTo>
                  <a:lnTo>
                    <a:pt x="1718" y="1200"/>
                  </a:lnTo>
                  <a:lnTo>
                    <a:pt x="1663" y="1753"/>
                  </a:lnTo>
                  <a:lnTo>
                    <a:pt x="1414" y="2434"/>
                  </a:lnTo>
                  <a:lnTo>
                    <a:pt x="1473" y="1753"/>
                  </a:lnTo>
                  <a:lnTo>
                    <a:pt x="1432" y="1241"/>
                  </a:lnTo>
                  <a:lnTo>
                    <a:pt x="1303" y="858"/>
                  </a:lnTo>
                  <a:lnTo>
                    <a:pt x="1110" y="588"/>
                  </a:lnTo>
                  <a:lnTo>
                    <a:pt x="865" y="395"/>
                  </a:lnTo>
                  <a:lnTo>
                    <a:pt x="585" y="256"/>
                  </a:lnTo>
                  <a:lnTo>
                    <a:pt x="288" y="139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17"/>
            <p:cNvSpPr/>
            <p:nvPr/>
          </p:nvSpPr>
          <p:spPr>
            <a:xfrm>
              <a:off x="3881160" y="5880240"/>
              <a:ext cx="369000" cy="555480"/>
            </a:xfrm>
            <a:custGeom>
              <a:avLst/>
              <a:gdLst>
                <a:gd name="textAreaLeft" fmla="*/ 0 w 369000"/>
                <a:gd name="textAreaRight" fmla="*/ 369360 w 369000"/>
                <a:gd name="textAreaTop" fmla="*/ 0 h 555480"/>
                <a:gd name="textAreaBottom" fmla="*/ 555840 h 555480"/>
              </a:gdLst>
              <a:ahLst/>
              <a:rect l="textAreaLeft" t="textAreaTop" r="textAreaRight" b="textAreaBottom"/>
              <a:pathLst>
                <a:path w="1711" h="2347">
                  <a:moveTo>
                    <a:pt x="0" y="25"/>
                  </a:moveTo>
                  <a:lnTo>
                    <a:pt x="332" y="0"/>
                  </a:lnTo>
                  <a:lnTo>
                    <a:pt x="703" y="52"/>
                  </a:lnTo>
                  <a:lnTo>
                    <a:pt x="1058" y="187"/>
                  </a:lnTo>
                  <a:lnTo>
                    <a:pt x="1376" y="418"/>
                  </a:lnTo>
                  <a:lnTo>
                    <a:pt x="1604" y="737"/>
                  </a:lnTo>
                  <a:lnTo>
                    <a:pt x="1711" y="1166"/>
                  </a:lnTo>
                  <a:lnTo>
                    <a:pt x="1666" y="1694"/>
                  </a:lnTo>
                  <a:lnTo>
                    <a:pt x="1435" y="2347"/>
                  </a:lnTo>
                  <a:lnTo>
                    <a:pt x="1490" y="1687"/>
                  </a:lnTo>
                  <a:lnTo>
                    <a:pt x="1446" y="1186"/>
                  </a:lnTo>
                  <a:lnTo>
                    <a:pt x="1314" y="816"/>
                  </a:lnTo>
                  <a:lnTo>
                    <a:pt x="1120" y="557"/>
                  </a:lnTo>
                  <a:lnTo>
                    <a:pt x="871" y="374"/>
                  </a:lnTo>
                  <a:lnTo>
                    <a:pt x="595" y="242"/>
                  </a:lnTo>
                  <a:lnTo>
                    <a:pt x="294" y="13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18"/>
            <p:cNvSpPr/>
            <p:nvPr/>
          </p:nvSpPr>
          <p:spPr>
            <a:xfrm>
              <a:off x="3571560" y="5891760"/>
              <a:ext cx="226440" cy="565560"/>
            </a:xfrm>
            <a:custGeom>
              <a:avLst/>
              <a:gdLst>
                <a:gd name="textAreaLeft" fmla="*/ 0 w 226440"/>
                <a:gd name="textAreaRight" fmla="*/ 226800 w 226440"/>
                <a:gd name="textAreaTop" fmla="*/ 0 h 565560"/>
                <a:gd name="textAreaBottom" fmla="*/ 565920 h 565560"/>
              </a:gdLst>
              <a:ahLst/>
              <a:rect l="textAreaLeft" t="textAreaTop" r="textAreaRight" b="textAreaBottom"/>
              <a:pathLst>
                <a:path w="1048" h="2388">
                  <a:moveTo>
                    <a:pt x="1048" y="0"/>
                  </a:moveTo>
                  <a:lnTo>
                    <a:pt x="882" y="158"/>
                  </a:lnTo>
                  <a:lnTo>
                    <a:pt x="772" y="380"/>
                  </a:lnTo>
                  <a:lnTo>
                    <a:pt x="699" y="636"/>
                  </a:lnTo>
                  <a:lnTo>
                    <a:pt x="668" y="925"/>
                  </a:lnTo>
                  <a:lnTo>
                    <a:pt x="665" y="1227"/>
                  </a:lnTo>
                  <a:lnTo>
                    <a:pt x="685" y="1538"/>
                  </a:lnTo>
                  <a:lnTo>
                    <a:pt x="729" y="1841"/>
                  </a:lnTo>
                  <a:lnTo>
                    <a:pt x="792" y="2139"/>
                  </a:lnTo>
                  <a:lnTo>
                    <a:pt x="799" y="2166"/>
                  </a:lnTo>
                  <a:lnTo>
                    <a:pt x="803" y="2198"/>
                  </a:lnTo>
                  <a:lnTo>
                    <a:pt x="806" y="2229"/>
                  </a:lnTo>
                  <a:lnTo>
                    <a:pt x="816" y="2260"/>
                  </a:lnTo>
                  <a:lnTo>
                    <a:pt x="820" y="2287"/>
                  </a:lnTo>
                  <a:lnTo>
                    <a:pt x="830" y="2318"/>
                  </a:lnTo>
                  <a:lnTo>
                    <a:pt x="833" y="2350"/>
                  </a:lnTo>
                  <a:lnTo>
                    <a:pt x="844" y="2388"/>
                  </a:lnTo>
                  <a:lnTo>
                    <a:pt x="371" y="1956"/>
                  </a:lnTo>
                  <a:lnTo>
                    <a:pt x="104" y="1524"/>
                  </a:lnTo>
                  <a:lnTo>
                    <a:pt x="0" y="1106"/>
                  </a:lnTo>
                  <a:lnTo>
                    <a:pt x="52" y="732"/>
                  </a:lnTo>
                  <a:lnTo>
                    <a:pt x="205" y="407"/>
                  </a:lnTo>
                  <a:lnTo>
                    <a:pt x="443" y="165"/>
                  </a:lnTo>
                  <a:lnTo>
                    <a:pt x="729" y="20"/>
                  </a:lnTo>
                  <a:lnTo>
                    <a:pt x="1048" y="0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19"/>
            <p:cNvSpPr/>
            <p:nvPr/>
          </p:nvSpPr>
          <p:spPr>
            <a:xfrm>
              <a:off x="3578040" y="5897520"/>
              <a:ext cx="209880" cy="559800"/>
            </a:xfrm>
            <a:custGeom>
              <a:avLst/>
              <a:gdLst>
                <a:gd name="textAreaLeft" fmla="*/ 0 w 209880"/>
                <a:gd name="textAreaRight" fmla="*/ 210240 w 209880"/>
                <a:gd name="textAreaTop" fmla="*/ 0 h 559800"/>
                <a:gd name="textAreaBottom" fmla="*/ 559800 h 559800"/>
              </a:gdLst>
              <a:ahLst/>
              <a:rect l="textAreaLeft" t="textAreaTop" r="textAreaRight" b="textAreaBottom"/>
              <a:pathLst>
                <a:path w="974" h="2365">
                  <a:moveTo>
                    <a:pt x="974" y="0"/>
                  </a:moveTo>
                  <a:lnTo>
                    <a:pt x="798" y="164"/>
                  </a:lnTo>
                  <a:lnTo>
                    <a:pt x="684" y="384"/>
                  </a:lnTo>
                  <a:lnTo>
                    <a:pt x="601" y="640"/>
                  </a:lnTo>
                  <a:lnTo>
                    <a:pt x="571" y="927"/>
                  </a:lnTo>
                  <a:lnTo>
                    <a:pt x="566" y="1224"/>
                  </a:lnTo>
                  <a:lnTo>
                    <a:pt x="601" y="1532"/>
                  </a:lnTo>
                  <a:lnTo>
                    <a:pt x="663" y="1829"/>
                  </a:lnTo>
                  <a:lnTo>
                    <a:pt x="753" y="2116"/>
                  </a:lnTo>
                  <a:lnTo>
                    <a:pt x="761" y="2143"/>
                  </a:lnTo>
                  <a:lnTo>
                    <a:pt x="767" y="2175"/>
                  </a:lnTo>
                  <a:lnTo>
                    <a:pt x="778" y="2206"/>
                  </a:lnTo>
                  <a:lnTo>
                    <a:pt x="784" y="2237"/>
                  </a:lnTo>
                  <a:lnTo>
                    <a:pt x="791" y="2264"/>
                  </a:lnTo>
                  <a:lnTo>
                    <a:pt x="798" y="2295"/>
                  </a:lnTo>
                  <a:lnTo>
                    <a:pt x="808" y="2327"/>
                  </a:lnTo>
                  <a:lnTo>
                    <a:pt x="819" y="2365"/>
                  </a:lnTo>
                  <a:lnTo>
                    <a:pt x="359" y="1939"/>
                  </a:lnTo>
                  <a:lnTo>
                    <a:pt x="96" y="1515"/>
                  </a:lnTo>
                  <a:lnTo>
                    <a:pt x="0" y="1100"/>
                  </a:lnTo>
                  <a:lnTo>
                    <a:pt x="38" y="726"/>
                  </a:lnTo>
                  <a:lnTo>
                    <a:pt x="180" y="401"/>
                  </a:lnTo>
                  <a:lnTo>
                    <a:pt x="404" y="164"/>
                  </a:lnTo>
                  <a:lnTo>
                    <a:pt x="674" y="21"/>
                  </a:lnTo>
                  <a:lnTo>
                    <a:pt x="974" y="0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20"/>
            <p:cNvSpPr/>
            <p:nvPr/>
          </p:nvSpPr>
          <p:spPr>
            <a:xfrm>
              <a:off x="3580560" y="5902920"/>
              <a:ext cx="198000" cy="55440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554400"/>
                <a:gd name="textAreaBottom" fmla="*/ 554760 h 554400"/>
              </a:gdLst>
              <a:ahLst/>
              <a:rect l="textAreaLeft" t="textAreaTop" r="textAreaRight" b="textAreaBottom"/>
              <a:pathLst>
                <a:path w="915" h="2340">
                  <a:moveTo>
                    <a:pt x="915" y="0"/>
                  </a:moveTo>
                  <a:lnTo>
                    <a:pt x="732" y="166"/>
                  </a:lnTo>
                  <a:lnTo>
                    <a:pt x="608" y="387"/>
                  </a:lnTo>
                  <a:lnTo>
                    <a:pt x="521" y="643"/>
                  </a:lnTo>
                  <a:lnTo>
                    <a:pt x="483" y="926"/>
                  </a:lnTo>
                  <a:lnTo>
                    <a:pt x="483" y="1223"/>
                  </a:lnTo>
                  <a:lnTo>
                    <a:pt x="524" y="1524"/>
                  </a:lnTo>
                  <a:lnTo>
                    <a:pt x="600" y="1810"/>
                  </a:lnTo>
                  <a:lnTo>
                    <a:pt x="718" y="2087"/>
                  </a:lnTo>
                  <a:lnTo>
                    <a:pt x="729" y="2115"/>
                  </a:lnTo>
                  <a:lnTo>
                    <a:pt x="735" y="2146"/>
                  </a:lnTo>
                  <a:lnTo>
                    <a:pt x="746" y="2178"/>
                  </a:lnTo>
                  <a:lnTo>
                    <a:pt x="760" y="2212"/>
                  </a:lnTo>
                  <a:lnTo>
                    <a:pt x="766" y="2239"/>
                  </a:lnTo>
                  <a:lnTo>
                    <a:pt x="777" y="2270"/>
                  </a:lnTo>
                  <a:lnTo>
                    <a:pt x="787" y="2302"/>
                  </a:lnTo>
                  <a:lnTo>
                    <a:pt x="801" y="2340"/>
                  </a:lnTo>
                  <a:lnTo>
                    <a:pt x="358" y="1922"/>
                  </a:lnTo>
                  <a:lnTo>
                    <a:pt x="103" y="1504"/>
                  </a:lnTo>
                  <a:lnTo>
                    <a:pt x="0" y="1092"/>
                  </a:lnTo>
                  <a:lnTo>
                    <a:pt x="34" y="722"/>
                  </a:lnTo>
                  <a:lnTo>
                    <a:pt x="162" y="404"/>
                  </a:lnTo>
                  <a:lnTo>
                    <a:pt x="372" y="166"/>
                  </a:lnTo>
                  <a:lnTo>
                    <a:pt x="628" y="21"/>
                  </a:lnTo>
                  <a:lnTo>
                    <a:pt x="915" y="0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21"/>
            <p:cNvSpPr/>
            <p:nvPr/>
          </p:nvSpPr>
          <p:spPr>
            <a:xfrm>
              <a:off x="3584520" y="5907600"/>
              <a:ext cx="183960" cy="549720"/>
            </a:xfrm>
            <a:custGeom>
              <a:avLst/>
              <a:gdLst>
                <a:gd name="textAreaLeft" fmla="*/ 0 w 183960"/>
                <a:gd name="textAreaRight" fmla="*/ 183960 w 183960"/>
                <a:gd name="textAreaTop" fmla="*/ 0 h 549720"/>
                <a:gd name="textAreaBottom" fmla="*/ 550080 h 549720"/>
              </a:gdLst>
              <a:ahLst/>
              <a:rect l="textAreaLeft" t="textAreaTop" r="textAreaRight" b="textAreaBottom"/>
              <a:pathLst>
                <a:path w="850" h="2322">
                  <a:moveTo>
                    <a:pt x="850" y="0"/>
                  </a:moveTo>
                  <a:lnTo>
                    <a:pt x="660" y="165"/>
                  </a:lnTo>
                  <a:lnTo>
                    <a:pt x="525" y="389"/>
                  </a:lnTo>
                  <a:lnTo>
                    <a:pt x="435" y="645"/>
                  </a:lnTo>
                  <a:lnTo>
                    <a:pt x="397" y="928"/>
                  </a:lnTo>
                  <a:lnTo>
                    <a:pt x="397" y="1222"/>
                  </a:lnTo>
                  <a:lnTo>
                    <a:pt x="449" y="1520"/>
                  </a:lnTo>
                  <a:lnTo>
                    <a:pt x="545" y="1803"/>
                  </a:lnTo>
                  <a:lnTo>
                    <a:pt x="684" y="2069"/>
                  </a:lnTo>
                  <a:lnTo>
                    <a:pt x="694" y="2097"/>
                  </a:lnTo>
                  <a:lnTo>
                    <a:pt x="704" y="2128"/>
                  </a:lnTo>
                  <a:lnTo>
                    <a:pt x="718" y="2160"/>
                  </a:lnTo>
                  <a:lnTo>
                    <a:pt x="732" y="2194"/>
                  </a:lnTo>
                  <a:lnTo>
                    <a:pt x="743" y="2221"/>
                  </a:lnTo>
                  <a:lnTo>
                    <a:pt x="756" y="2252"/>
                  </a:lnTo>
                  <a:lnTo>
                    <a:pt x="770" y="2284"/>
                  </a:lnTo>
                  <a:lnTo>
                    <a:pt x="784" y="2322"/>
                  </a:lnTo>
                  <a:lnTo>
                    <a:pt x="355" y="1907"/>
                  </a:lnTo>
                  <a:lnTo>
                    <a:pt x="104" y="1492"/>
                  </a:lnTo>
                  <a:lnTo>
                    <a:pt x="0" y="1088"/>
                  </a:lnTo>
                  <a:lnTo>
                    <a:pt x="27" y="725"/>
                  </a:lnTo>
                  <a:lnTo>
                    <a:pt x="145" y="404"/>
                  </a:lnTo>
                  <a:lnTo>
                    <a:pt x="338" y="165"/>
                  </a:lnTo>
                  <a:lnTo>
                    <a:pt x="580" y="23"/>
                  </a:lnTo>
                  <a:lnTo>
                    <a:pt x="850" y="0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22"/>
            <p:cNvSpPr/>
            <p:nvPr/>
          </p:nvSpPr>
          <p:spPr>
            <a:xfrm>
              <a:off x="3588120" y="5913000"/>
              <a:ext cx="169920" cy="54432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544320"/>
                <a:gd name="textAreaBottom" fmla="*/ 544680 h 544320"/>
              </a:gdLst>
              <a:ahLst/>
              <a:rect l="textAreaLeft" t="textAreaTop" r="textAreaRight" b="textAreaBottom"/>
              <a:pathLst>
                <a:path w="784" h="2299">
                  <a:moveTo>
                    <a:pt x="784" y="0"/>
                  </a:moveTo>
                  <a:lnTo>
                    <a:pt x="591" y="170"/>
                  </a:lnTo>
                  <a:lnTo>
                    <a:pt x="445" y="391"/>
                  </a:lnTo>
                  <a:lnTo>
                    <a:pt x="352" y="646"/>
                  </a:lnTo>
                  <a:lnTo>
                    <a:pt x="311" y="933"/>
                  </a:lnTo>
                  <a:lnTo>
                    <a:pt x="314" y="1224"/>
                  </a:lnTo>
                  <a:lnTo>
                    <a:pt x="373" y="1510"/>
                  </a:lnTo>
                  <a:lnTo>
                    <a:pt x="484" y="1783"/>
                  </a:lnTo>
                  <a:lnTo>
                    <a:pt x="649" y="2036"/>
                  </a:lnTo>
                  <a:lnTo>
                    <a:pt x="663" y="2067"/>
                  </a:lnTo>
                  <a:lnTo>
                    <a:pt x="677" y="2098"/>
                  </a:lnTo>
                  <a:lnTo>
                    <a:pt x="687" y="2129"/>
                  </a:lnTo>
                  <a:lnTo>
                    <a:pt x="709" y="2167"/>
                  </a:lnTo>
                  <a:lnTo>
                    <a:pt x="722" y="2198"/>
                  </a:lnTo>
                  <a:lnTo>
                    <a:pt x="732" y="2229"/>
                  </a:lnTo>
                  <a:lnTo>
                    <a:pt x="746" y="2261"/>
                  </a:lnTo>
                  <a:lnTo>
                    <a:pt x="767" y="2299"/>
                  </a:lnTo>
                  <a:lnTo>
                    <a:pt x="352" y="1890"/>
                  </a:lnTo>
                  <a:lnTo>
                    <a:pt x="110" y="1483"/>
                  </a:lnTo>
                  <a:lnTo>
                    <a:pt x="0" y="1083"/>
                  </a:lnTo>
                  <a:lnTo>
                    <a:pt x="21" y="720"/>
                  </a:lnTo>
                  <a:lnTo>
                    <a:pt x="128" y="404"/>
                  </a:lnTo>
                  <a:lnTo>
                    <a:pt x="307" y="167"/>
                  </a:lnTo>
                  <a:lnTo>
                    <a:pt x="532" y="21"/>
                  </a:lnTo>
                  <a:lnTo>
                    <a:pt x="784" y="0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3"/>
            <p:cNvSpPr/>
            <p:nvPr/>
          </p:nvSpPr>
          <p:spPr>
            <a:xfrm>
              <a:off x="3710160" y="5881680"/>
              <a:ext cx="183960" cy="568440"/>
            </a:xfrm>
            <a:custGeom>
              <a:avLst/>
              <a:gdLst>
                <a:gd name="textAreaLeft" fmla="*/ 0 w 183960"/>
                <a:gd name="textAreaRight" fmla="*/ 183960 w 183960"/>
                <a:gd name="textAreaTop" fmla="*/ 0 h 568440"/>
                <a:gd name="textAreaBottom" fmla="*/ 568800 h 568440"/>
              </a:gdLst>
              <a:ahLst/>
              <a:rect l="textAreaLeft" t="textAreaTop" r="textAreaRight" b="textAreaBottom"/>
              <a:pathLst>
                <a:path w="850" h="2398">
                  <a:moveTo>
                    <a:pt x="262" y="0"/>
                  </a:moveTo>
                  <a:lnTo>
                    <a:pt x="132" y="27"/>
                  </a:lnTo>
                  <a:lnTo>
                    <a:pt x="42" y="225"/>
                  </a:lnTo>
                  <a:lnTo>
                    <a:pt x="0" y="539"/>
                  </a:lnTo>
                  <a:lnTo>
                    <a:pt x="11" y="936"/>
                  </a:lnTo>
                  <a:lnTo>
                    <a:pt x="69" y="1361"/>
                  </a:lnTo>
                  <a:lnTo>
                    <a:pt x="190" y="1775"/>
                  </a:lnTo>
                  <a:lnTo>
                    <a:pt x="374" y="2135"/>
                  </a:lnTo>
                  <a:lnTo>
                    <a:pt x="629" y="2398"/>
                  </a:lnTo>
                  <a:lnTo>
                    <a:pt x="733" y="2115"/>
                  </a:lnTo>
                  <a:lnTo>
                    <a:pt x="809" y="1741"/>
                  </a:lnTo>
                  <a:lnTo>
                    <a:pt x="850" y="1316"/>
                  </a:lnTo>
                  <a:lnTo>
                    <a:pt x="850" y="894"/>
                  </a:lnTo>
                  <a:lnTo>
                    <a:pt x="795" y="504"/>
                  </a:lnTo>
                  <a:lnTo>
                    <a:pt x="688" y="193"/>
                  </a:lnTo>
                  <a:lnTo>
                    <a:pt x="509" y="10"/>
                  </a:lnTo>
                  <a:lnTo>
                    <a:pt x="262" y="0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24"/>
            <p:cNvSpPr/>
            <p:nvPr/>
          </p:nvSpPr>
          <p:spPr>
            <a:xfrm>
              <a:off x="3714120" y="5881680"/>
              <a:ext cx="176040" cy="55440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554400"/>
                <a:gd name="textAreaBottom" fmla="*/ 554760 h 554400"/>
              </a:gdLst>
              <a:ahLst/>
              <a:rect l="textAreaLeft" t="textAreaTop" r="textAreaRight" b="textAreaBottom"/>
              <a:pathLst>
                <a:path w="816" h="2336">
                  <a:moveTo>
                    <a:pt x="253" y="0"/>
                  </a:moveTo>
                  <a:lnTo>
                    <a:pt x="129" y="27"/>
                  </a:lnTo>
                  <a:lnTo>
                    <a:pt x="42" y="220"/>
                  </a:lnTo>
                  <a:lnTo>
                    <a:pt x="0" y="525"/>
                  </a:lnTo>
                  <a:lnTo>
                    <a:pt x="11" y="919"/>
                  </a:lnTo>
                  <a:lnTo>
                    <a:pt x="69" y="1330"/>
                  </a:lnTo>
                  <a:lnTo>
                    <a:pt x="180" y="1734"/>
                  </a:lnTo>
                  <a:lnTo>
                    <a:pt x="357" y="2083"/>
                  </a:lnTo>
                  <a:lnTo>
                    <a:pt x="598" y="2336"/>
                  </a:lnTo>
                  <a:lnTo>
                    <a:pt x="699" y="2059"/>
                  </a:lnTo>
                  <a:lnTo>
                    <a:pt x="774" y="1697"/>
                  </a:lnTo>
                  <a:lnTo>
                    <a:pt x="809" y="1282"/>
                  </a:lnTo>
                  <a:lnTo>
                    <a:pt x="816" y="867"/>
                  </a:lnTo>
                  <a:lnTo>
                    <a:pt x="760" y="487"/>
                  </a:lnTo>
                  <a:lnTo>
                    <a:pt x="657" y="190"/>
                  </a:lnTo>
                  <a:lnTo>
                    <a:pt x="487" y="10"/>
                  </a:lnTo>
                  <a:lnTo>
                    <a:pt x="253" y="0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25"/>
            <p:cNvSpPr/>
            <p:nvPr/>
          </p:nvSpPr>
          <p:spPr>
            <a:xfrm>
              <a:off x="3717720" y="5881680"/>
              <a:ext cx="168120" cy="54000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540000"/>
                <a:gd name="textAreaBottom" fmla="*/ 540360 h 540000"/>
              </a:gdLst>
              <a:ahLst/>
              <a:rect l="textAreaLeft" t="textAreaTop" r="textAreaRight" b="textAreaBottom"/>
              <a:pathLst>
                <a:path w="781" h="2281">
                  <a:moveTo>
                    <a:pt x="239" y="0"/>
                  </a:moveTo>
                  <a:lnTo>
                    <a:pt x="118" y="24"/>
                  </a:lnTo>
                  <a:lnTo>
                    <a:pt x="43" y="211"/>
                  </a:lnTo>
                  <a:lnTo>
                    <a:pt x="0" y="514"/>
                  </a:lnTo>
                  <a:lnTo>
                    <a:pt x="11" y="891"/>
                  </a:lnTo>
                  <a:lnTo>
                    <a:pt x="66" y="1296"/>
                  </a:lnTo>
                  <a:lnTo>
                    <a:pt x="176" y="1689"/>
                  </a:lnTo>
                  <a:lnTo>
                    <a:pt x="343" y="2031"/>
                  </a:lnTo>
                  <a:lnTo>
                    <a:pt x="578" y="2281"/>
                  </a:lnTo>
                  <a:lnTo>
                    <a:pt x="668" y="2011"/>
                  </a:lnTo>
                  <a:lnTo>
                    <a:pt x="740" y="1659"/>
                  </a:lnTo>
                  <a:lnTo>
                    <a:pt x="781" y="1254"/>
                  </a:lnTo>
                  <a:lnTo>
                    <a:pt x="781" y="850"/>
                  </a:lnTo>
                  <a:lnTo>
                    <a:pt x="729" y="476"/>
                  </a:lnTo>
                  <a:lnTo>
                    <a:pt x="626" y="182"/>
                  </a:lnTo>
                  <a:lnTo>
                    <a:pt x="464" y="10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6"/>
            <p:cNvSpPr/>
            <p:nvPr/>
          </p:nvSpPr>
          <p:spPr>
            <a:xfrm>
              <a:off x="3721680" y="5881680"/>
              <a:ext cx="159480" cy="527400"/>
            </a:xfrm>
            <a:custGeom>
              <a:avLst/>
              <a:gdLst>
                <a:gd name="textAreaLeft" fmla="*/ 0 w 159480"/>
                <a:gd name="textAreaRight" fmla="*/ 159840 w 159480"/>
                <a:gd name="textAreaTop" fmla="*/ 0 h 527400"/>
                <a:gd name="textAreaBottom" fmla="*/ 527760 h 527400"/>
              </a:gdLst>
              <a:ahLst/>
              <a:rect l="textAreaLeft" t="textAreaTop" r="textAreaRight" b="textAreaBottom"/>
              <a:pathLst>
                <a:path w="736" h="2225">
                  <a:moveTo>
                    <a:pt x="229" y="0"/>
                  </a:moveTo>
                  <a:lnTo>
                    <a:pt x="111" y="24"/>
                  </a:lnTo>
                  <a:lnTo>
                    <a:pt x="34" y="207"/>
                  </a:lnTo>
                  <a:lnTo>
                    <a:pt x="0" y="501"/>
                  </a:lnTo>
                  <a:lnTo>
                    <a:pt x="7" y="867"/>
                  </a:lnTo>
                  <a:lnTo>
                    <a:pt x="63" y="1261"/>
                  </a:lnTo>
                  <a:lnTo>
                    <a:pt x="169" y="1651"/>
                  </a:lnTo>
                  <a:lnTo>
                    <a:pt x="328" y="1983"/>
                  </a:lnTo>
                  <a:lnTo>
                    <a:pt x="546" y="2225"/>
                  </a:lnTo>
                  <a:lnTo>
                    <a:pt x="636" y="1962"/>
                  </a:lnTo>
                  <a:lnTo>
                    <a:pt x="702" y="1613"/>
                  </a:lnTo>
                  <a:lnTo>
                    <a:pt x="736" y="1222"/>
                  </a:lnTo>
                  <a:lnTo>
                    <a:pt x="736" y="829"/>
                  </a:lnTo>
                  <a:lnTo>
                    <a:pt x="691" y="462"/>
                  </a:lnTo>
                  <a:lnTo>
                    <a:pt x="598" y="179"/>
                  </a:lnTo>
                  <a:lnTo>
                    <a:pt x="439" y="10"/>
                  </a:lnTo>
                  <a:lnTo>
                    <a:pt x="229" y="0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27"/>
            <p:cNvSpPr/>
            <p:nvPr/>
          </p:nvSpPr>
          <p:spPr>
            <a:xfrm>
              <a:off x="3725640" y="5881680"/>
              <a:ext cx="151560" cy="51480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514800"/>
                <a:gd name="textAreaBottom" fmla="*/ 515160 h 514800"/>
              </a:gdLst>
              <a:ahLst/>
              <a:rect l="textAreaLeft" t="textAreaTop" r="textAreaRight" b="textAreaBottom"/>
              <a:pathLst>
                <a:path w="702" h="2173">
                  <a:moveTo>
                    <a:pt x="215" y="0"/>
                  </a:moveTo>
                  <a:lnTo>
                    <a:pt x="104" y="24"/>
                  </a:lnTo>
                  <a:lnTo>
                    <a:pt x="35" y="196"/>
                  </a:lnTo>
                  <a:lnTo>
                    <a:pt x="0" y="479"/>
                  </a:lnTo>
                  <a:lnTo>
                    <a:pt x="14" y="847"/>
                  </a:lnTo>
                  <a:lnTo>
                    <a:pt x="63" y="1227"/>
                  </a:lnTo>
                  <a:lnTo>
                    <a:pt x="167" y="1610"/>
                  </a:lnTo>
                  <a:lnTo>
                    <a:pt x="316" y="1935"/>
                  </a:lnTo>
                  <a:lnTo>
                    <a:pt x="526" y="2173"/>
                  </a:lnTo>
                  <a:lnTo>
                    <a:pt x="609" y="1918"/>
                  </a:lnTo>
                  <a:lnTo>
                    <a:pt x="671" y="1579"/>
                  </a:lnTo>
                  <a:lnTo>
                    <a:pt x="702" y="1195"/>
                  </a:lnTo>
                  <a:lnTo>
                    <a:pt x="702" y="808"/>
                  </a:lnTo>
                  <a:lnTo>
                    <a:pt x="654" y="456"/>
                  </a:lnTo>
                  <a:lnTo>
                    <a:pt x="564" y="176"/>
                  </a:lnTo>
                  <a:lnTo>
                    <a:pt x="419" y="10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28"/>
            <p:cNvSpPr/>
            <p:nvPr/>
          </p:nvSpPr>
          <p:spPr>
            <a:xfrm>
              <a:off x="2902320" y="5713920"/>
              <a:ext cx="609120" cy="141840"/>
            </a:xfrm>
            <a:custGeom>
              <a:avLst/>
              <a:gdLst>
                <a:gd name="textAreaLeft" fmla="*/ 0 w 609120"/>
                <a:gd name="textAreaRight" fmla="*/ 609120 w 60912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2820" h="598">
                  <a:moveTo>
                    <a:pt x="2820" y="186"/>
                  </a:moveTo>
                  <a:lnTo>
                    <a:pt x="2785" y="93"/>
                  </a:lnTo>
                  <a:lnTo>
                    <a:pt x="2568" y="31"/>
                  </a:lnTo>
                  <a:lnTo>
                    <a:pt x="2195" y="0"/>
                  </a:lnTo>
                  <a:lnTo>
                    <a:pt x="1736" y="4"/>
                  </a:lnTo>
                  <a:lnTo>
                    <a:pt x="1230" y="45"/>
                  </a:lnTo>
                  <a:lnTo>
                    <a:pt x="740" y="128"/>
                  </a:lnTo>
                  <a:lnTo>
                    <a:pt x="308" y="255"/>
                  </a:lnTo>
                  <a:lnTo>
                    <a:pt x="0" y="436"/>
                  </a:lnTo>
                  <a:lnTo>
                    <a:pt x="314" y="508"/>
                  </a:lnTo>
                  <a:lnTo>
                    <a:pt x="746" y="563"/>
                  </a:lnTo>
                  <a:lnTo>
                    <a:pt x="1230" y="591"/>
                  </a:lnTo>
                  <a:lnTo>
                    <a:pt x="1736" y="598"/>
                  </a:lnTo>
                  <a:lnTo>
                    <a:pt x="2188" y="557"/>
                  </a:lnTo>
                  <a:lnTo>
                    <a:pt x="2558" y="484"/>
                  </a:lnTo>
                  <a:lnTo>
                    <a:pt x="2782" y="359"/>
                  </a:lnTo>
                  <a:lnTo>
                    <a:pt x="2820" y="186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29"/>
            <p:cNvSpPr/>
            <p:nvPr/>
          </p:nvSpPr>
          <p:spPr>
            <a:xfrm>
              <a:off x="2916720" y="5716800"/>
              <a:ext cx="594720" cy="135000"/>
            </a:xfrm>
            <a:custGeom>
              <a:avLst/>
              <a:gdLst>
                <a:gd name="textAreaLeft" fmla="*/ 0 w 594720"/>
                <a:gd name="textAreaRight" fmla="*/ 595080 w 594720"/>
                <a:gd name="textAreaTop" fmla="*/ 0 h 135000"/>
                <a:gd name="textAreaBottom" fmla="*/ 135000 h 135000"/>
              </a:gdLst>
              <a:ahLst/>
              <a:rect l="textAreaLeft" t="textAreaTop" r="textAreaRight" b="textAreaBottom"/>
              <a:pathLst>
                <a:path w="2754" h="574">
                  <a:moveTo>
                    <a:pt x="2754" y="176"/>
                  </a:moveTo>
                  <a:lnTo>
                    <a:pt x="2719" y="87"/>
                  </a:lnTo>
                  <a:lnTo>
                    <a:pt x="2506" y="28"/>
                  </a:lnTo>
                  <a:lnTo>
                    <a:pt x="2146" y="0"/>
                  </a:lnTo>
                  <a:lnTo>
                    <a:pt x="1697" y="8"/>
                  </a:lnTo>
                  <a:lnTo>
                    <a:pt x="1203" y="46"/>
                  </a:lnTo>
                  <a:lnTo>
                    <a:pt x="726" y="129"/>
                  </a:lnTo>
                  <a:lnTo>
                    <a:pt x="300" y="250"/>
                  </a:lnTo>
                  <a:lnTo>
                    <a:pt x="0" y="418"/>
                  </a:lnTo>
                  <a:lnTo>
                    <a:pt x="308" y="487"/>
                  </a:lnTo>
                  <a:lnTo>
                    <a:pt x="729" y="543"/>
                  </a:lnTo>
                  <a:lnTo>
                    <a:pt x="1203" y="567"/>
                  </a:lnTo>
                  <a:lnTo>
                    <a:pt x="1690" y="574"/>
                  </a:lnTo>
                  <a:lnTo>
                    <a:pt x="2136" y="536"/>
                  </a:lnTo>
                  <a:lnTo>
                    <a:pt x="2495" y="460"/>
                  </a:lnTo>
                  <a:lnTo>
                    <a:pt x="2716" y="343"/>
                  </a:lnTo>
                  <a:lnTo>
                    <a:pt x="2754" y="176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30"/>
            <p:cNvSpPr/>
            <p:nvPr/>
          </p:nvSpPr>
          <p:spPr>
            <a:xfrm>
              <a:off x="2930760" y="5719680"/>
              <a:ext cx="580680" cy="129240"/>
            </a:xfrm>
            <a:custGeom>
              <a:avLst/>
              <a:gdLst>
                <a:gd name="textAreaLeft" fmla="*/ 0 w 580680"/>
                <a:gd name="textAreaRight" fmla="*/ 581040 w 58068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2691" h="547">
                  <a:moveTo>
                    <a:pt x="2691" y="167"/>
                  </a:moveTo>
                  <a:lnTo>
                    <a:pt x="2656" y="83"/>
                  </a:lnTo>
                  <a:lnTo>
                    <a:pt x="2446" y="28"/>
                  </a:lnTo>
                  <a:lnTo>
                    <a:pt x="2090" y="0"/>
                  </a:lnTo>
                  <a:lnTo>
                    <a:pt x="1654" y="7"/>
                  </a:lnTo>
                  <a:lnTo>
                    <a:pt x="1175" y="41"/>
                  </a:lnTo>
                  <a:lnTo>
                    <a:pt x="708" y="118"/>
                  </a:lnTo>
                  <a:lnTo>
                    <a:pt x="297" y="236"/>
                  </a:lnTo>
                  <a:lnTo>
                    <a:pt x="0" y="401"/>
                  </a:lnTo>
                  <a:lnTo>
                    <a:pt x="303" y="464"/>
                  </a:lnTo>
                  <a:lnTo>
                    <a:pt x="711" y="519"/>
                  </a:lnTo>
                  <a:lnTo>
                    <a:pt x="1178" y="547"/>
                  </a:lnTo>
                  <a:lnTo>
                    <a:pt x="1654" y="547"/>
                  </a:lnTo>
                  <a:lnTo>
                    <a:pt x="2090" y="508"/>
                  </a:lnTo>
                  <a:lnTo>
                    <a:pt x="2443" y="443"/>
                  </a:lnTo>
                  <a:lnTo>
                    <a:pt x="2653" y="325"/>
                  </a:lnTo>
                  <a:lnTo>
                    <a:pt x="2691" y="167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31"/>
            <p:cNvSpPr/>
            <p:nvPr/>
          </p:nvSpPr>
          <p:spPr>
            <a:xfrm>
              <a:off x="2945160" y="5722560"/>
              <a:ext cx="566280" cy="123480"/>
            </a:xfrm>
            <a:custGeom>
              <a:avLst/>
              <a:gdLst>
                <a:gd name="textAreaLeft" fmla="*/ 0 w 566280"/>
                <a:gd name="textAreaRight" fmla="*/ 566640 w 56628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2627" h="522">
                  <a:moveTo>
                    <a:pt x="2627" y="165"/>
                  </a:moveTo>
                  <a:lnTo>
                    <a:pt x="2592" y="79"/>
                  </a:lnTo>
                  <a:lnTo>
                    <a:pt x="2389" y="27"/>
                  </a:lnTo>
                  <a:lnTo>
                    <a:pt x="2039" y="0"/>
                  </a:lnTo>
                  <a:lnTo>
                    <a:pt x="1618" y="10"/>
                  </a:lnTo>
                  <a:lnTo>
                    <a:pt x="1145" y="44"/>
                  </a:lnTo>
                  <a:lnTo>
                    <a:pt x="688" y="117"/>
                  </a:lnTo>
                  <a:lnTo>
                    <a:pt x="288" y="228"/>
                  </a:lnTo>
                  <a:lnTo>
                    <a:pt x="0" y="390"/>
                  </a:lnTo>
                  <a:lnTo>
                    <a:pt x="298" y="449"/>
                  </a:lnTo>
                  <a:lnTo>
                    <a:pt x="696" y="494"/>
                  </a:lnTo>
                  <a:lnTo>
                    <a:pt x="1152" y="522"/>
                  </a:lnTo>
                  <a:lnTo>
                    <a:pt x="1618" y="522"/>
                  </a:lnTo>
                  <a:lnTo>
                    <a:pt x="2039" y="490"/>
                  </a:lnTo>
                  <a:lnTo>
                    <a:pt x="2382" y="421"/>
                  </a:lnTo>
                  <a:lnTo>
                    <a:pt x="2589" y="314"/>
                  </a:lnTo>
                  <a:lnTo>
                    <a:pt x="2627" y="165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32"/>
            <p:cNvSpPr/>
            <p:nvPr/>
          </p:nvSpPr>
          <p:spPr>
            <a:xfrm>
              <a:off x="2959200" y="5725440"/>
              <a:ext cx="552240" cy="11772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117720"/>
                <a:gd name="textAreaBottom" fmla="*/ 118080 h 117720"/>
              </a:gdLst>
              <a:ahLst/>
              <a:rect l="textAreaLeft" t="textAreaTop" r="textAreaRight" b="textAreaBottom"/>
              <a:pathLst>
                <a:path w="2561" h="495">
                  <a:moveTo>
                    <a:pt x="2561" y="152"/>
                  </a:moveTo>
                  <a:lnTo>
                    <a:pt x="2534" y="77"/>
                  </a:lnTo>
                  <a:lnTo>
                    <a:pt x="2330" y="28"/>
                  </a:lnTo>
                  <a:lnTo>
                    <a:pt x="1995" y="0"/>
                  </a:lnTo>
                  <a:lnTo>
                    <a:pt x="1580" y="8"/>
                  </a:lnTo>
                  <a:lnTo>
                    <a:pt x="1120" y="42"/>
                  </a:lnTo>
                  <a:lnTo>
                    <a:pt x="674" y="111"/>
                  </a:lnTo>
                  <a:lnTo>
                    <a:pt x="284" y="221"/>
                  </a:lnTo>
                  <a:lnTo>
                    <a:pt x="0" y="370"/>
                  </a:lnTo>
                  <a:lnTo>
                    <a:pt x="288" y="425"/>
                  </a:lnTo>
                  <a:lnTo>
                    <a:pt x="682" y="471"/>
                  </a:lnTo>
                  <a:lnTo>
                    <a:pt x="1120" y="495"/>
                  </a:lnTo>
                  <a:lnTo>
                    <a:pt x="1580" y="495"/>
                  </a:lnTo>
                  <a:lnTo>
                    <a:pt x="1995" y="463"/>
                  </a:lnTo>
                  <a:lnTo>
                    <a:pt x="2327" y="402"/>
                  </a:lnTo>
                  <a:lnTo>
                    <a:pt x="2526" y="298"/>
                  </a:lnTo>
                  <a:lnTo>
                    <a:pt x="2561" y="152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33"/>
            <p:cNvSpPr/>
            <p:nvPr/>
          </p:nvSpPr>
          <p:spPr>
            <a:xfrm>
              <a:off x="3612960" y="5145480"/>
              <a:ext cx="141120" cy="44352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443520"/>
                <a:gd name="textAreaBottom" fmla="*/ 443880 h 443520"/>
              </a:gdLst>
              <a:ahLst/>
              <a:rect l="textAreaLeft" t="textAreaTop" r="textAreaRight" b="textAreaBottom"/>
              <a:pathLst>
                <a:path w="657" h="1869">
                  <a:moveTo>
                    <a:pt x="418" y="1869"/>
                  </a:moveTo>
                  <a:lnTo>
                    <a:pt x="329" y="1866"/>
                  </a:lnTo>
                  <a:lnTo>
                    <a:pt x="228" y="1734"/>
                  </a:lnTo>
                  <a:lnTo>
                    <a:pt x="135" y="1499"/>
                  </a:lnTo>
                  <a:lnTo>
                    <a:pt x="59" y="1202"/>
                  </a:lnTo>
                  <a:lnTo>
                    <a:pt x="7" y="867"/>
                  </a:lnTo>
                  <a:lnTo>
                    <a:pt x="0" y="531"/>
                  </a:lnTo>
                  <a:lnTo>
                    <a:pt x="38" y="231"/>
                  </a:lnTo>
                  <a:lnTo>
                    <a:pt x="153" y="0"/>
                  </a:lnTo>
                  <a:lnTo>
                    <a:pt x="277" y="185"/>
                  </a:lnTo>
                  <a:lnTo>
                    <a:pt x="404" y="452"/>
                  </a:lnTo>
                  <a:lnTo>
                    <a:pt x="522" y="763"/>
                  </a:lnTo>
                  <a:lnTo>
                    <a:pt x="612" y="1088"/>
                  </a:lnTo>
                  <a:lnTo>
                    <a:pt x="657" y="1388"/>
                  </a:lnTo>
                  <a:lnTo>
                    <a:pt x="650" y="1641"/>
                  </a:lnTo>
                  <a:lnTo>
                    <a:pt x="574" y="1806"/>
                  </a:lnTo>
                  <a:lnTo>
                    <a:pt x="418" y="1869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34"/>
            <p:cNvSpPr/>
            <p:nvPr/>
          </p:nvSpPr>
          <p:spPr>
            <a:xfrm>
              <a:off x="3615480" y="5155200"/>
              <a:ext cx="136080" cy="433440"/>
            </a:xfrm>
            <a:custGeom>
              <a:avLst/>
              <a:gdLst>
                <a:gd name="textAreaLeft" fmla="*/ 0 w 136080"/>
                <a:gd name="textAreaRight" fmla="*/ 136440 w 136080"/>
                <a:gd name="textAreaTop" fmla="*/ 0 h 433440"/>
                <a:gd name="textAreaBottom" fmla="*/ 433800 h 433440"/>
              </a:gdLst>
              <a:ahLst/>
              <a:rect l="textAreaLeft" t="textAreaTop" r="textAreaRight" b="textAreaBottom"/>
              <a:pathLst>
                <a:path w="632" h="1825">
                  <a:moveTo>
                    <a:pt x="412" y="1825"/>
                  </a:moveTo>
                  <a:lnTo>
                    <a:pt x="321" y="1822"/>
                  </a:lnTo>
                  <a:lnTo>
                    <a:pt x="228" y="1693"/>
                  </a:lnTo>
                  <a:lnTo>
                    <a:pt x="135" y="1465"/>
                  </a:lnTo>
                  <a:lnTo>
                    <a:pt x="62" y="1172"/>
                  </a:lnTo>
                  <a:lnTo>
                    <a:pt x="7" y="843"/>
                  </a:lnTo>
                  <a:lnTo>
                    <a:pt x="0" y="521"/>
                  </a:lnTo>
                  <a:lnTo>
                    <a:pt x="35" y="228"/>
                  </a:lnTo>
                  <a:lnTo>
                    <a:pt x="142" y="0"/>
                  </a:lnTo>
                  <a:lnTo>
                    <a:pt x="263" y="180"/>
                  </a:lnTo>
                  <a:lnTo>
                    <a:pt x="390" y="439"/>
                  </a:lnTo>
                  <a:lnTo>
                    <a:pt x="501" y="740"/>
                  </a:lnTo>
                  <a:lnTo>
                    <a:pt x="588" y="1061"/>
                  </a:lnTo>
                  <a:lnTo>
                    <a:pt x="632" y="1351"/>
                  </a:lnTo>
                  <a:lnTo>
                    <a:pt x="632" y="1600"/>
                  </a:lnTo>
                  <a:lnTo>
                    <a:pt x="560" y="1766"/>
                  </a:lnTo>
                  <a:lnTo>
                    <a:pt x="412" y="1825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35"/>
            <p:cNvSpPr/>
            <p:nvPr/>
          </p:nvSpPr>
          <p:spPr>
            <a:xfrm>
              <a:off x="3618000" y="5165280"/>
              <a:ext cx="133560" cy="42336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423360"/>
                <a:gd name="textAreaBottom" fmla="*/ 423720 h 423360"/>
              </a:gdLst>
              <a:ahLst/>
              <a:rect l="textAreaLeft" t="textAreaTop" r="textAreaRight" b="textAreaBottom"/>
              <a:pathLst>
                <a:path w="619" h="1787">
                  <a:moveTo>
                    <a:pt x="402" y="1787"/>
                  </a:moveTo>
                  <a:lnTo>
                    <a:pt x="315" y="1784"/>
                  </a:lnTo>
                  <a:lnTo>
                    <a:pt x="225" y="1655"/>
                  </a:lnTo>
                  <a:lnTo>
                    <a:pt x="135" y="1434"/>
                  </a:lnTo>
                  <a:lnTo>
                    <a:pt x="66" y="1148"/>
                  </a:lnTo>
                  <a:lnTo>
                    <a:pt x="11" y="829"/>
                  </a:lnTo>
                  <a:lnTo>
                    <a:pt x="0" y="508"/>
                  </a:lnTo>
                  <a:lnTo>
                    <a:pt x="42" y="221"/>
                  </a:lnTo>
                  <a:lnTo>
                    <a:pt x="146" y="0"/>
                  </a:lnTo>
                  <a:lnTo>
                    <a:pt x="259" y="180"/>
                  </a:lnTo>
                  <a:lnTo>
                    <a:pt x="380" y="439"/>
                  </a:lnTo>
                  <a:lnTo>
                    <a:pt x="488" y="730"/>
                  </a:lnTo>
                  <a:lnTo>
                    <a:pt x="575" y="1041"/>
                  </a:lnTo>
                  <a:lnTo>
                    <a:pt x="619" y="1327"/>
                  </a:lnTo>
                  <a:lnTo>
                    <a:pt x="612" y="1566"/>
                  </a:lnTo>
                  <a:lnTo>
                    <a:pt x="547" y="1728"/>
                  </a:lnTo>
                  <a:lnTo>
                    <a:pt x="402" y="1787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36"/>
            <p:cNvSpPr/>
            <p:nvPr/>
          </p:nvSpPr>
          <p:spPr>
            <a:xfrm>
              <a:off x="3621960" y="5175360"/>
              <a:ext cx="125280" cy="41328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0 h 413280"/>
                <a:gd name="textAreaBottom" fmla="*/ 413640 h 413280"/>
              </a:gdLst>
              <a:ahLst/>
              <a:rect l="textAreaLeft" t="textAreaTop" r="textAreaRight" b="textAreaBottom"/>
              <a:pathLst>
                <a:path w="583" h="1745">
                  <a:moveTo>
                    <a:pt x="386" y="1745"/>
                  </a:moveTo>
                  <a:lnTo>
                    <a:pt x="303" y="1742"/>
                  </a:lnTo>
                  <a:lnTo>
                    <a:pt x="214" y="1613"/>
                  </a:lnTo>
                  <a:lnTo>
                    <a:pt x="127" y="1392"/>
                  </a:lnTo>
                  <a:lnTo>
                    <a:pt x="61" y="1120"/>
                  </a:lnTo>
                  <a:lnTo>
                    <a:pt x="13" y="809"/>
                  </a:lnTo>
                  <a:lnTo>
                    <a:pt x="0" y="498"/>
                  </a:lnTo>
                  <a:lnTo>
                    <a:pt x="34" y="214"/>
                  </a:lnTo>
                  <a:lnTo>
                    <a:pt x="127" y="0"/>
                  </a:lnTo>
                  <a:lnTo>
                    <a:pt x="242" y="176"/>
                  </a:lnTo>
                  <a:lnTo>
                    <a:pt x="352" y="428"/>
                  </a:lnTo>
                  <a:lnTo>
                    <a:pt x="452" y="715"/>
                  </a:lnTo>
                  <a:lnTo>
                    <a:pt x="539" y="1016"/>
                  </a:lnTo>
                  <a:lnTo>
                    <a:pt x="583" y="1296"/>
                  </a:lnTo>
                  <a:lnTo>
                    <a:pt x="583" y="1534"/>
                  </a:lnTo>
                  <a:lnTo>
                    <a:pt x="514" y="1690"/>
                  </a:lnTo>
                  <a:lnTo>
                    <a:pt x="386" y="1745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37"/>
            <p:cNvSpPr/>
            <p:nvPr/>
          </p:nvSpPr>
          <p:spPr>
            <a:xfrm>
              <a:off x="3625920" y="5186520"/>
              <a:ext cx="120240" cy="40212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402120"/>
                <a:gd name="textAreaBottom" fmla="*/ 402480 h 402120"/>
              </a:gdLst>
              <a:ahLst/>
              <a:rect l="textAreaLeft" t="textAreaTop" r="textAreaRight" b="textAreaBottom"/>
              <a:pathLst>
                <a:path w="556" h="1697">
                  <a:moveTo>
                    <a:pt x="373" y="1697"/>
                  </a:moveTo>
                  <a:lnTo>
                    <a:pt x="297" y="1694"/>
                  </a:lnTo>
                  <a:lnTo>
                    <a:pt x="211" y="1573"/>
                  </a:lnTo>
                  <a:lnTo>
                    <a:pt x="131" y="1358"/>
                  </a:lnTo>
                  <a:lnTo>
                    <a:pt x="62" y="1089"/>
                  </a:lnTo>
                  <a:lnTo>
                    <a:pt x="13" y="784"/>
                  </a:lnTo>
                  <a:lnTo>
                    <a:pt x="0" y="484"/>
                  </a:lnTo>
                  <a:lnTo>
                    <a:pt x="30" y="208"/>
                  </a:lnTo>
                  <a:lnTo>
                    <a:pt x="121" y="0"/>
                  </a:lnTo>
                  <a:lnTo>
                    <a:pt x="225" y="173"/>
                  </a:lnTo>
                  <a:lnTo>
                    <a:pt x="335" y="415"/>
                  </a:lnTo>
                  <a:lnTo>
                    <a:pt x="435" y="695"/>
                  </a:lnTo>
                  <a:lnTo>
                    <a:pt x="514" y="992"/>
                  </a:lnTo>
                  <a:lnTo>
                    <a:pt x="556" y="1262"/>
                  </a:lnTo>
                  <a:lnTo>
                    <a:pt x="556" y="1490"/>
                  </a:lnTo>
                  <a:lnTo>
                    <a:pt x="497" y="1642"/>
                  </a:lnTo>
                  <a:lnTo>
                    <a:pt x="373" y="1697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38"/>
            <p:cNvSpPr/>
            <p:nvPr/>
          </p:nvSpPr>
          <p:spPr>
            <a:xfrm>
              <a:off x="3977280" y="5260320"/>
              <a:ext cx="609120" cy="41616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416160"/>
                <a:gd name="textAreaBottom" fmla="*/ 416520 h 416160"/>
              </a:gdLst>
              <a:ahLst/>
              <a:rect l="textAreaLeft" t="textAreaTop" r="textAreaRight" b="textAreaBottom"/>
              <a:pathLst>
                <a:path w="2819" h="1763">
                  <a:moveTo>
                    <a:pt x="0" y="1763"/>
                  </a:moveTo>
                  <a:lnTo>
                    <a:pt x="117" y="1351"/>
                  </a:lnTo>
                  <a:lnTo>
                    <a:pt x="317" y="923"/>
                  </a:lnTo>
                  <a:lnTo>
                    <a:pt x="594" y="532"/>
                  </a:lnTo>
                  <a:lnTo>
                    <a:pt x="936" y="221"/>
                  </a:lnTo>
                  <a:lnTo>
                    <a:pt x="1327" y="27"/>
                  </a:lnTo>
                  <a:lnTo>
                    <a:pt x="1779" y="0"/>
                  </a:lnTo>
                  <a:lnTo>
                    <a:pt x="2281" y="183"/>
                  </a:lnTo>
                  <a:lnTo>
                    <a:pt x="2819" y="626"/>
                  </a:lnTo>
                  <a:lnTo>
                    <a:pt x="2211" y="445"/>
                  </a:lnTo>
                  <a:lnTo>
                    <a:pt x="1717" y="404"/>
                  </a:lnTo>
                  <a:lnTo>
                    <a:pt x="1313" y="480"/>
                  </a:lnTo>
                  <a:lnTo>
                    <a:pt x="988" y="653"/>
                  </a:lnTo>
                  <a:lnTo>
                    <a:pt x="705" y="885"/>
                  </a:lnTo>
                  <a:lnTo>
                    <a:pt x="463" y="1165"/>
                  </a:lnTo>
                  <a:lnTo>
                    <a:pt x="227" y="1462"/>
                  </a:lnTo>
                  <a:lnTo>
                    <a:pt x="0" y="1763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39"/>
            <p:cNvSpPr/>
            <p:nvPr/>
          </p:nvSpPr>
          <p:spPr>
            <a:xfrm>
              <a:off x="3977280" y="5260320"/>
              <a:ext cx="594720" cy="416160"/>
            </a:xfrm>
            <a:custGeom>
              <a:avLst/>
              <a:gdLst>
                <a:gd name="textAreaLeft" fmla="*/ 0 w 594720"/>
                <a:gd name="textAreaRight" fmla="*/ 595080 w 594720"/>
                <a:gd name="textAreaTop" fmla="*/ 0 h 416160"/>
                <a:gd name="textAreaBottom" fmla="*/ 416520 h 416160"/>
              </a:gdLst>
              <a:ahLst/>
              <a:rect l="textAreaLeft" t="textAreaTop" r="textAreaRight" b="textAreaBottom"/>
              <a:pathLst>
                <a:path w="2754" h="1763">
                  <a:moveTo>
                    <a:pt x="0" y="1763"/>
                  </a:moveTo>
                  <a:lnTo>
                    <a:pt x="110" y="1358"/>
                  </a:lnTo>
                  <a:lnTo>
                    <a:pt x="311" y="940"/>
                  </a:lnTo>
                  <a:lnTo>
                    <a:pt x="580" y="549"/>
                  </a:lnTo>
                  <a:lnTo>
                    <a:pt x="915" y="238"/>
                  </a:lnTo>
                  <a:lnTo>
                    <a:pt x="1299" y="38"/>
                  </a:lnTo>
                  <a:lnTo>
                    <a:pt x="1745" y="0"/>
                  </a:lnTo>
                  <a:lnTo>
                    <a:pt x="2225" y="166"/>
                  </a:lnTo>
                  <a:lnTo>
                    <a:pt x="2754" y="591"/>
                  </a:lnTo>
                  <a:lnTo>
                    <a:pt x="2160" y="415"/>
                  </a:lnTo>
                  <a:lnTo>
                    <a:pt x="1679" y="384"/>
                  </a:lnTo>
                  <a:lnTo>
                    <a:pt x="1282" y="459"/>
                  </a:lnTo>
                  <a:lnTo>
                    <a:pt x="960" y="635"/>
                  </a:lnTo>
                  <a:lnTo>
                    <a:pt x="688" y="874"/>
                  </a:lnTo>
                  <a:lnTo>
                    <a:pt x="449" y="1158"/>
                  </a:lnTo>
                  <a:lnTo>
                    <a:pt x="224" y="1458"/>
                  </a:lnTo>
                  <a:lnTo>
                    <a:pt x="0" y="1763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40"/>
            <p:cNvSpPr/>
            <p:nvPr/>
          </p:nvSpPr>
          <p:spPr>
            <a:xfrm>
              <a:off x="3977280" y="5262120"/>
              <a:ext cx="583200" cy="414720"/>
            </a:xfrm>
            <a:custGeom>
              <a:avLst/>
              <a:gdLst>
                <a:gd name="textAreaLeft" fmla="*/ 0 w 583200"/>
                <a:gd name="textAreaRight" fmla="*/ 583560 w 58320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2695" h="1753">
                  <a:moveTo>
                    <a:pt x="0" y="1753"/>
                  </a:moveTo>
                  <a:lnTo>
                    <a:pt x="110" y="1359"/>
                  </a:lnTo>
                  <a:lnTo>
                    <a:pt x="303" y="947"/>
                  </a:lnTo>
                  <a:lnTo>
                    <a:pt x="567" y="561"/>
                  </a:lnTo>
                  <a:lnTo>
                    <a:pt x="898" y="253"/>
                  </a:lnTo>
                  <a:lnTo>
                    <a:pt x="1278" y="45"/>
                  </a:lnTo>
                  <a:lnTo>
                    <a:pt x="1714" y="0"/>
                  </a:lnTo>
                  <a:lnTo>
                    <a:pt x="2187" y="149"/>
                  </a:lnTo>
                  <a:lnTo>
                    <a:pt x="2695" y="543"/>
                  </a:lnTo>
                  <a:lnTo>
                    <a:pt x="2108" y="377"/>
                  </a:lnTo>
                  <a:lnTo>
                    <a:pt x="1638" y="349"/>
                  </a:lnTo>
                  <a:lnTo>
                    <a:pt x="1247" y="432"/>
                  </a:lnTo>
                  <a:lnTo>
                    <a:pt x="936" y="612"/>
                  </a:lnTo>
                  <a:lnTo>
                    <a:pt x="663" y="850"/>
                  </a:lnTo>
                  <a:lnTo>
                    <a:pt x="435" y="1137"/>
                  </a:lnTo>
                  <a:lnTo>
                    <a:pt x="213" y="1442"/>
                  </a:lnTo>
                  <a:lnTo>
                    <a:pt x="0" y="1753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41"/>
            <p:cNvSpPr/>
            <p:nvPr/>
          </p:nvSpPr>
          <p:spPr>
            <a:xfrm>
              <a:off x="3977280" y="5260320"/>
              <a:ext cx="567360" cy="4161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416160"/>
                <a:gd name="textAreaBottom" fmla="*/ 416520 h 416160"/>
              </a:gdLst>
              <a:ahLst/>
              <a:rect l="textAreaLeft" t="textAreaTop" r="textAreaRight" b="textAreaBottom"/>
              <a:pathLst>
                <a:path w="2626" h="1759">
                  <a:moveTo>
                    <a:pt x="0" y="1759"/>
                  </a:moveTo>
                  <a:lnTo>
                    <a:pt x="106" y="1368"/>
                  </a:lnTo>
                  <a:lnTo>
                    <a:pt x="297" y="967"/>
                  </a:lnTo>
                  <a:lnTo>
                    <a:pt x="556" y="587"/>
                  </a:lnTo>
                  <a:lnTo>
                    <a:pt x="881" y="273"/>
                  </a:lnTo>
                  <a:lnTo>
                    <a:pt x="1250" y="58"/>
                  </a:lnTo>
                  <a:lnTo>
                    <a:pt x="1672" y="0"/>
                  </a:lnTo>
                  <a:lnTo>
                    <a:pt x="2131" y="135"/>
                  </a:lnTo>
                  <a:lnTo>
                    <a:pt x="2626" y="515"/>
                  </a:lnTo>
                  <a:lnTo>
                    <a:pt x="2056" y="352"/>
                  </a:lnTo>
                  <a:lnTo>
                    <a:pt x="1596" y="328"/>
                  </a:lnTo>
                  <a:lnTo>
                    <a:pt x="1219" y="418"/>
                  </a:lnTo>
                  <a:lnTo>
                    <a:pt x="912" y="604"/>
                  </a:lnTo>
                  <a:lnTo>
                    <a:pt x="645" y="846"/>
                  </a:lnTo>
                  <a:lnTo>
                    <a:pt x="421" y="1140"/>
                  </a:lnTo>
                  <a:lnTo>
                    <a:pt x="210" y="1448"/>
                  </a:lnTo>
                  <a:lnTo>
                    <a:pt x="0" y="1759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42"/>
            <p:cNvSpPr/>
            <p:nvPr/>
          </p:nvSpPr>
          <p:spPr>
            <a:xfrm>
              <a:off x="3977280" y="5262120"/>
              <a:ext cx="554760" cy="414720"/>
            </a:xfrm>
            <a:custGeom>
              <a:avLst/>
              <a:gdLst>
                <a:gd name="textAreaLeft" fmla="*/ 0 w 554760"/>
                <a:gd name="textAreaRight" fmla="*/ 555120 w 55476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2564" h="1753">
                  <a:moveTo>
                    <a:pt x="0" y="1753"/>
                  </a:moveTo>
                  <a:lnTo>
                    <a:pt x="103" y="1376"/>
                  </a:lnTo>
                  <a:lnTo>
                    <a:pt x="286" y="979"/>
                  </a:lnTo>
                  <a:lnTo>
                    <a:pt x="542" y="598"/>
                  </a:lnTo>
                  <a:lnTo>
                    <a:pt x="864" y="287"/>
                  </a:lnTo>
                  <a:lnTo>
                    <a:pt x="1223" y="66"/>
                  </a:lnTo>
                  <a:lnTo>
                    <a:pt x="1638" y="0"/>
                  </a:lnTo>
                  <a:lnTo>
                    <a:pt x="2087" y="118"/>
                  </a:lnTo>
                  <a:lnTo>
                    <a:pt x="2564" y="467"/>
                  </a:lnTo>
                  <a:lnTo>
                    <a:pt x="2007" y="314"/>
                  </a:lnTo>
                  <a:lnTo>
                    <a:pt x="1552" y="301"/>
                  </a:lnTo>
                  <a:lnTo>
                    <a:pt x="1181" y="394"/>
                  </a:lnTo>
                  <a:lnTo>
                    <a:pt x="884" y="584"/>
                  </a:lnTo>
                  <a:lnTo>
                    <a:pt x="628" y="826"/>
                  </a:lnTo>
                  <a:lnTo>
                    <a:pt x="407" y="1123"/>
                  </a:lnTo>
                  <a:lnTo>
                    <a:pt x="199" y="1434"/>
                  </a:lnTo>
                  <a:lnTo>
                    <a:pt x="0" y="1753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43"/>
            <p:cNvSpPr/>
            <p:nvPr/>
          </p:nvSpPr>
          <p:spPr>
            <a:xfrm>
              <a:off x="3475440" y="5607360"/>
              <a:ext cx="548280" cy="312480"/>
            </a:xfrm>
            <a:custGeom>
              <a:avLst/>
              <a:gdLst>
                <a:gd name="textAreaLeft" fmla="*/ 0 w 548280"/>
                <a:gd name="textAreaRight" fmla="*/ 548640 w 54828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2540" h="1321">
                  <a:moveTo>
                    <a:pt x="1255" y="7"/>
                  </a:moveTo>
                  <a:lnTo>
                    <a:pt x="1507" y="0"/>
                  </a:lnTo>
                  <a:lnTo>
                    <a:pt x="1745" y="39"/>
                  </a:lnTo>
                  <a:lnTo>
                    <a:pt x="1960" y="97"/>
                  </a:lnTo>
                  <a:lnTo>
                    <a:pt x="2154" y="187"/>
                  </a:lnTo>
                  <a:lnTo>
                    <a:pt x="2309" y="290"/>
                  </a:lnTo>
                  <a:lnTo>
                    <a:pt x="2430" y="408"/>
                  </a:lnTo>
                  <a:lnTo>
                    <a:pt x="2506" y="529"/>
                  </a:lnTo>
                  <a:lnTo>
                    <a:pt x="2540" y="653"/>
                  </a:lnTo>
                  <a:lnTo>
                    <a:pt x="2520" y="768"/>
                  </a:lnTo>
                  <a:lnTo>
                    <a:pt x="2457" y="878"/>
                  </a:lnTo>
                  <a:lnTo>
                    <a:pt x="2344" y="985"/>
                  </a:lnTo>
                  <a:lnTo>
                    <a:pt x="2198" y="1082"/>
                  </a:lnTo>
                  <a:lnTo>
                    <a:pt x="2015" y="1162"/>
                  </a:lnTo>
                  <a:lnTo>
                    <a:pt x="1805" y="1231"/>
                  </a:lnTo>
                  <a:lnTo>
                    <a:pt x="1566" y="1279"/>
                  </a:lnTo>
                  <a:lnTo>
                    <a:pt x="1313" y="1313"/>
                  </a:lnTo>
                  <a:lnTo>
                    <a:pt x="1058" y="1321"/>
                  </a:lnTo>
                  <a:lnTo>
                    <a:pt x="820" y="1307"/>
                  </a:lnTo>
                  <a:lnTo>
                    <a:pt x="595" y="1266"/>
                  </a:lnTo>
                  <a:lnTo>
                    <a:pt x="405" y="1217"/>
                  </a:lnTo>
                  <a:lnTo>
                    <a:pt x="242" y="1145"/>
                  </a:lnTo>
                  <a:lnTo>
                    <a:pt x="118" y="1058"/>
                  </a:lnTo>
                  <a:lnTo>
                    <a:pt x="31" y="955"/>
                  </a:lnTo>
                  <a:lnTo>
                    <a:pt x="0" y="847"/>
                  </a:lnTo>
                  <a:lnTo>
                    <a:pt x="14" y="716"/>
                  </a:lnTo>
                  <a:lnTo>
                    <a:pt x="87" y="587"/>
                  </a:lnTo>
                  <a:lnTo>
                    <a:pt x="198" y="453"/>
                  </a:lnTo>
                  <a:lnTo>
                    <a:pt x="353" y="325"/>
                  </a:lnTo>
                  <a:lnTo>
                    <a:pt x="536" y="207"/>
                  </a:lnTo>
                  <a:lnTo>
                    <a:pt x="757" y="114"/>
                  </a:lnTo>
                  <a:lnTo>
                    <a:pt x="996" y="42"/>
                  </a:lnTo>
                  <a:lnTo>
                    <a:pt x="1255" y="7"/>
                  </a:lnTo>
                  <a:close/>
                </a:path>
              </a:pathLst>
            </a:custGeom>
            <a:solidFill>
              <a:srgbClr val="ff0066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44"/>
            <p:cNvSpPr/>
            <p:nvPr/>
          </p:nvSpPr>
          <p:spPr>
            <a:xfrm>
              <a:off x="3484440" y="5610240"/>
              <a:ext cx="527400" cy="302400"/>
            </a:xfrm>
            <a:custGeom>
              <a:avLst/>
              <a:gdLst>
                <a:gd name="textAreaLeft" fmla="*/ 0 w 527400"/>
                <a:gd name="textAreaRight" fmla="*/ 527760 w 527400"/>
                <a:gd name="textAreaTop" fmla="*/ 0 h 302400"/>
                <a:gd name="textAreaBottom" fmla="*/ 302760 h 302400"/>
              </a:gdLst>
              <a:ahLst/>
              <a:rect l="textAreaLeft" t="textAreaTop" r="textAreaRight" b="textAreaBottom"/>
              <a:pathLst>
                <a:path w="2447" h="1275">
                  <a:moveTo>
                    <a:pt x="1199" y="7"/>
                  </a:moveTo>
                  <a:lnTo>
                    <a:pt x="1448" y="0"/>
                  </a:lnTo>
                  <a:lnTo>
                    <a:pt x="1683" y="38"/>
                  </a:lnTo>
                  <a:lnTo>
                    <a:pt x="1897" y="97"/>
                  </a:lnTo>
                  <a:lnTo>
                    <a:pt x="2087" y="187"/>
                  </a:lnTo>
                  <a:lnTo>
                    <a:pt x="2236" y="284"/>
                  </a:lnTo>
                  <a:lnTo>
                    <a:pt x="2350" y="401"/>
                  </a:lnTo>
                  <a:lnTo>
                    <a:pt x="2420" y="522"/>
                  </a:lnTo>
                  <a:lnTo>
                    <a:pt x="2447" y="650"/>
                  </a:lnTo>
                  <a:lnTo>
                    <a:pt x="2420" y="760"/>
                  </a:lnTo>
                  <a:lnTo>
                    <a:pt x="2350" y="867"/>
                  </a:lnTo>
                  <a:lnTo>
                    <a:pt x="2242" y="968"/>
                  </a:lnTo>
                  <a:lnTo>
                    <a:pt x="2104" y="1057"/>
                  </a:lnTo>
                  <a:lnTo>
                    <a:pt x="1931" y="1134"/>
                  </a:lnTo>
                  <a:lnTo>
                    <a:pt x="1735" y="1195"/>
                  </a:lnTo>
                  <a:lnTo>
                    <a:pt x="1510" y="1241"/>
                  </a:lnTo>
                  <a:lnTo>
                    <a:pt x="1271" y="1275"/>
                  </a:lnTo>
                  <a:lnTo>
                    <a:pt x="1020" y="1275"/>
                  </a:lnTo>
                  <a:lnTo>
                    <a:pt x="791" y="1265"/>
                  </a:lnTo>
                  <a:lnTo>
                    <a:pt x="574" y="1230"/>
                  </a:lnTo>
                  <a:lnTo>
                    <a:pt x="390" y="1186"/>
                  </a:lnTo>
                  <a:lnTo>
                    <a:pt x="228" y="1113"/>
                  </a:lnTo>
                  <a:lnTo>
                    <a:pt x="107" y="1030"/>
                  </a:lnTo>
                  <a:lnTo>
                    <a:pt x="27" y="936"/>
                  </a:lnTo>
                  <a:lnTo>
                    <a:pt x="0" y="833"/>
                  </a:lnTo>
                  <a:lnTo>
                    <a:pt x="7" y="708"/>
                  </a:lnTo>
                  <a:lnTo>
                    <a:pt x="76" y="581"/>
                  </a:lnTo>
                  <a:lnTo>
                    <a:pt x="180" y="446"/>
                  </a:lnTo>
                  <a:lnTo>
                    <a:pt x="329" y="325"/>
                  </a:lnTo>
                  <a:lnTo>
                    <a:pt x="505" y="207"/>
                  </a:lnTo>
                  <a:lnTo>
                    <a:pt x="715" y="114"/>
                  </a:lnTo>
                  <a:lnTo>
                    <a:pt x="943" y="42"/>
                  </a:lnTo>
                  <a:lnTo>
                    <a:pt x="1199" y="7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45"/>
            <p:cNvSpPr/>
            <p:nvPr/>
          </p:nvSpPr>
          <p:spPr>
            <a:xfrm>
              <a:off x="3489840" y="5614560"/>
              <a:ext cx="511920" cy="293040"/>
            </a:xfrm>
            <a:custGeom>
              <a:avLst/>
              <a:gdLst>
                <a:gd name="textAreaLeft" fmla="*/ 0 w 511920"/>
                <a:gd name="textAreaRight" fmla="*/ 512280 w 511920"/>
                <a:gd name="textAreaTop" fmla="*/ 0 h 293040"/>
                <a:gd name="textAreaBottom" fmla="*/ 293400 h 293040"/>
              </a:gdLst>
              <a:ahLst/>
              <a:rect l="textAreaLeft" t="textAreaTop" r="textAreaRight" b="textAreaBottom"/>
              <a:pathLst>
                <a:path w="2368" h="1235">
                  <a:moveTo>
                    <a:pt x="1155" y="8"/>
                  </a:moveTo>
                  <a:lnTo>
                    <a:pt x="1397" y="0"/>
                  </a:lnTo>
                  <a:lnTo>
                    <a:pt x="1632" y="35"/>
                  </a:lnTo>
                  <a:lnTo>
                    <a:pt x="1843" y="94"/>
                  </a:lnTo>
                  <a:lnTo>
                    <a:pt x="2030" y="184"/>
                  </a:lnTo>
                  <a:lnTo>
                    <a:pt x="2174" y="280"/>
                  </a:lnTo>
                  <a:lnTo>
                    <a:pt x="2289" y="398"/>
                  </a:lnTo>
                  <a:lnTo>
                    <a:pt x="2350" y="515"/>
                  </a:lnTo>
                  <a:lnTo>
                    <a:pt x="2368" y="647"/>
                  </a:lnTo>
                  <a:lnTo>
                    <a:pt x="2330" y="757"/>
                  </a:lnTo>
                  <a:lnTo>
                    <a:pt x="2258" y="864"/>
                  </a:lnTo>
                  <a:lnTo>
                    <a:pt x="2154" y="961"/>
                  </a:lnTo>
                  <a:lnTo>
                    <a:pt x="2022" y="1040"/>
                  </a:lnTo>
                  <a:lnTo>
                    <a:pt x="1860" y="1109"/>
                  </a:lnTo>
                  <a:lnTo>
                    <a:pt x="1680" y="1161"/>
                  </a:lnTo>
                  <a:lnTo>
                    <a:pt x="1469" y="1203"/>
                  </a:lnTo>
                  <a:lnTo>
                    <a:pt x="1244" y="1230"/>
                  </a:lnTo>
                  <a:lnTo>
                    <a:pt x="1003" y="1235"/>
                  </a:lnTo>
                  <a:lnTo>
                    <a:pt x="771" y="1221"/>
                  </a:lnTo>
                  <a:lnTo>
                    <a:pt x="567" y="1189"/>
                  </a:lnTo>
                  <a:lnTo>
                    <a:pt x="388" y="1148"/>
                  </a:lnTo>
                  <a:lnTo>
                    <a:pt x="228" y="1086"/>
                  </a:lnTo>
                  <a:lnTo>
                    <a:pt x="112" y="1010"/>
                  </a:lnTo>
                  <a:lnTo>
                    <a:pt x="32" y="916"/>
                  </a:lnTo>
                  <a:lnTo>
                    <a:pt x="0" y="816"/>
                  </a:lnTo>
                  <a:lnTo>
                    <a:pt x="8" y="695"/>
                  </a:lnTo>
                  <a:lnTo>
                    <a:pt x="69" y="567"/>
                  </a:lnTo>
                  <a:lnTo>
                    <a:pt x="170" y="440"/>
                  </a:lnTo>
                  <a:lnTo>
                    <a:pt x="315" y="319"/>
                  </a:lnTo>
                  <a:lnTo>
                    <a:pt x="484" y="201"/>
                  </a:lnTo>
                  <a:lnTo>
                    <a:pt x="682" y="111"/>
                  </a:lnTo>
                  <a:lnTo>
                    <a:pt x="906" y="38"/>
                  </a:lnTo>
                  <a:lnTo>
                    <a:pt x="1155" y="8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46"/>
            <p:cNvSpPr/>
            <p:nvPr/>
          </p:nvSpPr>
          <p:spPr>
            <a:xfrm>
              <a:off x="3496320" y="5617440"/>
              <a:ext cx="495000" cy="282960"/>
            </a:xfrm>
            <a:custGeom>
              <a:avLst/>
              <a:gdLst>
                <a:gd name="textAreaLeft" fmla="*/ 0 w 495000"/>
                <a:gd name="textAreaRight" fmla="*/ 495360 w 495000"/>
                <a:gd name="textAreaTop" fmla="*/ 0 h 282960"/>
                <a:gd name="textAreaBottom" fmla="*/ 283320 h 282960"/>
              </a:gdLst>
              <a:ahLst/>
              <a:rect l="textAreaLeft" t="textAreaTop" r="textAreaRight" b="textAreaBottom"/>
              <a:pathLst>
                <a:path w="2291" h="1193">
                  <a:moveTo>
                    <a:pt x="1106" y="7"/>
                  </a:moveTo>
                  <a:lnTo>
                    <a:pt x="1344" y="0"/>
                  </a:lnTo>
                  <a:lnTo>
                    <a:pt x="1575" y="35"/>
                  </a:lnTo>
                  <a:lnTo>
                    <a:pt x="1790" y="90"/>
                  </a:lnTo>
                  <a:lnTo>
                    <a:pt x="1973" y="176"/>
                  </a:lnTo>
                  <a:lnTo>
                    <a:pt x="2119" y="277"/>
                  </a:lnTo>
                  <a:lnTo>
                    <a:pt x="2226" y="394"/>
                  </a:lnTo>
                  <a:lnTo>
                    <a:pt x="2284" y="515"/>
                  </a:lnTo>
                  <a:lnTo>
                    <a:pt x="2291" y="643"/>
                  </a:lnTo>
                  <a:lnTo>
                    <a:pt x="2240" y="757"/>
                  </a:lnTo>
                  <a:lnTo>
                    <a:pt x="2163" y="861"/>
                  </a:lnTo>
                  <a:lnTo>
                    <a:pt x="2062" y="947"/>
                  </a:lnTo>
                  <a:lnTo>
                    <a:pt x="1941" y="1023"/>
                  </a:lnTo>
                  <a:lnTo>
                    <a:pt x="1794" y="1075"/>
                  </a:lnTo>
                  <a:lnTo>
                    <a:pt x="1624" y="1127"/>
                  </a:lnTo>
                  <a:lnTo>
                    <a:pt x="1431" y="1161"/>
                  </a:lnTo>
                  <a:lnTo>
                    <a:pt x="1212" y="1189"/>
                  </a:lnTo>
                  <a:lnTo>
                    <a:pt x="974" y="1193"/>
                  </a:lnTo>
                  <a:lnTo>
                    <a:pt x="753" y="1186"/>
                  </a:lnTo>
                  <a:lnTo>
                    <a:pt x="549" y="1158"/>
                  </a:lnTo>
                  <a:lnTo>
                    <a:pt x="373" y="1117"/>
                  </a:lnTo>
                  <a:lnTo>
                    <a:pt x="221" y="1054"/>
                  </a:lnTo>
                  <a:lnTo>
                    <a:pt x="103" y="985"/>
                  </a:lnTo>
                  <a:lnTo>
                    <a:pt x="28" y="896"/>
                  </a:lnTo>
                  <a:lnTo>
                    <a:pt x="0" y="802"/>
                  </a:lnTo>
                  <a:lnTo>
                    <a:pt x="14" y="685"/>
                  </a:lnTo>
                  <a:lnTo>
                    <a:pt x="72" y="560"/>
                  </a:lnTo>
                  <a:lnTo>
                    <a:pt x="162" y="429"/>
                  </a:lnTo>
                  <a:lnTo>
                    <a:pt x="297" y="311"/>
                  </a:lnTo>
                  <a:lnTo>
                    <a:pt x="455" y="194"/>
                  </a:lnTo>
                  <a:lnTo>
                    <a:pt x="650" y="104"/>
                  </a:lnTo>
                  <a:lnTo>
                    <a:pt x="864" y="38"/>
                  </a:lnTo>
                  <a:lnTo>
                    <a:pt x="1106" y="7"/>
                  </a:lnTo>
                  <a:close/>
                </a:path>
              </a:pathLst>
            </a:custGeom>
            <a:solidFill>
              <a:srgbClr val="ff0066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47"/>
            <p:cNvSpPr/>
            <p:nvPr/>
          </p:nvSpPr>
          <p:spPr>
            <a:xfrm>
              <a:off x="3503880" y="5620320"/>
              <a:ext cx="477000" cy="272880"/>
            </a:xfrm>
            <a:custGeom>
              <a:avLst/>
              <a:gdLst>
                <a:gd name="textAreaLeft" fmla="*/ 0 w 477000"/>
                <a:gd name="textAreaRight" fmla="*/ 477360 w 47700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2209" h="1153">
                  <a:moveTo>
                    <a:pt x="1058" y="3"/>
                  </a:moveTo>
                  <a:lnTo>
                    <a:pt x="1296" y="0"/>
                  </a:lnTo>
                  <a:lnTo>
                    <a:pt x="1521" y="35"/>
                  </a:lnTo>
                  <a:lnTo>
                    <a:pt x="1728" y="93"/>
                  </a:lnTo>
                  <a:lnTo>
                    <a:pt x="1907" y="179"/>
                  </a:lnTo>
                  <a:lnTo>
                    <a:pt x="2053" y="280"/>
                  </a:lnTo>
                  <a:lnTo>
                    <a:pt x="2154" y="397"/>
                  </a:lnTo>
                  <a:lnTo>
                    <a:pt x="2209" y="518"/>
                  </a:lnTo>
                  <a:lnTo>
                    <a:pt x="2209" y="652"/>
                  </a:lnTo>
                  <a:lnTo>
                    <a:pt x="2143" y="764"/>
                  </a:lnTo>
                  <a:lnTo>
                    <a:pt x="2063" y="864"/>
                  </a:lnTo>
                  <a:lnTo>
                    <a:pt x="1967" y="940"/>
                  </a:lnTo>
                  <a:lnTo>
                    <a:pt x="1852" y="1009"/>
                  </a:lnTo>
                  <a:lnTo>
                    <a:pt x="1714" y="1057"/>
                  </a:lnTo>
                  <a:lnTo>
                    <a:pt x="1562" y="1098"/>
                  </a:lnTo>
                  <a:lnTo>
                    <a:pt x="1383" y="1123"/>
                  </a:lnTo>
                  <a:lnTo>
                    <a:pt x="1178" y="1150"/>
                  </a:lnTo>
                  <a:lnTo>
                    <a:pt x="951" y="1153"/>
                  </a:lnTo>
                  <a:lnTo>
                    <a:pt x="732" y="1147"/>
                  </a:lnTo>
                  <a:lnTo>
                    <a:pt x="536" y="1119"/>
                  </a:lnTo>
                  <a:lnTo>
                    <a:pt x="366" y="1084"/>
                  </a:lnTo>
                  <a:lnTo>
                    <a:pt x="218" y="1029"/>
                  </a:lnTo>
                  <a:lnTo>
                    <a:pt x="104" y="960"/>
                  </a:lnTo>
                  <a:lnTo>
                    <a:pt x="28" y="881"/>
                  </a:lnTo>
                  <a:lnTo>
                    <a:pt x="0" y="791"/>
                  </a:lnTo>
                  <a:lnTo>
                    <a:pt x="11" y="674"/>
                  </a:lnTo>
                  <a:lnTo>
                    <a:pt x="63" y="556"/>
                  </a:lnTo>
                  <a:lnTo>
                    <a:pt x="149" y="428"/>
                  </a:lnTo>
                  <a:lnTo>
                    <a:pt x="277" y="311"/>
                  </a:lnTo>
                  <a:lnTo>
                    <a:pt x="429" y="197"/>
                  </a:lnTo>
                  <a:lnTo>
                    <a:pt x="611" y="107"/>
                  </a:lnTo>
                  <a:lnTo>
                    <a:pt x="823" y="35"/>
                  </a:lnTo>
                  <a:lnTo>
                    <a:pt x="1058" y="3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48"/>
            <p:cNvSpPr/>
            <p:nvPr/>
          </p:nvSpPr>
          <p:spPr>
            <a:xfrm>
              <a:off x="3510360" y="5623200"/>
              <a:ext cx="461520" cy="262800"/>
            </a:xfrm>
            <a:custGeom>
              <a:avLst/>
              <a:gdLst>
                <a:gd name="textAreaLeft" fmla="*/ 0 w 461520"/>
                <a:gd name="textAreaRight" fmla="*/ 461880 w 461520"/>
                <a:gd name="textAreaTop" fmla="*/ 0 h 262800"/>
                <a:gd name="textAreaBottom" fmla="*/ 263160 h 262800"/>
              </a:gdLst>
              <a:ahLst/>
              <a:rect l="textAreaLeft" t="textAreaTop" r="textAreaRight" b="textAreaBottom"/>
              <a:pathLst>
                <a:path w="2131" h="1110">
                  <a:moveTo>
                    <a:pt x="1008" y="4"/>
                  </a:moveTo>
                  <a:lnTo>
                    <a:pt x="1236" y="0"/>
                  </a:lnTo>
                  <a:lnTo>
                    <a:pt x="1461" y="31"/>
                  </a:lnTo>
                  <a:lnTo>
                    <a:pt x="1668" y="91"/>
                  </a:lnTo>
                  <a:lnTo>
                    <a:pt x="1848" y="177"/>
                  </a:lnTo>
                  <a:lnTo>
                    <a:pt x="1987" y="273"/>
                  </a:lnTo>
                  <a:lnTo>
                    <a:pt x="2087" y="391"/>
                  </a:lnTo>
                  <a:lnTo>
                    <a:pt x="2131" y="512"/>
                  </a:lnTo>
                  <a:lnTo>
                    <a:pt x="2122" y="647"/>
                  </a:lnTo>
                  <a:lnTo>
                    <a:pt x="2045" y="760"/>
                  </a:lnTo>
                  <a:lnTo>
                    <a:pt x="1966" y="854"/>
                  </a:lnTo>
                  <a:lnTo>
                    <a:pt x="1872" y="927"/>
                  </a:lnTo>
                  <a:lnTo>
                    <a:pt x="1769" y="985"/>
                  </a:lnTo>
                  <a:lnTo>
                    <a:pt x="1641" y="1027"/>
                  </a:lnTo>
                  <a:lnTo>
                    <a:pt x="1503" y="1062"/>
                  </a:lnTo>
                  <a:lnTo>
                    <a:pt x="1337" y="1085"/>
                  </a:lnTo>
                  <a:lnTo>
                    <a:pt x="1146" y="1106"/>
                  </a:lnTo>
                  <a:lnTo>
                    <a:pt x="922" y="1110"/>
                  </a:lnTo>
                  <a:lnTo>
                    <a:pt x="714" y="1106"/>
                  </a:lnTo>
                  <a:lnTo>
                    <a:pt x="521" y="1085"/>
                  </a:lnTo>
                  <a:lnTo>
                    <a:pt x="355" y="1051"/>
                  </a:lnTo>
                  <a:lnTo>
                    <a:pt x="207" y="1002"/>
                  </a:lnTo>
                  <a:lnTo>
                    <a:pt x="100" y="941"/>
                  </a:lnTo>
                  <a:lnTo>
                    <a:pt x="27" y="864"/>
                  </a:lnTo>
                  <a:lnTo>
                    <a:pt x="0" y="778"/>
                  </a:lnTo>
                  <a:lnTo>
                    <a:pt x="9" y="667"/>
                  </a:lnTo>
                  <a:lnTo>
                    <a:pt x="58" y="550"/>
                  </a:lnTo>
                  <a:lnTo>
                    <a:pt x="141" y="422"/>
                  </a:lnTo>
                  <a:lnTo>
                    <a:pt x="262" y="305"/>
                  </a:lnTo>
                  <a:lnTo>
                    <a:pt x="403" y="194"/>
                  </a:lnTo>
                  <a:lnTo>
                    <a:pt x="579" y="104"/>
                  </a:lnTo>
                  <a:lnTo>
                    <a:pt x="777" y="35"/>
                  </a:lnTo>
                  <a:lnTo>
                    <a:pt x="1008" y="4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49"/>
            <p:cNvSpPr/>
            <p:nvPr/>
          </p:nvSpPr>
          <p:spPr>
            <a:xfrm>
              <a:off x="3517200" y="5627160"/>
              <a:ext cx="447120" cy="251640"/>
            </a:xfrm>
            <a:custGeom>
              <a:avLst/>
              <a:gdLst>
                <a:gd name="textAreaLeft" fmla="*/ 0 w 447120"/>
                <a:gd name="textAreaRight" fmla="*/ 447480 w 447120"/>
                <a:gd name="textAreaTop" fmla="*/ 0 h 251640"/>
                <a:gd name="textAreaBottom" fmla="*/ 252000 h 251640"/>
              </a:gdLst>
              <a:ahLst/>
              <a:rect l="textAreaLeft" t="textAreaTop" r="textAreaRight" b="textAreaBottom"/>
              <a:pathLst>
                <a:path w="2066" h="1065">
                  <a:moveTo>
                    <a:pt x="968" y="3"/>
                  </a:moveTo>
                  <a:lnTo>
                    <a:pt x="1192" y="0"/>
                  </a:lnTo>
                  <a:lnTo>
                    <a:pt x="1412" y="31"/>
                  </a:lnTo>
                  <a:lnTo>
                    <a:pt x="1617" y="86"/>
                  </a:lnTo>
                  <a:lnTo>
                    <a:pt x="1797" y="170"/>
                  </a:lnTo>
                  <a:lnTo>
                    <a:pt x="1931" y="267"/>
                  </a:lnTo>
                  <a:lnTo>
                    <a:pt x="2025" y="380"/>
                  </a:lnTo>
                  <a:lnTo>
                    <a:pt x="2066" y="509"/>
                  </a:lnTo>
                  <a:lnTo>
                    <a:pt x="2042" y="647"/>
                  </a:lnTo>
                  <a:lnTo>
                    <a:pt x="1956" y="760"/>
                  </a:lnTo>
                  <a:lnTo>
                    <a:pt x="1873" y="850"/>
                  </a:lnTo>
                  <a:lnTo>
                    <a:pt x="1783" y="913"/>
                  </a:lnTo>
                  <a:lnTo>
                    <a:pt x="1686" y="968"/>
                  </a:lnTo>
                  <a:lnTo>
                    <a:pt x="1572" y="999"/>
                  </a:lnTo>
                  <a:lnTo>
                    <a:pt x="1444" y="1030"/>
                  </a:lnTo>
                  <a:lnTo>
                    <a:pt x="1292" y="1048"/>
                  </a:lnTo>
                  <a:lnTo>
                    <a:pt x="1112" y="1065"/>
                  </a:lnTo>
                  <a:lnTo>
                    <a:pt x="894" y="1065"/>
                  </a:lnTo>
                  <a:lnTo>
                    <a:pt x="694" y="1062"/>
                  </a:lnTo>
                  <a:lnTo>
                    <a:pt x="507" y="1044"/>
                  </a:lnTo>
                  <a:lnTo>
                    <a:pt x="349" y="1016"/>
                  </a:lnTo>
                  <a:lnTo>
                    <a:pt x="203" y="971"/>
                  </a:lnTo>
                  <a:lnTo>
                    <a:pt x="99" y="916"/>
                  </a:lnTo>
                  <a:lnTo>
                    <a:pt x="27" y="843"/>
                  </a:lnTo>
                  <a:lnTo>
                    <a:pt x="0" y="764"/>
                  </a:lnTo>
                  <a:lnTo>
                    <a:pt x="10" y="657"/>
                  </a:lnTo>
                  <a:lnTo>
                    <a:pt x="55" y="539"/>
                  </a:lnTo>
                  <a:lnTo>
                    <a:pt x="131" y="422"/>
                  </a:lnTo>
                  <a:lnTo>
                    <a:pt x="245" y="305"/>
                  </a:lnTo>
                  <a:lnTo>
                    <a:pt x="380" y="193"/>
                  </a:lnTo>
                  <a:lnTo>
                    <a:pt x="548" y="104"/>
                  </a:lnTo>
                  <a:lnTo>
                    <a:pt x="743" y="35"/>
                  </a:lnTo>
                  <a:lnTo>
                    <a:pt x="968" y="3"/>
                  </a:lnTo>
                  <a:close/>
                </a:path>
              </a:pathLst>
            </a:custGeom>
            <a:solidFill>
              <a:srgbClr val="ff0066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50"/>
            <p:cNvSpPr/>
            <p:nvPr/>
          </p:nvSpPr>
          <p:spPr>
            <a:xfrm>
              <a:off x="3525840" y="5630040"/>
              <a:ext cx="429120" cy="241200"/>
            </a:xfrm>
            <a:custGeom>
              <a:avLst/>
              <a:gdLst>
                <a:gd name="textAreaLeft" fmla="*/ 0 w 429120"/>
                <a:gd name="textAreaRight" fmla="*/ 429480 w 42912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1987" h="1020">
                  <a:moveTo>
                    <a:pt x="912" y="4"/>
                  </a:moveTo>
                  <a:lnTo>
                    <a:pt x="1133" y="0"/>
                  </a:lnTo>
                  <a:lnTo>
                    <a:pt x="1351" y="28"/>
                  </a:lnTo>
                  <a:lnTo>
                    <a:pt x="1555" y="80"/>
                  </a:lnTo>
                  <a:lnTo>
                    <a:pt x="1731" y="163"/>
                  </a:lnTo>
                  <a:lnTo>
                    <a:pt x="1866" y="256"/>
                  </a:lnTo>
                  <a:lnTo>
                    <a:pt x="1956" y="374"/>
                  </a:lnTo>
                  <a:lnTo>
                    <a:pt x="1987" y="505"/>
                  </a:lnTo>
                  <a:lnTo>
                    <a:pt x="1956" y="643"/>
                  </a:lnTo>
                  <a:lnTo>
                    <a:pt x="1855" y="757"/>
                  </a:lnTo>
                  <a:lnTo>
                    <a:pt x="1769" y="841"/>
                  </a:lnTo>
                  <a:lnTo>
                    <a:pt x="1686" y="899"/>
                  </a:lnTo>
                  <a:lnTo>
                    <a:pt x="1599" y="944"/>
                  </a:lnTo>
                  <a:lnTo>
                    <a:pt x="1495" y="971"/>
                  </a:lnTo>
                  <a:lnTo>
                    <a:pt x="1379" y="988"/>
                  </a:lnTo>
                  <a:lnTo>
                    <a:pt x="1241" y="1003"/>
                  </a:lnTo>
                  <a:lnTo>
                    <a:pt x="1074" y="1020"/>
                  </a:lnTo>
                  <a:lnTo>
                    <a:pt x="864" y="1020"/>
                  </a:lnTo>
                  <a:lnTo>
                    <a:pt x="670" y="1020"/>
                  </a:lnTo>
                  <a:lnTo>
                    <a:pt x="490" y="1010"/>
                  </a:lnTo>
                  <a:lnTo>
                    <a:pt x="331" y="985"/>
                  </a:lnTo>
                  <a:lnTo>
                    <a:pt x="196" y="944"/>
                  </a:lnTo>
                  <a:lnTo>
                    <a:pt x="93" y="892"/>
                  </a:lnTo>
                  <a:lnTo>
                    <a:pt x="27" y="823"/>
                  </a:lnTo>
                  <a:lnTo>
                    <a:pt x="0" y="747"/>
                  </a:lnTo>
                  <a:lnTo>
                    <a:pt x="3" y="643"/>
                  </a:lnTo>
                  <a:lnTo>
                    <a:pt x="44" y="526"/>
                  </a:lnTo>
                  <a:lnTo>
                    <a:pt x="110" y="409"/>
                  </a:lnTo>
                  <a:lnTo>
                    <a:pt x="221" y="294"/>
                  </a:lnTo>
                  <a:lnTo>
                    <a:pt x="345" y="184"/>
                  </a:lnTo>
                  <a:lnTo>
                    <a:pt x="507" y="101"/>
                  </a:lnTo>
                  <a:lnTo>
                    <a:pt x="694" y="32"/>
                  </a:lnTo>
                  <a:lnTo>
                    <a:pt x="912" y="4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51"/>
            <p:cNvSpPr/>
            <p:nvPr/>
          </p:nvSpPr>
          <p:spPr>
            <a:xfrm>
              <a:off x="3549240" y="5637240"/>
              <a:ext cx="376920" cy="203040"/>
            </a:xfrm>
            <a:custGeom>
              <a:avLst/>
              <a:gdLst>
                <a:gd name="textAreaLeft" fmla="*/ 0 w 376920"/>
                <a:gd name="textAreaRight" fmla="*/ 377280 w 37692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745" h="860">
                  <a:moveTo>
                    <a:pt x="805" y="3"/>
                  </a:moveTo>
                  <a:lnTo>
                    <a:pt x="999" y="0"/>
                  </a:lnTo>
                  <a:lnTo>
                    <a:pt x="1195" y="24"/>
                  </a:lnTo>
                  <a:lnTo>
                    <a:pt x="1372" y="69"/>
                  </a:lnTo>
                  <a:lnTo>
                    <a:pt x="1524" y="138"/>
                  </a:lnTo>
                  <a:lnTo>
                    <a:pt x="1641" y="217"/>
                  </a:lnTo>
                  <a:lnTo>
                    <a:pt x="1725" y="314"/>
                  </a:lnTo>
                  <a:lnTo>
                    <a:pt x="1745" y="418"/>
                  </a:lnTo>
                  <a:lnTo>
                    <a:pt x="1718" y="539"/>
                  </a:lnTo>
                  <a:lnTo>
                    <a:pt x="1635" y="632"/>
                  </a:lnTo>
                  <a:lnTo>
                    <a:pt x="1558" y="704"/>
                  </a:lnTo>
                  <a:lnTo>
                    <a:pt x="1479" y="756"/>
                  </a:lnTo>
                  <a:lnTo>
                    <a:pt x="1403" y="795"/>
                  </a:lnTo>
                  <a:lnTo>
                    <a:pt x="1313" y="816"/>
                  </a:lnTo>
                  <a:lnTo>
                    <a:pt x="1217" y="836"/>
                  </a:lnTo>
                  <a:lnTo>
                    <a:pt x="1088" y="847"/>
                  </a:lnTo>
                  <a:lnTo>
                    <a:pt x="950" y="860"/>
                  </a:lnTo>
                  <a:lnTo>
                    <a:pt x="768" y="860"/>
                  </a:lnTo>
                  <a:lnTo>
                    <a:pt x="595" y="860"/>
                  </a:lnTo>
                  <a:lnTo>
                    <a:pt x="439" y="847"/>
                  </a:lnTo>
                  <a:lnTo>
                    <a:pt x="297" y="830"/>
                  </a:lnTo>
                  <a:lnTo>
                    <a:pt x="176" y="795"/>
                  </a:lnTo>
                  <a:lnTo>
                    <a:pt x="86" y="753"/>
                  </a:lnTo>
                  <a:lnTo>
                    <a:pt x="25" y="701"/>
                  </a:lnTo>
                  <a:lnTo>
                    <a:pt x="0" y="632"/>
                  </a:lnTo>
                  <a:lnTo>
                    <a:pt x="7" y="542"/>
                  </a:lnTo>
                  <a:lnTo>
                    <a:pt x="42" y="449"/>
                  </a:lnTo>
                  <a:lnTo>
                    <a:pt x="103" y="349"/>
                  </a:lnTo>
                  <a:lnTo>
                    <a:pt x="193" y="255"/>
                  </a:lnTo>
                  <a:lnTo>
                    <a:pt x="308" y="165"/>
                  </a:lnTo>
                  <a:lnTo>
                    <a:pt x="449" y="90"/>
                  </a:lnTo>
                  <a:lnTo>
                    <a:pt x="612" y="30"/>
                  </a:lnTo>
                  <a:lnTo>
                    <a:pt x="805" y="3"/>
                  </a:lnTo>
                  <a:close/>
                </a:path>
              </a:pathLst>
            </a:cu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52"/>
            <p:cNvSpPr/>
            <p:nvPr/>
          </p:nvSpPr>
          <p:spPr>
            <a:xfrm>
              <a:off x="3578040" y="5644440"/>
              <a:ext cx="321120" cy="163440"/>
            </a:xfrm>
            <a:custGeom>
              <a:avLst/>
              <a:gdLst>
                <a:gd name="textAreaLeft" fmla="*/ 0 w 321120"/>
                <a:gd name="textAreaRight" fmla="*/ 321480 w 32112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493" h="696">
                  <a:moveTo>
                    <a:pt x="692" y="5"/>
                  </a:moveTo>
                  <a:lnTo>
                    <a:pt x="857" y="0"/>
                  </a:lnTo>
                  <a:lnTo>
                    <a:pt x="1023" y="18"/>
                  </a:lnTo>
                  <a:lnTo>
                    <a:pt x="1171" y="52"/>
                  </a:lnTo>
                  <a:lnTo>
                    <a:pt x="1303" y="108"/>
                  </a:lnTo>
                  <a:lnTo>
                    <a:pt x="1403" y="170"/>
                  </a:lnTo>
                  <a:lnTo>
                    <a:pt x="1469" y="253"/>
                  </a:lnTo>
                  <a:lnTo>
                    <a:pt x="1493" y="336"/>
                  </a:lnTo>
                  <a:lnTo>
                    <a:pt x="1469" y="437"/>
                  </a:lnTo>
                  <a:lnTo>
                    <a:pt x="1392" y="509"/>
                  </a:lnTo>
                  <a:lnTo>
                    <a:pt x="1331" y="571"/>
                  </a:lnTo>
                  <a:lnTo>
                    <a:pt x="1262" y="613"/>
                  </a:lnTo>
                  <a:lnTo>
                    <a:pt x="1199" y="636"/>
                  </a:lnTo>
                  <a:lnTo>
                    <a:pt x="1119" y="651"/>
                  </a:lnTo>
                  <a:lnTo>
                    <a:pt x="1033" y="671"/>
                  </a:lnTo>
                  <a:lnTo>
                    <a:pt x="926" y="682"/>
                  </a:lnTo>
                  <a:lnTo>
                    <a:pt x="805" y="696"/>
                  </a:lnTo>
                  <a:lnTo>
                    <a:pt x="643" y="696"/>
                  </a:lnTo>
                  <a:lnTo>
                    <a:pt x="497" y="696"/>
                  </a:lnTo>
                  <a:lnTo>
                    <a:pt x="363" y="688"/>
                  </a:lnTo>
                  <a:lnTo>
                    <a:pt x="245" y="674"/>
                  </a:lnTo>
                  <a:lnTo>
                    <a:pt x="142" y="647"/>
                  </a:lnTo>
                  <a:lnTo>
                    <a:pt x="65" y="616"/>
                  </a:lnTo>
                  <a:lnTo>
                    <a:pt x="18" y="571"/>
                  </a:lnTo>
                  <a:lnTo>
                    <a:pt x="0" y="516"/>
                  </a:lnTo>
                  <a:lnTo>
                    <a:pt x="0" y="443"/>
                  </a:lnTo>
                  <a:lnTo>
                    <a:pt x="31" y="368"/>
                  </a:lnTo>
                  <a:lnTo>
                    <a:pt x="79" y="288"/>
                  </a:lnTo>
                  <a:lnTo>
                    <a:pt x="162" y="212"/>
                  </a:lnTo>
                  <a:lnTo>
                    <a:pt x="260" y="135"/>
                  </a:lnTo>
                  <a:lnTo>
                    <a:pt x="387" y="69"/>
                  </a:lnTo>
                  <a:lnTo>
                    <a:pt x="525" y="25"/>
                  </a:lnTo>
                  <a:lnTo>
                    <a:pt x="692" y="5"/>
                  </a:lnTo>
                  <a:close/>
                </a:path>
              </a:pathLst>
            </a:custGeom>
            <a:solidFill>
              <a:srgbClr val="ff0066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53"/>
            <p:cNvSpPr/>
            <p:nvPr/>
          </p:nvSpPr>
          <p:spPr>
            <a:xfrm>
              <a:off x="3627000" y="5655600"/>
              <a:ext cx="217800" cy="88200"/>
            </a:xfrm>
            <a:custGeom>
              <a:avLst/>
              <a:gdLst>
                <a:gd name="textAreaLeft" fmla="*/ 0 w 217800"/>
                <a:gd name="textAreaRight" fmla="*/ 218160 w 21780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1009" h="374">
                  <a:moveTo>
                    <a:pt x="473" y="8"/>
                  </a:moveTo>
                  <a:lnTo>
                    <a:pt x="584" y="0"/>
                  </a:lnTo>
                  <a:lnTo>
                    <a:pt x="698" y="11"/>
                  </a:lnTo>
                  <a:lnTo>
                    <a:pt x="795" y="25"/>
                  </a:lnTo>
                  <a:lnTo>
                    <a:pt x="885" y="56"/>
                  </a:lnTo>
                  <a:lnTo>
                    <a:pt x="951" y="87"/>
                  </a:lnTo>
                  <a:lnTo>
                    <a:pt x="995" y="129"/>
                  </a:lnTo>
                  <a:lnTo>
                    <a:pt x="1009" y="173"/>
                  </a:lnTo>
                  <a:lnTo>
                    <a:pt x="988" y="225"/>
                  </a:lnTo>
                  <a:lnTo>
                    <a:pt x="940" y="267"/>
                  </a:lnTo>
                  <a:lnTo>
                    <a:pt x="896" y="302"/>
                  </a:lnTo>
                  <a:lnTo>
                    <a:pt x="850" y="322"/>
                  </a:lnTo>
                  <a:lnTo>
                    <a:pt x="809" y="339"/>
                  </a:lnTo>
                  <a:lnTo>
                    <a:pt x="757" y="346"/>
                  </a:lnTo>
                  <a:lnTo>
                    <a:pt x="698" y="357"/>
                  </a:lnTo>
                  <a:lnTo>
                    <a:pt x="629" y="360"/>
                  </a:lnTo>
                  <a:lnTo>
                    <a:pt x="550" y="371"/>
                  </a:lnTo>
                  <a:lnTo>
                    <a:pt x="442" y="371"/>
                  </a:lnTo>
                  <a:lnTo>
                    <a:pt x="338" y="374"/>
                  </a:lnTo>
                  <a:lnTo>
                    <a:pt x="242" y="371"/>
                  </a:lnTo>
                  <a:lnTo>
                    <a:pt x="165" y="367"/>
                  </a:lnTo>
                  <a:lnTo>
                    <a:pt x="93" y="346"/>
                  </a:lnTo>
                  <a:lnTo>
                    <a:pt x="44" y="336"/>
                  </a:lnTo>
                  <a:lnTo>
                    <a:pt x="10" y="308"/>
                  </a:lnTo>
                  <a:lnTo>
                    <a:pt x="0" y="284"/>
                  </a:lnTo>
                  <a:lnTo>
                    <a:pt x="0" y="246"/>
                  </a:lnTo>
                  <a:lnTo>
                    <a:pt x="24" y="204"/>
                  </a:lnTo>
                  <a:lnTo>
                    <a:pt x="62" y="160"/>
                  </a:lnTo>
                  <a:lnTo>
                    <a:pt x="118" y="118"/>
                  </a:lnTo>
                  <a:lnTo>
                    <a:pt x="183" y="77"/>
                  </a:lnTo>
                  <a:lnTo>
                    <a:pt x="266" y="46"/>
                  </a:lnTo>
                  <a:lnTo>
                    <a:pt x="360" y="17"/>
                  </a:lnTo>
                  <a:lnTo>
                    <a:pt x="473" y="8"/>
                  </a:lnTo>
                  <a:close/>
                </a:path>
              </a:pathLst>
            </a:custGeom>
            <a:solidFill>
              <a:srgbClr val="ff0066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154"/>
          <p:cNvGrpSpPr/>
          <p:nvPr/>
        </p:nvGrpSpPr>
        <p:grpSpPr>
          <a:xfrm>
            <a:off x="4660560" y="4773600"/>
            <a:ext cx="1262520" cy="1272960"/>
            <a:chOff x="4660560" y="4773600"/>
            <a:chExt cx="1262520" cy="1272960"/>
          </a:xfrm>
        </p:grpSpPr>
        <p:sp>
          <p:nvSpPr>
            <p:cNvPr id="194" name="Freeform 155"/>
            <p:cNvSpPr/>
            <p:nvPr/>
          </p:nvSpPr>
          <p:spPr>
            <a:xfrm rot="18555600">
              <a:off x="4823280" y="4977360"/>
              <a:ext cx="936720" cy="865080"/>
            </a:xfrm>
            <a:custGeom>
              <a:avLst/>
              <a:gdLst>
                <a:gd name="textAreaLeft" fmla="*/ 0 w 936720"/>
                <a:gd name="textAreaRight" fmla="*/ 937080 w 936720"/>
                <a:gd name="textAreaTop" fmla="*/ 0 h 865080"/>
                <a:gd name="textAreaBottom" fmla="*/ 865440 h 865080"/>
              </a:gdLst>
              <a:ahLst/>
              <a:rect l="textAreaLeft" t="textAreaTop" r="textAreaRight" b="textAreaBottom"/>
              <a:pathLst>
                <a:path w="9210" h="8610">
                  <a:moveTo>
                    <a:pt x="0" y="4530"/>
                  </a:moveTo>
                  <a:lnTo>
                    <a:pt x="330" y="4110"/>
                  </a:lnTo>
                  <a:lnTo>
                    <a:pt x="750" y="3720"/>
                  </a:lnTo>
                  <a:lnTo>
                    <a:pt x="1260" y="3421"/>
                  </a:lnTo>
                  <a:lnTo>
                    <a:pt x="1770" y="3240"/>
                  </a:lnTo>
                  <a:lnTo>
                    <a:pt x="2160" y="3210"/>
                  </a:lnTo>
                  <a:lnTo>
                    <a:pt x="2490" y="3240"/>
                  </a:lnTo>
                  <a:lnTo>
                    <a:pt x="2821" y="3300"/>
                  </a:lnTo>
                  <a:lnTo>
                    <a:pt x="3150" y="3390"/>
                  </a:lnTo>
                  <a:lnTo>
                    <a:pt x="2970" y="2970"/>
                  </a:lnTo>
                  <a:lnTo>
                    <a:pt x="2910" y="2551"/>
                  </a:lnTo>
                  <a:lnTo>
                    <a:pt x="2880" y="2129"/>
                  </a:lnTo>
                  <a:lnTo>
                    <a:pt x="2910" y="1620"/>
                  </a:lnTo>
                  <a:lnTo>
                    <a:pt x="3000" y="1140"/>
                  </a:lnTo>
                  <a:lnTo>
                    <a:pt x="3180" y="720"/>
                  </a:lnTo>
                  <a:lnTo>
                    <a:pt x="3390" y="330"/>
                  </a:lnTo>
                  <a:lnTo>
                    <a:pt x="3750" y="0"/>
                  </a:lnTo>
                  <a:lnTo>
                    <a:pt x="4230" y="270"/>
                  </a:lnTo>
                  <a:lnTo>
                    <a:pt x="4591" y="630"/>
                  </a:lnTo>
                  <a:lnTo>
                    <a:pt x="4860" y="990"/>
                  </a:lnTo>
                  <a:lnTo>
                    <a:pt x="5039" y="1380"/>
                  </a:lnTo>
                  <a:lnTo>
                    <a:pt x="5160" y="1740"/>
                  </a:lnTo>
                  <a:lnTo>
                    <a:pt x="5280" y="2070"/>
                  </a:lnTo>
                  <a:lnTo>
                    <a:pt x="5340" y="2370"/>
                  </a:lnTo>
                  <a:lnTo>
                    <a:pt x="5400" y="2730"/>
                  </a:lnTo>
                  <a:lnTo>
                    <a:pt x="5820" y="2490"/>
                  </a:lnTo>
                  <a:lnTo>
                    <a:pt x="6150" y="2340"/>
                  </a:lnTo>
                  <a:lnTo>
                    <a:pt x="6480" y="2250"/>
                  </a:lnTo>
                  <a:lnTo>
                    <a:pt x="6900" y="2220"/>
                  </a:lnTo>
                  <a:lnTo>
                    <a:pt x="7500" y="2190"/>
                  </a:lnTo>
                  <a:lnTo>
                    <a:pt x="8101" y="2250"/>
                  </a:lnTo>
                  <a:lnTo>
                    <a:pt x="8700" y="2370"/>
                  </a:lnTo>
                  <a:lnTo>
                    <a:pt x="9210" y="2490"/>
                  </a:lnTo>
                  <a:lnTo>
                    <a:pt x="9030" y="2970"/>
                  </a:lnTo>
                  <a:lnTo>
                    <a:pt x="8790" y="3390"/>
                  </a:lnTo>
                  <a:lnTo>
                    <a:pt x="8520" y="3720"/>
                  </a:lnTo>
                  <a:lnTo>
                    <a:pt x="8220" y="3960"/>
                  </a:lnTo>
                  <a:lnTo>
                    <a:pt x="7800" y="4200"/>
                  </a:lnTo>
                  <a:lnTo>
                    <a:pt x="7410" y="4380"/>
                  </a:lnTo>
                  <a:lnTo>
                    <a:pt x="7050" y="4500"/>
                  </a:lnTo>
                  <a:lnTo>
                    <a:pt x="6690" y="4590"/>
                  </a:lnTo>
                  <a:lnTo>
                    <a:pt x="7080" y="4860"/>
                  </a:lnTo>
                  <a:lnTo>
                    <a:pt x="7380" y="5100"/>
                  </a:lnTo>
                  <a:lnTo>
                    <a:pt x="7620" y="5370"/>
                  </a:lnTo>
                  <a:lnTo>
                    <a:pt x="7800" y="5700"/>
                  </a:lnTo>
                  <a:lnTo>
                    <a:pt x="7950" y="6210"/>
                  </a:lnTo>
                  <a:lnTo>
                    <a:pt x="8010" y="6840"/>
                  </a:lnTo>
                  <a:lnTo>
                    <a:pt x="7950" y="7470"/>
                  </a:lnTo>
                  <a:lnTo>
                    <a:pt x="7860" y="8070"/>
                  </a:lnTo>
                  <a:lnTo>
                    <a:pt x="7410" y="8010"/>
                  </a:lnTo>
                  <a:lnTo>
                    <a:pt x="7050" y="7920"/>
                  </a:lnTo>
                  <a:lnTo>
                    <a:pt x="6690" y="7770"/>
                  </a:lnTo>
                  <a:lnTo>
                    <a:pt x="6390" y="7590"/>
                  </a:lnTo>
                  <a:lnTo>
                    <a:pt x="6090" y="7350"/>
                  </a:lnTo>
                  <a:lnTo>
                    <a:pt x="5790" y="7050"/>
                  </a:lnTo>
                  <a:lnTo>
                    <a:pt x="5489" y="6780"/>
                  </a:lnTo>
                  <a:lnTo>
                    <a:pt x="5220" y="6420"/>
                  </a:lnTo>
                  <a:lnTo>
                    <a:pt x="5070" y="6750"/>
                  </a:lnTo>
                  <a:lnTo>
                    <a:pt x="4920" y="7020"/>
                  </a:lnTo>
                  <a:lnTo>
                    <a:pt x="4740" y="7260"/>
                  </a:lnTo>
                  <a:lnTo>
                    <a:pt x="4560" y="7560"/>
                  </a:lnTo>
                  <a:lnTo>
                    <a:pt x="4200" y="7890"/>
                  </a:lnTo>
                  <a:lnTo>
                    <a:pt x="3750" y="8220"/>
                  </a:lnTo>
                  <a:lnTo>
                    <a:pt x="3240" y="8460"/>
                  </a:lnTo>
                  <a:lnTo>
                    <a:pt x="2670" y="8610"/>
                  </a:lnTo>
                  <a:lnTo>
                    <a:pt x="2460" y="8130"/>
                  </a:lnTo>
                  <a:lnTo>
                    <a:pt x="2371" y="7620"/>
                  </a:lnTo>
                  <a:lnTo>
                    <a:pt x="2399" y="7110"/>
                  </a:lnTo>
                  <a:lnTo>
                    <a:pt x="2460" y="6660"/>
                  </a:lnTo>
                  <a:lnTo>
                    <a:pt x="2550" y="6300"/>
                  </a:lnTo>
                  <a:lnTo>
                    <a:pt x="2640" y="6000"/>
                  </a:lnTo>
                  <a:lnTo>
                    <a:pt x="2790" y="5700"/>
                  </a:lnTo>
                  <a:lnTo>
                    <a:pt x="3030" y="5340"/>
                  </a:lnTo>
                  <a:lnTo>
                    <a:pt x="2700" y="5280"/>
                  </a:lnTo>
                  <a:lnTo>
                    <a:pt x="2371" y="5310"/>
                  </a:lnTo>
                  <a:lnTo>
                    <a:pt x="2070" y="5340"/>
                  </a:lnTo>
                  <a:lnTo>
                    <a:pt x="1710" y="5310"/>
                  </a:lnTo>
                  <a:lnTo>
                    <a:pt x="1290" y="5219"/>
                  </a:lnTo>
                  <a:lnTo>
                    <a:pt x="840" y="5040"/>
                  </a:lnTo>
                  <a:lnTo>
                    <a:pt x="360" y="4830"/>
                  </a:lnTo>
                  <a:lnTo>
                    <a:pt x="0" y="4530"/>
                  </a:lnTo>
                </a:path>
              </a:pathLst>
            </a:custGeom>
            <a:solidFill>
              <a:srgbClr val="ff9900"/>
            </a:solidFill>
            <a:ln w="0">
              <a:noFill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156"/>
            <p:cNvSpPr/>
            <p:nvPr/>
          </p:nvSpPr>
          <p:spPr>
            <a:xfrm rot="18555600">
              <a:off x="5194080" y="5324400"/>
              <a:ext cx="184320" cy="1364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Text Box 157"/>
          <p:cNvSpPr/>
          <p:nvPr/>
        </p:nvSpPr>
        <p:spPr>
          <a:xfrm>
            <a:off x="1690560" y="2349360"/>
            <a:ext cx="56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0066"/>
                </a:solidFill>
                <a:latin typeface="바탕"/>
                <a:cs typeface="Monotype Koufi"/>
              </a:rPr>
              <a:t>مقدمة في البرمج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135 -0.07883 C 0.04618 -0.09135 0.071 -0.10364 0.09583 -0.1317 C 0.12066 -0.15975 0.15503 -0.20473 0.17013 -0.2467 C 0.18524 -0.28866 0.18871 -0.33573 0.18645 -0.38326 C 0.1842 -0.43079 0.17448 -0.49618 0.15625 -0.53234 C 0.13802 -0.56851 0.10503 -0.59193 0.07708 -0.60074 C 0.04913 -0.60955 0.01388 -0.6019 -0.01129 -0.58521 C -0.03646 -0.56851 -0.05764 -0.50035 -0.07396 -0.50128 C -0.09028 -0.5022 -0.08681 -0.56759 -0.10886 -0.59147 C -0.13091 -0.61535 -0.17639 -0.64456 -0.2066 -0.6441 C -0.23681 -0.64364 -0.26632 -0.61767 -0.29028 -0.58822 C -0.31424 -0.55878 -0.33941 -0.51055 -0.3507 -0.46719 C -0.36198 -0.42384 -0.3599 -0.36402 -0.35764 -0.32738 C -0.35539 -0.29075 -0.34879 -0.27313 -0.33681 -0.2467 C -0.32483 -0.22027 -0.3 -0.18827 -0.28559 -0.16902 C -0.27118 -0.14978 -0.25851 -0.14422 -0.2507 -0.1317 C -0.24289 -0.11918 -0.24566 -0.10781 -0.23907 -0.09437 C -0.23247 -0.08092 -0.21667 -0.06075 -0.21129 -0.05101 E">
                                      <p:cBhvr>
                                        <p:cTn id="6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Rectangle 4" descr=""/>
          <p:cNvPicPr/>
          <p:nvPr/>
        </p:nvPicPr>
        <p:blipFill>
          <a:blip r:embed="rId1"/>
          <a:stretch/>
        </p:blipFill>
        <p:spPr>
          <a:xfrm>
            <a:off x="658800" y="1620720"/>
            <a:ext cx="7753320" cy="104940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44"/>
          <p:cNvGrpSpPr/>
          <p:nvPr/>
        </p:nvGrpSpPr>
        <p:grpSpPr>
          <a:xfrm>
            <a:off x="826920" y="260280"/>
            <a:ext cx="1181160" cy="1181160"/>
            <a:chOff x="826920" y="260280"/>
            <a:chExt cx="1181160" cy="1181160"/>
          </a:xfrm>
        </p:grpSpPr>
        <p:sp>
          <p:nvSpPr>
            <p:cNvPr id="293" name="Freeform 45"/>
            <p:cNvSpPr/>
            <p:nvPr/>
          </p:nvSpPr>
          <p:spPr>
            <a:xfrm>
              <a:off x="1503000" y="1079640"/>
              <a:ext cx="181080" cy="33336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14" h="210">
                  <a:moveTo>
                    <a:pt x="6" y="0"/>
                  </a:moveTo>
                  <a:lnTo>
                    <a:pt x="18" y="0"/>
                  </a:lnTo>
                  <a:lnTo>
                    <a:pt x="24" y="6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2" y="18"/>
                  </a:lnTo>
                  <a:lnTo>
                    <a:pt x="48" y="24"/>
                  </a:lnTo>
                  <a:lnTo>
                    <a:pt x="60" y="24"/>
                  </a:lnTo>
                  <a:lnTo>
                    <a:pt x="66" y="30"/>
                  </a:lnTo>
                  <a:lnTo>
                    <a:pt x="72" y="54"/>
                  </a:lnTo>
                  <a:lnTo>
                    <a:pt x="78" y="72"/>
                  </a:lnTo>
                  <a:lnTo>
                    <a:pt x="84" y="96"/>
                  </a:lnTo>
                  <a:lnTo>
                    <a:pt x="90" y="120"/>
                  </a:lnTo>
                  <a:lnTo>
                    <a:pt x="96" y="144"/>
                  </a:lnTo>
                  <a:lnTo>
                    <a:pt x="102" y="168"/>
                  </a:lnTo>
                  <a:lnTo>
                    <a:pt x="108" y="186"/>
                  </a:lnTo>
                  <a:lnTo>
                    <a:pt x="114" y="210"/>
                  </a:lnTo>
                  <a:lnTo>
                    <a:pt x="96" y="198"/>
                  </a:lnTo>
                  <a:lnTo>
                    <a:pt x="84" y="180"/>
                  </a:lnTo>
                  <a:lnTo>
                    <a:pt x="72" y="162"/>
                  </a:lnTo>
                  <a:lnTo>
                    <a:pt x="60" y="144"/>
                  </a:lnTo>
                  <a:lnTo>
                    <a:pt x="42" y="132"/>
                  </a:lnTo>
                  <a:lnTo>
                    <a:pt x="30" y="114"/>
                  </a:lnTo>
                  <a:lnTo>
                    <a:pt x="18" y="96"/>
                  </a:lnTo>
                  <a:lnTo>
                    <a:pt x="0" y="78"/>
                  </a:lnTo>
                  <a:lnTo>
                    <a:pt x="6" y="60"/>
                  </a:lnTo>
                  <a:lnTo>
                    <a:pt x="6" y="36"/>
                  </a:lnTo>
                  <a:lnTo>
                    <a:pt x="6" y="1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46"/>
            <p:cNvSpPr/>
            <p:nvPr/>
          </p:nvSpPr>
          <p:spPr>
            <a:xfrm>
              <a:off x="1617480" y="574920"/>
              <a:ext cx="352440" cy="18072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22" h="114">
                  <a:moveTo>
                    <a:pt x="0" y="108"/>
                  </a:moveTo>
                  <a:lnTo>
                    <a:pt x="6" y="102"/>
                  </a:lnTo>
                  <a:lnTo>
                    <a:pt x="12" y="96"/>
                  </a:lnTo>
                  <a:lnTo>
                    <a:pt x="12" y="84"/>
                  </a:lnTo>
                  <a:lnTo>
                    <a:pt x="18" y="78"/>
                  </a:lnTo>
                  <a:lnTo>
                    <a:pt x="24" y="72"/>
                  </a:lnTo>
                  <a:lnTo>
                    <a:pt x="30" y="66"/>
                  </a:lnTo>
                  <a:lnTo>
                    <a:pt x="30" y="54"/>
                  </a:lnTo>
                  <a:lnTo>
                    <a:pt x="36" y="48"/>
                  </a:lnTo>
                  <a:lnTo>
                    <a:pt x="48" y="48"/>
                  </a:lnTo>
                  <a:lnTo>
                    <a:pt x="60" y="42"/>
                  </a:lnTo>
                  <a:lnTo>
                    <a:pt x="72" y="42"/>
                  </a:lnTo>
                  <a:lnTo>
                    <a:pt x="84" y="36"/>
                  </a:lnTo>
                  <a:lnTo>
                    <a:pt x="96" y="36"/>
                  </a:lnTo>
                  <a:lnTo>
                    <a:pt x="108" y="30"/>
                  </a:lnTo>
                  <a:lnTo>
                    <a:pt x="120" y="30"/>
                  </a:lnTo>
                  <a:lnTo>
                    <a:pt x="132" y="24"/>
                  </a:lnTo>
                  <a:lnTo>
                    <a:pt x="144" y="24"/>
                  </a:lnTo>
                  <a:lnTo>
                    <a:pt x="150" y="18"/>
                  </a:lnTo>
                  <a:lnTo>
                    <a:pt x="168" y="18"/>
                  </a:lnTo>
                  <a:lnTo>
                    <a:pt x="174" y="12"/>
                  </a:lnTo>
                  <a:lnTo>
                    <a:pt x="186" y="12"/>
                  </a:lnTo>
                  <a:lnTo>
                    <a:pt x="198" y="6"/>
                  </a:lnTo>
                  <a:lnTo>
                    <a:pt x="210" y="6"/>
                  </a:lnTo>
                  <a:lnTo>
                    <a:pt x="222" y="0"/>
                  </a:lnTo>
                  <a:lnTo>
                    <a:pt x="216" y="12"/>
                  </a:lnTo>
                  <a:lnTo>
                    <a:pt x="204" y="18"/>
                  </a:lnTo>
                  <a:lnTo>
                    <a:pt x="198" y="24"/>
                  </a:lnTo>
                  <a:lnTo>
                    <a:pt x="192" y="30"/>
                  </a:lnTo>
                  <a:lnTo>
                    <a:pt x="180" y="36"/>
                  </a:lnTo>
                  <a:lnTo>
                    <a:pt x="174" y="42"/>
                  </a:lnTo>
                  <a:lnTo>
                    <a:pt x="162" y="54"/>
                  </a:lnTo>
                  <a:lnTo>
                    <a:pt x="156" y="60"/>
                  </a:lnTo>
                  <a:lnTo>
                    <a:pt x="144" y="66"/>
                  </a:lnTo>
                  <a:lnTo>
                    <a:pt x="138" y="72"/>
                  </a:lnTo>
                  <a:lnTo>
                    <a:pt x="132" y="78"/>
                  </a:lnTo>
                  <a:lnTo>
                    <a:pt x="120" y="84"/>
                  </a:lnTo>
                  <a:lnTo>
                    <a:pt x="114" y="96"/>
                  </a:lnTo>
                  <a:lnTo>
                    <a:pt x="102" y="102"/>
                  </a:lnTo>
                  <a:lnTo>
                    <a:pt x="96" y="108"/>
                  </a:lnTo>
                  <a:lnTo>
                    <a:pt x="84" y="114"/>
                  </a:lnTo>
                  <a:lnTo>
                    <a:pt x="72" y="114"/>
                  </a:lnTo>
                  <a:lnTo>
                    <a:pt x="66" y="114"/>
                  </a:lnTo>
                  <a:lnTo>
                    <a:pt x="54" y="114"/>
                  </a:lnTo>
                  <a:lnTo>
                    <a:pt x="42" y="114"/>
                  </a:lnTo>
                  <a:lnTo>
                    <a:pt x="30" y="108"/>
                  </a:lnTo>
                  <a:lnTo>
                    <a:pt x="24" y="108"/>
                  </a:lnTo>
                  <a:lnTo>
                    <a:pt x="12" y="108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47"/>
            <p:cNvSpPr/>
            <p:nvPr/>
          </p:nvSpPr>
          <p:spPr>
            <a:xfrm>
              <a:off x="1131840" y="298440"/>
              <a:ext cx="171360" cy="3524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108" h="222">
                  <a:moveTo>
                    <a:pt x="102" y="222"/>
                  </a:moveTo>
                  <a:lnTo>
                    <a:pt x="96" y="216"/>
                  </a:lnTo>
                  <a:lnTo>
                    <a:pt x="84" y="210"/>
                  </a:lnTo>
                  <a:lnTo>
                    <a:pt x="78" y="204"/>
                  </a:lnTo>
                  <a:lnTo>
                    <a:pt x="72" y="204"/>
                  </a:lnTo>
                  <a:lnTo>
                    <a:pt x="66" y="198"/>
                  </a:lnTo>
                  <a:lnTo>
                    <a:pt x="60" y="192"/>
                  </a:lnTo>
                  <a:lnTo>
                    <a:pt x="54" y="192"/>
                  </a:lnTo>
                  <a:lnTo>
                    <a:pt x="48" y="186"/>
                  </a:lnTo>
                  <a:lnTo>
                    <a:pt x="42" y="162"/>
                  </a:lnTo>
                  <a:lnTo>
                    <a:pt x="36" y="138"/>
                  </a:lnTo>
                  <a:lnTo>
                    <a:pt x="30" y="114"/>
                  </a:lnTo>
                  <a:lnTo>
                    <a:pt x="24" y="90"/>
                  </a:lnTo>
                  <a:lnTo>
                    <a:pt x="18" y="72"/>
                  </a:lnTo>
                  <a:lnTo>
                    <a:pt x="12" y="48"/>
                  </a:lnTo>
                  <a:lnTo>
                    <a:pt x="6" y="24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4" y="30"/>
                  </a:lnTo>
                  <a:lnTo>
                    <a:pt x="42" y="48"/>
                  </a:lnTo>
                  <a:lnTo>
                    <a:pt x="54" y="66"/>
                  </a:lnTo>
                  <a:lnTo>
                    <a:pt x="66" y="84"/>
                  </a:lnTo>
                  <a:lnTo>
                    <a:pt x="78" y="96"/>
                  </a:lnTo>
                  <a:lnTo>
                    <a:pt x="96" y="114"/>
                  </a:lnTo>
                  <a:lnTo>
                    <a:pt x="108" y="132"/>
                  </a:lnTo>
                  <a:lnTo>
                    <a:pt x="102" y="156"/>
                  </a:lnTo>
                  <a:lnTo>
                    <a:pt x="102" y="174"/>
                  </a:lnTo>
                  <a:lnTo>
                    <a:pt x="102" y="198"/>
                  </a:lnTo>
                  <a:lnTo>
                    <a:pt x="102" y="222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48"/>
            <p:cNvSpPr/>
            <p:nvPr/>
          </p:nvSpPr>
          <p:spPr>
            <a:xfrm>
              <a:off x="855360" y="965160"/>
              <a:ext cx="333360" cy="16200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210" h="102">
                  <a:moveTo>
                    <a:pt x="210" y="6"/>
                  </a:moveTo>
                  <a:lnTo>
                    <a:pt x="204" y="12"/>
                  </a:lnTo>
                  <a:lnTo>
                    <a:pt x="204" y="18"/>
                  </a:lnTo>
                  <a:lnTo>
                    <a:pt x="198" y="24"/>
                  </a:lnTo>
                  <a:lnTo>
                    <a:pt x="198" y="30"/>
                  </a:lnTo>
                  <a:lnTo>
                    <a:pt x="192" y="36"/>
                  </a:lnTo>
                  <a:lnTo>
                    <a:pt x="186" y="42"/>
                  </a:lnTo>
                  <a:lnTo>
                    <a:pt x="186" y="48"/>
                  </a:lnTo>
                  <a:lnTo>
                    <a:pt x="180" y="54"/>
                  </a:lnTo>
                  <a:lnTo>
                    <a:pt x="168" y="60"/>
                  </a:lnTo>
                  <a:lnTo>
                    <a:pt x="162" y="60"/>
                  </a:lnTo>
                  <a:lnTo>
                    <a:pt x="150" y="66"/>
                  </a:lnTo>
                  <a:lnTo>
                    <a:pt x="138" y="66"/>
                  </a:lnTo>
                  <a:lnTo>
                    <a:pt x="126" y="72"/>
                  </a:lnTo>
                  <a:lnTo>
                    <a:pt x="114" y="72"/>
                  </a:lnTo>
                  <a:lnTo>
                    <a:pt x="102" y="78"/>
                  </a:lnTo>
                  <a:lnTo>
                    <a:pt x="90" y="78"/>
                  </a:lnTo>
                  <a:lnTo>
                    <a:pt x="78" y="84"/>
                  </a:lnTo>
                  <a:lnTo>
                    <a:pt x="66" y="84"/>
                  </a:lnTo>
                  <a:lnTo>
                    <a:pt x="60" y="90"/>
                  </a:lnTo>
                  <a:lnTo>
                    <a:pt x="48" y="90"/>
                  </a:lnTo>
                  <a:lnTo>
                    <a:pt x="36" y="96"/>
                  </a:lnTo>
                  <a:lnTo>
                    <a:pt x="24" y="96"/>
                  </a:lnTo>
                  <a:lnTo>
                    <a:pt x="12" y="96"/>
                  </a:lnTo>
                  <a:lnTo>
                    <a:pt x="0" y="102"/>
                  </a:lnTo>
                  <a:lnTo>
                    <a:pt x="6" y="96"/>
                  </a:lnTo>
                  <a:lnTo>
                    <a:pt x="18" y="90"/>
                  </a:lnTo>
                  <a:lnTo>
                    <a:pt x="24" y="84"/>
                  </a:lnTo>
                  <a:lnTo>
                    <a:pt x="30" y="78"/>
                  </a:lnTo>
                  <a:lnTo>
                    <a:pt x="42" y="72"/>
                  </a:lnTo>
                  <a:lnTo>
                    <a:pt x="48" y="60"/>
                  </a:lnTo>
                  <a:lnTo>
                    <a:pt x="54" y="54"/>
                  </a:lnTo>
                  <a:lnTo>
                    <a:pt x="66" y="48"/>
                  </a:lnTo>
                  <a:lnTo>
                    <a:pt x="72" y="42"/>
                  </a:lnTo>
                  <a:lnTo>
                    <a:pt x="78" y="36"/>
                  </a:lnTo>
                  <a:lnTo>
                    <a:pt x="90" y="30"/>
                  </a:lnTo>
                  <a:lnTo>
                    <a:pt x="96" y="24"/>
                  </a:lnTo>
                  <a:lnTo>
                    <a:pt x="102" y="18"/>
                  </a:lnTo>
                  <a:lnTo>
                    <a:pt x="114" y="12"/>
                  </a:lnTo>
                  <a:lnTo>
                    <a:pt x="120" y="6"/>
                  </a:lnTo>
                  <a:lnTo>
                    <a:pt x="126" y="0"/>
                  </a:lnTo>
                  <a:lnTo>
                    <a:pt x="138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8" y="0"/>
                  </a:lnTo>
                  <a:lnTo>
                    <a:pt x="180" y="0"/>
                  </a:lnTo>
                  <a:lnTo>
                    <a:pt x="192" y="6"/>
                  </a:lnTo>
                  <a:lnTo>
                    <a:pt x="198" y="6"/>
                  </a:lnTo>
                  <a:lnTo>
                    <a:pt x="210" y="6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49"/>
            <p:cNvSpPr/>
            <p:nvPr/>
          </p:nvSpPr>
          <p:spPr>
            <a:xfrm>
              <a:off x="1417320" y="974880"/>
              <a:ext cx="57240" cy="19044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36" h="120">
                  <a:moveTo>
                    <a:pt x="12" y="0"/>
                  </a:moveTo>
                  <a:lnTo>
                    <a:pt x="12" y="0"/>
                  </a:lnTo>
                  <a:lnTo>
                    <a:pt x="18" y="6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36" y="24"/>
                  </a:lnTo>
                  <a:lnTo>
                    <a:pt x="36" y="48"/>
                  </a:lnTo>
                  <a:lnTo>
                    <a:pt x="36" y="72"/>
                  </a:lnTo>
                  <a:lnTo>
                    <a:pt x="36" y="96"/>
                  </a:lnTo>
                  <a:lnTo>
                    <a:pt x="36" y="120"/>
                  </a:lnTo>
                  <a:lnTo>
                    <a:pt x="30" y="108"/>
                  </a:lnTo>
                  <a:lnTo>
                    <a:pt x="24" y="96"/>
                  </a:lnTo>
                  <a:lnTo>
                    <a:pt x="18" y="90"/>
                  </a:lnTo>
                  <a:lnTo>
                    <a:pt x="18" y="78"/>
                  </a:lnTo>
                  <a:lnTo>
                    <a:pt x="12" y="66"/>
                  </a:lnTo>
                  <a:lnTo>
                    <a:pt x="6" y="60"/>
                  </a:lnTo>
                  <a:lnTo>
                    <a:pt x="0" y="48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50"/>
            <p:cNvSpPr/>
            <p:nvPr/>
          </p:nvSpPr>
          <p:spPr>
            <a:xfrm>
              <a:off x="1531800" y="784440"/>
              <a:ext cx="190440" cy="666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120" h="42">
                  <a:moveTo>
                    <a:pt x="0" y="24"/>
                  </a:moveTo>
                  <a:lnTo>
                    <a:pt x="0" y="24"/>
                  </a:lnTo>
                  <a:lnTo>
                    <a:pt x="6" y="18"/>
                  </a:lnTo>
                  <a:lnTo>
                    <a:pt x="12" y="12"/>
                  </a:lnTo>
                  <a:lnTo>
                    <a:pt x="18" y="6"/>
                  </a:lnTo>
                  <a:lnTo>
                    <a:pt x="24" y="0"/>
                  </a:lnTo>
                  <a:lnTo>
                    <a:pt x="36" y="0"/>
                  </a:lnTo>
                  <a:lnTo>
                    <a:pt x="48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84" y="6"/>
                  </a:lnTo>
                  <a:lnTo>
                    <a:pt x="96" y="6"/>
                  </a:lnTo>
                  <a:lnTo>
                    <a:pt x="108" y="6"/>
                  </a:lnTo>
                  <a:lnTo>
                    <a:pt x="120" y="6"/>
                  </a:lnTo>
                  <a:lnTo>
                    <a:pt x="114" y="6"/>
                  </a:lnTo>
                  <a:lnTo>
                    <a:pt x="102" y="12"/>
                  </a:lnTo>
                  <a:lnTo>
                    <a:pt x="90" y="18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60" y="30"/>
                  </a:lnTo>
                  <a:lnTo>
                    <a:pt x="48" y="36"/>
                  </a:lnTo>
                  <a:lnTo>
                    <a:pt x="36" y="42"/>
                  </a:lnTo>
                  <a:lnTo>
                    <a:pt x="36" y="36"/>
                  </a:lnTo>
                  <a:lnTo>
                    <a:pt x="30" y="36"/>
                  </a:lnTo>
                  <a:lnTo>
                    <a:pt x="24" y="36"/>
                  </a:lnTo>
                  <a:lnTo>
                    <a:pt x="18" y="36"/>
                  </a:lnTo>
                  <a:lnTo>
                    <a:pt x="12" y="30"/>
                  </a:lnTo>
                  <a:lnTo>
                    <a:pt x="6" y="3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51"/>
            <p:cNvSpPr/>
            <p:nvPr/>
          </p:nvSpPr>
          <p:spPr>
            <a:xfrm>
              <a:off x="1350720" y="546120"/>
              <a:ext cx="57240" cy="19044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36" h="120">
                  <a:moveTo>
                    <a:pt x="18" y="120"/>
                  </a:moveTo>
                  <a:lnTo>
                    <a:pt x="18" y="114"/>
                  </a:lnTo>
                  <a:lnTo>
                    <a:pt x="12" y="114"/>
                  </a:lnTo>
                  <a:lnTo>
                    <a:pt x="12" y="108"/>
                  </a:lnTo>
                  <a:lnTo>
                    <a:pt x="6" y="108"/>
                  </a:lnTo>
                  <a:lnTo>
                    <a:pt x="6" y="102"/>
                  </a:lnTo>
                  <a:lnTo>
                    <a:pt x="0" y="96"/>
                  </a:lnTo>
                  <a:lnTo>
                    <a:pt x="0" y="72"/>
                  </a:lnTo>
                  <a:lnTo>
                    <a:pt x="0" y="48"/>
                  </a:lnTo>
                  <a:lnTo>
                    <a:pt x="0" y="24"/>
                  </a:lnTo>
                  <a:lnTo>
                    <a:pt x="0" y="0"/>
                  </a:lnTo>
                  <a:lnTo>
                    <a:pt x="6" y="6"/>
                  </a:lnTo>
                  <a:lnTo>
                    <a:pt x="6" y="18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24" y="48"/>
                  </a:lnTo>
                  <a:lnTo>
                    <a:pt x="24" y="54"/>
                  </a:lnTo>
                  <a:lnTo>
                    <a:pt x="30" y="66"/>
                  </a:lnTo>
                  <a:lnTo>
                    <a:pt x="36" y="78"/>
                  </a:lnTo>
                  <a:lnTo>
                    <a:pt x="30" y="84"/>
                  </a:lnTo>
                  <a:lnTo>
                    <a:pt x="24" y="96"/>
                  </a:lnTo>
                  <a:lnTo>
                    <a:pt x="24" y="108"/>
                  </a:lnTo>
                  <a:lnTo>
                    <a:pt x="18" y="12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52"/>
            <p:cNvSpPr/>
            <p:nvPr/>
          </p:nvSpPr>
          <p:spPr>
            <a:xfrm>
              <a:off x="1103040" y="860400"/>
              <a:ext cx="190440" cy="572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120" h="36">
                  <a:moveTo>
                    <a:pt x="120" y="12"/>
                  </a:moveTo>
                  <a:lnTo>
                    <a:pt x="114" y="18"/>
                  </a:lnTo>
                  <a:lnTo>
                    <a:pt x="108" y="24"/>
                  </a:lnTo>
                  <a:lnTo>
                    <a:pt x="102" y="30"/>
                  </a:lnTo>
                  <a:lnTo>
                    <a:pt x="96" y="36"/>
                  </a:lnTo>
                  <a:lnTo>
                    <a:pt x="84" y="36"/>
                  </a:lnTo>
                  <a:lnTo>
                    <a:pt x="72" y="36"/>
                  </a:lnTo>
                  <a:lnTo>
                    <a:pt x="60" y="36"/>
                  </a:lnTo>
                  <a:lnTo>
                    <a:pt x="48" y="30"/>
                  </a:lnTo>
                  <a:lnTo>
                    <a:pt x="36" y="30"/>
                  </a:lnTo>
                  <a:lnTo>
                    <a:pt x="24" y="30"/>
                  </a:lnTo>
                  <a:lnTo>
                    <a:pt x="12" y="30"/>
                  </a:lnTo>
                  <a:lnTo>
                    <a:pt x="0" y="30"/>
                  </a:lnTo>
                  <a:lnTo>
                    <a:pt x="12" y="30"/>
                  </a:lnTo>
                  <a:lnTo>
                    <a:pt x="24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60" y="6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0" y="6"/>
                  </a:lnTo>
                  <a:lnTo>
                    <a:pt x="96" y="6"/>
                  </a:lnTo>
                  <a:lnTo>
                    <a:pt x="102" y="6"/>
                  </a:lnTo>
                  <a:lnTo>
                    <a:pt x="108" y="6"/>
                  </a:lnTo>
                  <a:lnTo>
                    <a:pt x="114" y="12"/>
                  </a:lnTo>
                  <a:lnTo>
                    <a:pt x="120" y="12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53"/>
            <p:cNvSpPr/>
            <p:nvPr/>
          </p:nvSpPr>
          <p:spPr>
            <a:xfrm>
              <a:off x="1207800" y="1089000"/>
              <a:ext cx="152640" cy="35244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96" h="222">
                  <a:moveTo>
                    <a:pt x="78" y="0"/>
                  </a:moveTo>
                  <a:lnTo>
                    <a:pt x="84" y="12"/>
                  </a:lnTo>
                  <a:lnTo>
                    <a:pt x="90" y="30"/>
                  </a:lnTo>
                  <a:lnTo>
                    <a:pt x="90" y="42"/>
                  </a:lnTo>
                  <a:lnTo>
                    <a:pt x="96" y="60"/>
                  </a:lnTo>
                  <a:lnTo>
                    <a:pt x="84" y="78"/>
                  </a:lnTo>
                  <a:lnTo>
                    <a:pt x="72" y="96"/>
                  </a:lnTo>
                  <a:lnTo>
                    <a:pt x="60" y="120"/>
                  </a:lnTo>
                  <a:lnTo>
                    <a:pt x="48" y="138"/>
                  </a:lnTo>
                  <a:lnTo>
                    <a:pt x="36" y="162"/>
                  </a:lnTo>
                  <a:lnTo>
                    <a:pt x="24" y="180"/>
                  </a:lnTo>
                  <a:lnTo>
                    <a:pt x="12" y="204"/>
                  </a:lnTo>
                  <a:lnTo>
                    <a:pt x="0" y="222"/>
                  </a:lnTo>
                  <a:lnTo>
                    <a:pt x="6" y="180"/>
                  </a:lnTo>
                  <a:lnTo>
                    <a:pt x="6" y="138"/>
                  </a:lnTo>
                  <a:lnTo>
                    <a:pt x="12" y="90"/>
                  </a:lnTo>
                  <a:lnTo>
                    <a:pt x="18" y="48"/>
                  </a:lnTo>
                  <a:lnTo>
                    <a:pt x="24" y="42"/>
                  </a:lnTo>
                  <a:lnTo>
                    <a:pt x="30" y="36"/>
                  </a:lnTo>
                  <a:lnTo>
                    <a:pt x="42" y="30"/>
                  </a:lnTo>
                  <a:lnTo>
                    <a:pt x="48" y="24"/>
                  </a:lnTo>
                  <a:lnTo>
                    <a:pt x="54" y="18"/>
                  </a:lnTo>
                  <a:lnTo>
                    <a:pt x="60" y="12"/>
                  </a:lnTo>
                  <a:lnTo>
                    <a:pt x="72" y="6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54"/>
            <p:cNvSpPr/>
            <p:nvPr/>
          </p:nvSpPr>
          <p:spPr>
            <a:xfrm>
              <a:off x="1636560" y="898560"/>
              <a:ext cx="371520" cy="15264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234" h="96">
                  <a:moveTo>
                    <a:pt x="0" y="18"/>
                  </a:moveTo>
                  <a:lnTo>
                    <a:pt x="12" y="12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8" y="6"/>
                  </a:lnTo>
                  <a:lnTo>
                    <a:pt x="90" y="12"/>
                  </a:lnTo>
                  <a:lnTo>
                    <a:pt x="102" y="18"/>
                  </a:lnTo>
                  <a:lnTo>
                    <a:pt x="108" y="24"/>
                  </a:lnTo>
                  <a:lnTo>
                    <a:pt x="120" y="30"/>
                  </a:lnTo>
                  <a:lnTo>
                    <a:pt x="132" y="36"/>
                  </a:lnTo>
                  <a:lnTo>
                    <a:pt x="138" y="42"/>
                  </a:lnTo>
                  <a:lnTo>
                    <a:pt x="150" y="48"/>
                  </a:lnTo>
                  <a:lnTo>
                    <a:pt x="162" y="54"/>
                  </a:lnTo>
                  <a:lnTo>
                    <a:pt x="174" y="60"/>
                  </a:lnTo>
                  <a:lnTo>
                    <a:pt x="180" y="66"/>
                  </a:lnTo>
                  <a:lnTo>
                    <a:pt x="192" y="72"/>
                  </a:lnTo>
                  <a:lnTo>
                    <a:pt x="204" y="78"/>
                  </a:lnTo>
                  <a:lnTo>
                    <a:pt x="216" y="84"/>
                  </a:lnTo>
                  <a:lnTo>
                    <a:pt x="222" y="90"/>
                  </a:lnTo>
                  <a:lnTo>
                    <a:pt x="234" y="96"/>
                  </a:lnTo>
                  <a:lnTo>
                    <a:pt x="222" y="96"/>
                  </a:lnTo>
                  <a:lnTo>
                    <a:pt x="210" y="96"/>
                  </a:lnTo>
                  <a:lnTo>
                    <a:pt x="198" y="96"/>
                  </a:lnTo>
                  <a:lnTo>
                    <a:pt x="192" y="96"/>
                  </a:lnTo>
                  <a:lnTo>
                    <a:pt x="180" y="90"/>
                  </a:lnTo>
                  <a:lnTo>
                    <a:pt x="168" y="90"/>
                  </a:lnTo>
                  <a:lnTo>
                    <a:pt x="156" y="90"/>
                  </a:lnTo>
                  <a:lnTo>
                    <a:pt x="144" y="90"/>
                  </a:lnTo>
                  <a:lnTo>
                    <a:pt x="132" y="90"/>
                  </a:lnTo>
                  <a:lnTo>
                    <a:pt x="126" y="84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90" y="84"/>
                  </a:lnTo>
                  <a:lnTo>
                    <a:pt x="78" y="84"/>
                  </a:lnTo>
                  <a:lnTo>
                    <a:pt x="66" y="84"/>
                  </a:lnTo>
                  <a:lnTo>
                    <a:pt x="54" y="78"/>
                  </a:lnTo>
                  <a:lnTo>
                    <a:pt x="48" y="72"/>
                  </a:lnTo>
                  <a:lnTo>
                    <a:pt x="42" y="66"/>
                  </a:lnTo>
                  <a:lnTo>
                    <a:pt x="36" y="54"/>
                  </a:lnTo>
                  <a:lnTo>
                    <a:pt x="30" y="48"/>
                  </a:lnTo>
                  <a:lnTo>
                    <a:pt x="24" y="42"/>
                  </a:lnTo>
                  <a:lnTo>
                    <a:pt x="12" y="30"/>
                  </a:lnTo>
                  <a:lnTo>
                    <a:pt x="6" y="24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55"/>
            <p:cNvSpPr/>
            <p:nvPr/>
          </p:nvSpPr>
          <p:spPr>
            <a:xfrm>
              <a:off x="1455480" y="260280"/>
              <a:ext cx="152280" cy="3621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362160"/>
                <a:gd name="textAreaBottom" fmla="*/ 362520 h 362160"/>
              </a:gdLst>
              <a:ahLst/>
              <a:rect l="textAreaLeft" t="textAreaTop" r="textAreaRight" b="textAreaBottom"/>
              <a:pathLst>
                <a:path w="96" h="228">
                  <a:moveTo>
                    <a:pt x="12" y="228"/>
                  </a:moveTo>
                  <a:lnTo>
                    <a:pt x="12" y="210"/>
                  </a:lnTo>
                  <a:lnTo>
                    <a:pt x="6" y="198"/>
                  </a:lnTo>
                  <a:lnTo>
                    <a:pt x="6" y="180"/>
                  </a:lnTo>
                  <a:lnTo>
                    <a:pt x="0" y="162"/>
                  </a:lnTo>
                  <a:lnTo>
                    <a:pt x="12" y="144"/>
                  </a:lnTo>
                  <a:lnTo>
                    <a:pt x="24" y="126"/>
                  </a:lnTo>
                  <a:lnTo>
                    <a:pt x="36" y="102"/>
                  </a:lnTo>
                  <a:lnTo>
                    <a:pt x="48" y="84"/>
                  </a:lnTo>
                  <a:lnTo>
                    <a:pt x="60" y="60"/>
                  </a:lnTo>
                  <a:lnTo>
                    <a:pt x="72" y="42"/>
                  </a:lnTo>
                  <a:lnTo>
                    <a:pt x="84" y="18"/>
                  </a:lnTo>
                  <a:lnTo>
                    <a:pt x="96" y="0"/>
                  </a:lnTo>
                  <a:lnTo>
                    <a:pt x="96" y="42"/>
                  </a:lnTo>
                  <a:lnTo>
                    <a:pt x="90" y="84"/>
                  </a:lnTo>
                  <a:lnTo>
                    <a:pt x="84" y="126"/>
                  </a:lnTo>
                  <a:lnTo>
                    <a:pt x="78" y="168"/>
                  </a:lnTo>
                  <a:lnTo>
                    <a:pt x="72" y="180"/>
                  </a:lnTo>
                  <a:lnTo>
                    <a:pt x="66" y="186"/>
                  </a:lnTo>
                  <a:lnTo>
                    <a:pt x="54" y="192"/>
                  </a:lnTo>
                  <a:lnTo>
                    <a:pt x="48" y="198"/>
                  </a:lnTo>
                  <a:lnTo>
                    <a:pt x="36" y="204"/>
                  </a:lnTo>
                  <a:lnTo>
                    <a:pt x="30" y="210"/>
                  </a:lnTo>
                  <a:lnTo>
                    <a:pt x="24" y="222"/>
                  </a:lnTo>
                  <a:lnTo>
                    <a:pt x="12" y="228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56"/>
            <p:cNvSpPr/>
            <p:nvPr/>
          </p:nvSpPr>
          <p:spPr>
            <a:xfrm>
              <a:off x="826920" y="650880"/>
              <a:ext cx="352440" cy="15264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222" h="96">
                  <a:moveTo>
                    <a:pt x="222" y="78"/>
                  </a:moveTo>
                  <a:lnTo>
                    <a:pt x="210" y="84"/>
                  </a:lnTo>
                  <a:lnTo>
                    <a:pt x="204" y="84"/>
                  </a:lnTo>
                  <a:lnTo>
                    <a:pt x="198" y="84"/>
                  </a:lnTo>
                  <a:lnTo>
                    <a:pt x="192" y="90"/>
                  </a:lnTo>
                  <a:lnTo>
                    <a:pt x="186" y="90"/>
                  </a:lnTo>
                  <a:lnTo>
                    <a:pt x="180" y="90"/>
                  </a:lnTo>
                  <a:lnTo>
                    <a:pt x="168" y="96"/>
                  </a:lnTo>
                  <a:lnTo>
                    <a:pt x="162" y="96"/>
                  </a:lnTo>
                  <a:lnTo>
                    <a:pt x="156" y="90"/>
                  </a:lnTo>
                  <a:lnTo>
                    <a:pt x="144" y="84"/>
                  </a:lnTo>
                  <a:lnTo>
                    <a:pt x="132" y="78"/>
                  </a:lnTo>
                  <a:lnTo>
                    <a:pt x="126" y="72"/>
                  </a:lnTo>
                  <a:lnTo>
                    <a:pt x="114" y="66"/>
                  </a:lnTo>
                  <a:lnTo>
                    <a:pt x="102" y="60"/>
                  </a:lnTo>
                  <a:lnTo>
                    <a:pt x="90" y="54"/>
                  </a:lnTo>
                  <a:lnTo>
                    <a:pt x="84" y="48"/>
                  </a:lnTo>
                  <a:lnTo>
                    <a:pt x="72" y="42"/>
                  </a:lnTo>
                  <a:lnTo>
                    <a:pt x="60" y="36"/>
                  </a:lnTo>
                  <a:lnTo>
                    <a:pt x="54" y="30"/>
                  </a:lnTo>
                  <a:lnTo>
                    <a:pt x="42" y="24"/>
                  </a:lnTo>
                  <a:lnTo>
                    <a:pt x="30" y="18"/>
                  </a:lnTo>
                  <a:lnTo>
                    <a:pt x="24" y="12"/>
                  </a:lnTo>
                  <a:lnTo>
                    <a:pt x="12" y="6"/>
                  </a:lnTo>
                  <a:lnTo>
                    <a:pt x="0" y="0"/>
                  </a:lnTo>
                  <a:lnTo>
                    <a:pt x="12" y="0"/>
                  </a:lnTo>
                  <a:lnTo>
                    <a:pt x="24" y="6"/>
                  </a:lnTo>
                  <a:lnTo>
                    <a:pt x="30" y="6"/>
                  </a:lnTo>
                  <a:lnTo>
                    <a:pt x="42" y="6"/>
                  </a:lnTo>
                  <a:lnTo>
                    <a:pt x="54" y="6"/>
                  </a:lnTo>
                  <a:lnTo>
                    <a:pt x="60" y="6"/>
                  </a:lnTo>
                  <a:lnTo>
                    <a:pt x="72" y="6"/>
                  </a:lnTo>
                  <a:lnTo>
                    <a:pt x="84" y="6"/>
                  </a:lnTo>
                  <a:lnTo>
                    <a:pt x="90" y="12"/>
                  </a:lnTo>
                  <a:lnTo>
                    <a:pt x="102" y="12"/>
                  </a:lnTo>
                  <a:lnTo>
                    <a:pt x="114" y="12"/>
                  </a:lnTo>
                  <a:lnTo>
                    <a:pt x="126" y="12"/>
                  </a:lnTo>
                  <a:lnTo>
                    <a:pt x="132" y="12"/>
                  </a:lnTo>
                  <a:lnTo>
                    <a:pt x="144" y="18"/>
                  </a:lnTo>
                  <a:lnTo>
                    <a:pt x="156" y="18"/>
                  </a:lnTo>
                  <a:lnTo>
                    <a:pt x="168" y="18"/>
                  </a:lnTo>
                  <a:lnTo>
                    <a:pt x="174" y="24"/>
                  </a:lnTo>
                  <a:lnTo>
                    <a:pt x="180" y="36"/>
                  </a:lnTo>
                  <a:lnTo>
                    <a:pt x="186" y="42"/>
                  </a:lnTo>
                  <a:lnTo>
                    <a:pt x="192" y="48"/>
                  </a:lnTo>
                  <a:lnTo>
                    <a:pt x="198" y="60"/>
                  </a:lnTo>
                  <a:lnTo>
                    <a:pt x="204" y="66"/>
                  </a:lnTo>
                  <a:lnTo>
                    <a:pt x="210" y="72"/>
                  </a:lnTo>
                  <a:lnTo>
                    <a:pt x="222" y="78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57"/>
            <p:cNvSpPr/>
            <p:nvPr/>
          </p:nvSpPr>
          <p:spPr>
            <a:xfrm>
              <a:off x="1236600" y="955800"/>
              <a:ext cx="114120" cy="152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72" h="96">
                  <a:moveTo>
                    <a:pt x="66" y="0"/>
                  </a:moveTo>
                  <a:lnTo>
                    <a:pt x="66" y="6"/>
                  </a:lnTo>
                  <a:lnTo>
                    <a:pt x="72" y="12"/>
                  </a:lnTo>
                  <a:lnTo>
                    <a:pt x="72" y="24"/>
                  </a:lnTo>
                  <a:lnTo>
                    <a:pt x="72" y="30"/>
                  </a:lnTo>
                  <a:lnTo>
                    <a:pt x="60" y="42"/>
                  </a:lnTo>
                  <a:lnTo>
                    <a:pt x="54" y="48"/>
                  </a:lnTo>
                  <a:lnTo>
                    <a:pt x="42" y="54"/>
                  </a:lnTo>
                  <a:lnTo>
                    <a:pt x="36" y="66"/>
                  </a:lnTo>
                  <a:lnTo>
                    <a:pt x="24" y="72"/>
                  </a:lnTo>
                  <a:lnTo>
                    <a:pt x="18" y="84"/>
                  </a:lnTo>
                  <a:lnTo>
                    <a:pt x="12" y="90"/>
                  </a:lnTo>
                  <a:lnTo>
                    <a:pt x="0" y="96"/>
                  </a:lnTo>
                  <a:lnTo>
                    <a:pt x="6" y="90"/>
                  </a:lnTo>
                  <a:lnTo>
                    <a:pt x="6" y="78"/>
                  </a:lnTo>
                  <a:lnTo>
                    <a:pt x="12" y="66"/>
                  </a:lnTo>
                  <a:lnTo>
                    <a:pt x="18" y="60"/>
                  </a:lnTo>
                  <a:lnTo>
                    <a:pt x="18" y="48"/>
                  </a:lnTo>
                  <a:lnTo>
                    <a:pt x="24" y="36"/>
                  </a:lnTo>
                  <a:lnTo>
                    <a:pt x="30" y="30"/>
                  </a:lnTo>
                  <a:lnTo>
                    <a:pt x="30" y="18"/>
                  </a:lnTo>
                  <a:lnTo>
                    <a:pt x="36" y="12"/>
                  </a:lnTo>
                  <a:lnTo>
                    <a:pt x="42" y="12"/>
                  </a:lnTo>
                  <a:lnTo>
                    <a:pt x="48" y="12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60" y="6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58"/>
            <p:cNvSpPr/>
            <p:nvPr/>
          </p:nvSpPr>
          <p:spPr>
            <a:xfrm>
              <a:off x="1512720" y="917640"/>
              <a:ext cx="171360" cy="1144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08" h="72">
                  <a:moveTo>
                    <a:pt x="0" y="0"/>
                  </a:moveTo>
                  <a:lnTo>
                    <a:pt x="6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8" y="6"/>
                  </a:lnTo>
                  <a:lnTo>
                    <a:pt x="54" y="18"/>
                  </a:lnTo>
                  <a:lnTo>
                    <a:pt x="60" y="24"/>
                  </a:lnTo>
                  <a:lnTo>
                    <a:pt x="72" y="36"/>
                  </a:lnTo>
                  <a:lnTo>
                    <a:pt x="78" y="42"/>
                  </a:lnTo>
                  <a:lnTo>
                    <a:pt x="90" y="54"/>
                  </a:lnTo>
                  <a:lnTo>
                    <a:pt x="96" y="60"/>
                  </a:lnTo>
                  <a:lnTo>
                    <a:pt x="108" y="72"/>
                  </a:lnTo>
                  <a:lnTo>
                    <a:pt x="96" y="66"/>
                  </a:lnTo>
                  <a:lnTo>
                    <a:pt x="84" y="60"/>
                  </a:lnTo>
                  <a:lnTo>
                    <a:pt x="72" y="60"/>
                  </a:lnTo>
                  <a:lnTo>
                    <a:pt x="66" y="54"/>
                  </a:lnTo>
                  <a:lnTo>
                    <a:pt x="54" y="48"/>
                  </a:lnTo>
                  <a:lnTo>
                    <a:pt x="42" y="48"/>
                  </a:lnTo>
                  <a:lnTo>
                    <a:pt x="30" y="42"/>
                  </a:lnTo>
                  <a:lnTo>
                    <a:pt x="18" y="36"/>
                  </a:lnTo>
                  <a:lnTo>
                    <a:pt x="18" y="30"/>
                  </a:lnTo>
                  <a:lnTo>
                    <a:pt x="12" y="18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59"/>
            <p:cNvSpPr/>
            <p:nvPr/>
          </p:nvSpPr>
          <p:spPr>
            <a:xfrm>
              <a:off x="1474560" y="584280"/>
              <a:ext cx="114480" cy="16200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72" h="102">
                  <a:moveTo>
                    <a:pt x="0" y="102"/>
                  </a:moveTo>
                  <a:lnTo>
                    <a:pt x="0" y="96"/>
                  </a:lnTo>
                  <a:lnTo>
                    <a:pt x="0" y="84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2" y="60"/>
                  </a:lnTo>
                  <a:lnTo>
                    <a:pt x="18" y="54"/>
                  </a:lnTo>
                  <a:lnTo>
                    <a:pt x="30" y="48"/>
                  </a:lnTo>
                  <a:lnTo>
                    <a:pt x="36" y="36"/>
                  </a:lnTo>
                  <a:lnTo>
                    <a:pt x="48" y="30"/>
                  </a:lnTo>
                  <a:lnTo>
                    <a:pt x="54" y="18"/>
                  </a:lnTo>
                  <a:lnTo>
                    <a:pt x="66" y="12"/>
                  </a:lnTo>
                  <a:lnTo>
                    <a:pt x="72" y="0"/>
                  </a:lnTo>
                  <a:lnTo>
                    <a:pt x="66" y="12"/>
                  </a:lnTo>
                  <a:lnTo>
                    <a:pt x="66" y="24"/>
                  </a:lnTo>
                  <a:lnTo>
                    <a:pt x="60" y="30"/>
                  </a:lnTo>
                  <a:lnTo>
                    <a:pt x="54" y="42"/>
                  </a:lnTo>
                  <a:lnTo>
                    <a:pt x="54" y="54"/>
                  </a:lnTo>
                  <a:lnTo>
                    <a:pt x="48" y="66"/>
                  </a:lnTo>
                  <a:lnTo>
                    <a:pt x="48" y="72"/>
                  </a:lnTo>
                  <a:lnTo>
                    <a:pt x="42" y="84"/>
                  </a:lnTo>
                  <a:lnTo>
                    <a:pt x="36" y="84"/>
                  </a:lnTo>
                  <a:lnTo>
                    <a:pt x="30" y="90"/>
                  </a:lnTo>
                  <a:lnTo>
                    <a:pt x="24" y="90"/>
                  </a:lnTo>
                  <a:lnTo>
                    <a:pt x="18" y="96"/>
                  </a:lnTo>
                  <a:lnTo>
                    <a:pt x="12" y="96"/>
                  </a:lnTo>
                  <a:lnTo>
                    <a:pt x="6" y="10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60"/>
            <p:cNvSpPr/>
            <p:nvPr/>
          </p:nvSpPr>
          <p:spPr>
            <a:xfrm>
              <a:off x="1160280" y="679680"/>
              <a:ext cx="142920" cy="1047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90" h="66">
                  <a:moveTo>
                    <a:pt x="90" y="66"/>
                  </a:moveTo>
                  <a:lnTo>
                    <a:pt x="90" y="66"/>
                  </a:lnTo>
                  <a:lnTo>
                    <a:pt x="84" y="66"/>
                  </a:lnTo>
                  <a:lnTo>
                    <a:pt x="78" y="66"/>
                  </a:lnTo>
                  <a:lnTo>
                    <a:pt x="72" y="66"/>
                  </a:lnTo>
                  <a:lnTo>
                    <a:pt x="66" y="66"/>
                  </a:lnTo>
                  <a:lnTo>
                    <a:pt x="54" y="60"/>
                  </a:lnTo>
                  <a:lnTo>
                    <a:pt x="48" y="48"/>
                  </a:lnTo>
                  <a:lnTo>
                    <a:pt x="36" y="42"/>
                  </a:lnTo>
                  <a:lnTo>
                    <a:pt x="30" y="30"/>
                  </a:lnTo>
                  <a:lnTo>
                    <a:pt x="24" y="24"/>
                  </a:lnTo>
                  <a:lnTo>
                    <a:pt x="12" y="18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0"/>
                  </a:lnTo>
                  <a:lnTo>
                    <a:pt x="18" y="6"/>
                  </a:lnTo>
                  <a:lnTo>
                    <a:pt x="24" y="12"/>
                  </a:lnTo>
                  <a:lnTo>
                    <a:pt x="36" y="12"/>
                  </a:lnTo>
                  <a:lnTo>
                    <a:pt x="48" y="18"/>
                  </a:lnTo>
                  <a:lnTo>
                    <a:pt x="54" y="24"/>
                  </a:lnTo>
                  <a:lnTo>
                    <a:pt x="66" y="24"/>
                  </a:lnTo>
                  <a:lnTo>
                    <a:pt x="72" y="30"/>
                  </a:lnTo>
                  <a:lnTo>
                    <a:pt x="78" y="36"/>
                  </a:lnTo>
                  <a:lnTo>
                    <a:pt x="84" y="48"/>
                  </a:lnTo>
                  <a:lnTo>
                    <a:pt x="90" y="60"/>
                  </a:lnTo>
                  <a:lnTo>
                    <a:pt x="90" y="66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Group 44"/>
          <p:cNvGrpSpPr/>
          <p:nvPr/>
        </p:nvGrpSpPr>
        <p:grpSpPr>
          <a:xfrm>
            <a:off x="6659640" y="260280"/>
            <a:ext cx="1181160" cy="1181160"/>
            <a:chOff x="6659640" y="260280"/>
            <a:chExt cx="1181160" cy="1181160"/>
          </a:xfrm>
        </p:grpSpPr>
        <p:sp>
          <p:nvSpPr>
            <p:cNvPr id="310" name="Freeform 45"/>
            <p:cNvSpPr/>
            <p:nvPr/>
          </p:nvSpPr>
          <p:spPr>
            <a:xfrm>
              <a:off x="7335720" y="1079640"/>
              <a:ext cx="181080" cy="33336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14" h="210">
                  <a:moveTo>
                    <a:pt x="6" y="0"/>
                  </a:moveTo>
                  <a:lnTo>
                    <a:pt x="18" y="0"/>
                  </a:lnTo>
                  <a:lnTo>
                    <a:pt x="24" y="6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2" y="18"/>
                  </a:lnTo>
                  <a:lnTo>
                    <a:pt x="48" y="24"/>
                  </a:lnTo>
                  <a:lnTo>
                    <a:pt x="60" y="24"/>
                  </a:lnTo>
                  <a:lnTo>
                    <a:pt x="66" y="30"/>
                  </a:lnTo>
                  <a:lnTo>
                    <a:pt x="72" y="54"/>
                  </a:lnTo>
                  <a:lnTo>
                    <a:pt x="78" y="72"/>
                  </a:lnTo>
                  <a:lnTo>
                    <a:pt x="84" y="96"/>
                  </a:lnTo>
                  <a:lnTo>
                    <a:pt x="90" y="120"/>
                  </a:lnTo>
                  <a:lnTo>
                    <a:pt x="96" y="144"/>
                  </a:lnTo>
                  <a:lnTo>
                    <a:pt x="102" y="168"/>
                  </a:lnTo>
                  <a:lnTo>
                    <a:pt x="108" y="186"/>
                  </a:lnTo>
                  <a:lnTo>
                    <a:pt x="114" y="210"/>
                  </a:lnTo>
                  <a:lnTo>
                    <a:pt x="96" y="198"/>
                  </a:lnTo>
                  <a:lnTo>
                    <a:pt x="84" y="180"/>
                  </a:lnTo>
                  <a:lnTo>
                    <a:pt x="72" y="162"/>
                  </a:lnTo>
                  <a:lnTo>
                    <a:pt x="60" y="144"/>
                  </a:lnTo>
                  <a:lnTo>
                    <a:pt x="42" y="132"/>
                  </a:lnTo>
                  <a:lnTo>
                    <a:pt x="30" y="114"/>
                  </a:lnTo>
                  <a:lnTo>
                    <a:pt x="18" y="96"/>
                  </a:lnTo>
                  <a:lnTo>
                    <a:pt x="0" y="78"/>
                  </a:lnTo>
                  <a:lnTo>
                    <a:pt x="6" y="60"/>
                  </a:lnTo>
                  <a:lnTo>
                    <a:pt x="6" y="36"/>
                  </a:lnTo>
                  <a:lnTo>
                    <a:pt x="6" y="1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46"/>
            <p:cNvSpPr/>
            <p:nvPr/>
          </p:nvSpPr>
          <p:spPr>
            <a:xfrm>
              <a:off x="7450200" y="574920"/>
              <a:ext cx="352440" cy="18072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22" h="114">
                  <a:moveTo>
                    <a:pt x="0" y="108"/>
                  </a:moveTo>
                  <a:lnTo>
                    <a:pt x="6" y="102"/>
                  </a:lnTo>
                  <a:lnTo>
                    <a:pt x="12" y="96"/>
                  </a:lnTo>
                  <a:lnTo>
                    <a:pt x="12" y="84"/>
                  </a:lnTo>
                  <a:lnTo>
                    <a:pt x="18" y="78"/>
                  </a:lnTo>
                  <a:lnTo>
                    <a:pt x="24" y="72"/>
                  </a:lnTo>
                  <a:lnTo>
                    <a:pt x="30" y="66"/>
                  </a:lnTo>
                  <a:lnTo>
                    <a:pt x="30" y="54"/>
                  </a:lnTo>
                  <a:lnTo>
                    <a:pt x="36" y="48"/>
                  </a:lnTo>
                  <a:lnTo>
                    <a:pt x="48" y="48"/>
                  </a:lnTo>
                  <a:lnTo>
                    <a:pt x="60" y="42"/>
                  </a:lnTo>
                  <a:lnTo>
                    <a:pt x="72" y="42"/>
                  </a:lnTo>
                  <a:lnTo>
                    <a:pt x="84" y="36"/>
                  </a:lnTo>
                  <a:lnTo>
                    <a:pt x="96" y="36"/>
                  </a:lnTo>
                  <a:lnTo>
                    <a:pt x="108" y="30"/>
                  </a:lnTo>
                  <a:lnTo>
                    <a:pt x="120" y="30"/>
                  </a:lnTo>
                  <a:lnTo>
                    <a:pt x="132" y="24"/>
                  </a:lnTo>
                  <a:lnTo>
                    <a:pt x="144" y="24"/>
                  </a:lnTo>
                  <a:lnTo>
                    <a:pt x="150" y="18"/>
                  </a:lnTo>
                  <a:lnTo>
                    <a:pt x="168" y="18"/>
                  </a:lnTo>
                  <a:lnTo>
                    <a:pt x="174" y="12"/>
                  </a:lnTo>
                  <a:lnTo>
                    <a:pt x="186" y="12"/>
                  </a:lnTo>
                  <a:lnTo>
                    <a:pt x="198" y="6"/>
                  </a:lnTo>
                  <a:lnTo>
                    <a:pt x="210" y="6"/>
                  </a:lnTo>
                  <a:lnTo>
                    <a:pt x="222" y="0"/>
                  </a:lnTo>
                  <a:lnTo>
                    <a:pt x="216" y="12"/>
                  </a:lnTo>
                  <a:lnTo>
                    <a:pt x="204" y="18"/>
                  </a:lnTo>
                  <a:lnTo>
                    <a:pt x="198" y="24"/>
                  </a:lnTo>
                  <a:lnTo>
                    <a:pt x="192" y="30"/>
                  </a:lnTo>
                  <a:lnTo>
                    <a:pt x="180" y="36"/>
                  </a:lnTo>
                  <a:lnTo>
                    <a:pt x="174" y="42"/>
                  </a:lnTo>
                  <a:lnTo>
                    <a:pt x="162" y="54"/>
                  </a:lnTo>
                  <a:lnTo>
                    <a:pt x="156" y="60"/>
                  </a:lnTo>
                  <a:lnTo>
                    <a:pt x="144" y="66"/>
                  </a:lnTo>
                  <a:lnTo>
                    <a:pt x="138" y="72"/>
                  </a:lnTo>
                  <a:lnTo>
                    <a:pt x="132" y="78"/>
                  </a:lnTo>
                  <a:lnTo>
                    <a:pt x="120" y="84"/>
                  </a:lnTo>
                  <a:lnTo>
                    <a:pt x="114" y="96"/>
                  </a:lnTo>
                  <a:lnTo>
                    <a:pt x="102" y="102"/>
                  </a:lnTo>
                  <a:lnTo>
                    <a:pt x="96" y="108"/>
                  </a:lnTo>
                  <a:lnTo>
                    <a:pt x="84" y="114"/>
                  </a:lnTo>
                  <a:lnTo>
                    <a:pt x="72" y="114"/>
                  </a:lnTo>
                  <a:lnTo>
                    <a:pt x="66" y="114"/>
                  </a:lnTo>
                  <a:lnTo>
                    <a:pt x="54" y="114"/>
                  </a:lnTo>
                  <a:lnTo>
                    <a:pt x="42" y="114"/>
                  </a:lnTo>
                  <a:lnTo>
                    <a:pt x="30" y="108"/>
                  </a:lnTo>
                  <a:lnTo>
                    <a:pt x="24" y="108"/>
                  </a:lnTo>
                  <a:lnTo>
                    <a:pt x="12" y="108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47"/>
            <p:cNvSpPr/>
            <p:nvPr/>
          </p:nvSpPr>
          <p:spPr>
            <a:xfrm>
              <a:off x="6964560" y="298440"/>
              <a:ext cx="171360" cy="3524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108" h="222">
                  <a:moveTo>
                    <a:pt x="102" y="222"/>
                  </a:moveTo>
                  <a:lnTo>
                    <a:pt x="96" y="216"/>
                  </a:lnTo>
                  <a:lnTo>
                    <a:pt x="84" y="210"/>
                  </a:lnTo>
                  <a:lnTo>
                    <a:pt x="78" y="204"/>
                  </a:lnTo>
                  <a:lnTo>
                    <a:pt x="72" y="204"/>
                  </a:lnTo>
                  <a:lnTo>
                    <a:pt x="66" y="198"/>
                  </a:lnTo>
                  <a:lnTo>
                    <a:pt x="60" y="192"/>
                  </a:lnTo>
                  <a:lnTo>
                    <a:pt x="54" y="192"/>
                  </a:lnTo>
                  <a:lnTo>
                    <a:pt x="48" y="186"/>
                  </a:lnTo>
                  <a:lnTo>
                    <a:pt x="42" y="162"/>
                  </a:lnTo>
                  <a:lnTo>
                    <a:pt x="36" y="138"/>
                  </a:lnTo>
                  <a:lnTo>
                    <a:pt x="30" y="114"/>
                  </a:lnTo>
                  <a:lnTo>
                    <a:pt x="24" y="90"/>
                  </a:lnTo>
                  <a:lnTo>
                    <a:pt x="18" y="72"/>
                  </a:lnTo>
                  <a:lnTo>
                    <a:pt x="12" y="48"/>
                  </a:lnTo>
                  <a:lnTo>
                    <a:pt x="6" y="24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4" y="30"/>
                  </a:lnTo>
                  <a:lnTo>
                    <a:pt x="42" y="48"/>
                  </a:lnTo>
                  <a:lnTo>
                    <a:pt x="54" y="66"/>
                  </a:lnTo>
                  <a:lnTo>
                    <a:pt x="66" y="84"/>
                  </a:lnTo>
                  <a:lnTo>
                    <a:pt x="78" y="96"/>
                  </a:lnTo>
                  <a:lnTo>
                    <a:pt x="96" y="114"/>
                  </a:lnTo>
                  <a:lnTo>
                    <a:pt x="108" y="132"/>
                  </a:lnTo>
                  <a:lnTo>
                    <a:pt x="102" y="156"/>
                  </a:lnTo>
                  <a:lnTo>
                    <a:pt x="102" y="174"/>
                  </a:lnTo>
                  <a:lnTo>
                    <a:pt x="102" y="198"/>
                  </a:lnTo>
                  <a:lnTo>
                    <a:pt x="102" y="222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48"/>
            <p:cNvSpPr/>
            <p:nvPr/>
          </p:nvSpPr>
          <p:spPr>
            <a:xfrm>
              <a:off x="6688080" y="965160"/>
              <a:ext cx="333360" cy="16200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210" h="102">
                  <a:moveTo>
                    <a:pt x="210" y="6"/>
                  </a:moveTo>
                  <a:lnTo>
                    <a:pt x="204" y="12"/>
                  </a:lnTo>
                  <a:lnTo>
                    <a:pt x="204" y="18"/>
                  </a:lnTo>
                  <a:lnTo>
                    <a:pt x="198" y="24"/>
                  </a:lnTo>
                  <a:lnTo>
                    <a:pt x="198" y="30"/>
                  </a:lnTo>
                  <a:lnTo>
                    <a:pt x="192" y="36"/>
                  </a:lnTo>
                  <a:lnTo>
                    <a:pt x="186" y="42"/>
                  </a:lnTo>
                  <a:lnTo>
                    <a:pt x="186" y="48"/>
                  </a:lnTo>
                  <a:lnTo>
                    <a:pt x="180" y="54"/>
                  </a:lnTo>
                  <a:lnTo>
                    <a:pt x="168" y="60"/>
                  </a:lnTo>
                  <a:lnTo>
                    <a:pt x="162" y="60"/>
                  </a:lnTo>
                  <a:lnTo>
                    <a:pt x="150" y="66"/>
                  </a:lnTo>
                  <a:lnTo>
                    <a:pt x="138" y="66"/>
                  </a:lnTo>
                  <a:lnTo>
                    <a:pt x="126" y="72"/>
                  </a:lnTo>
                  <a:lnTo>
                    <a:pt x="114" y="72"/>
                  </a:lnTo>
                  <a:lnTo>
                    <a:pt x="102" y="78"/>
                  </a:lnTo>
                  <a:lnTo>
                    <a:pt x="90" y="78"/>
                  </a:lnTo>
                  <a:lnTo>
                    <a:pt x="78" y="84"/>
                  </a:lnTo>
                  <a:lnTo>
                    <a:pt x="66" y="84"/>
                  </a:lnTo>
                  <a:lnTo>
                    <a:pt x="60" y="90"/>
                  </a:lnTo>
                  <a:lnTo>
                    <a:pt x="48" y="90"/>
                  </a:lnTo>
                  <a:lnTo>
                    <a:pt x="36" y="96"/>
                  </a:lnTo>
                  <a:lnTo>
                    <a:pt x="24" y="96"/>
                  </a:lnTo>
                  <a:lnTo>
                    <a:pt x="12" y="96"/>
                  </a:lnTo>
                  <a:lnTo>
                    <a:pt x="0" y="102"/>
                  </a:lnTo>
                  <a:lnTo>
                    <a:pt x="6" y="96"/>
                  </a:lnTo>
                  <a:lnTo>
                    <a:pt x="18" y="90"/>
                  </a:lnTo>
                  <a:lnTo>
                    <a:pt x="24" y="84"/>
                  </a:lnTo>
                  <a:lnTo>
                    <a:pt x="30" y="78"/>
                  </a:lnTo>
                  <a:lnTo>
                    <a:pt x="42" y="72"/>
                  </a:lnTo>
                  <a:lnTo>
                    <a:pt x="48" y="60"/>
                  </a:lnTo>
                  <a:lnTo>
                    <a:pt x="54" y="54"/>
                  </a:lnTo>
                  <a:lnTo>
                    <a:pt x="66" y="48"/>
                  </a:lnTo>
                  <a:lnTo>
                    <a:pt x="72" y="42"/>
                  </a:lnTo>
                  <a:lnTo>
                    <a:pt x="78" y="36"/>
                  </a:lnTo>
                  <a:lnTo>
                    <a:pt x="90" y="30"/>
                  </a:lnTo>
                  <a:lnTo>
                    <a:pt x="96" y="24"/>
                  </a:lnTo>
                  <a:lnTo>
                    <a:pt x="102" y="18"/>
                  </a:lnTo>
                  <a:lnTo>
                    <a:pt x="114" y="12"/>
                  </a:lnTo>
                  <a:lnTo>
                    <a:pt x="120" y="6"/>
                  </a:lnTo>
                  <a:lnTo>
                    <a:pt x="126" y="0"/>
                  </a:lnTo>
                  <a:lnTo>
                    <a:pt x="138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8" y="0"/>
                  </a:lnTo>
                  <a:lnTo>
                    <a:pt x="180" y="0"/>
                  </a:lnTo>
                  <a:lnTo>
                    <a:pt x="192" y="6"/>
                  </a:lnTo>
                  <a:lnTo>
                    <a:pt x="198" y="6"/>
                  </a:lnTo>
                  <a:lnTo>
                    <a:pt x="210" y="6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49"/>
            <p:cNvSpPr/>
            <p:nvPr/>
          </p:nvSpPr>
          <p:spPr>
            <a:xfrm>
              <a:off x="7250040" y="974880"/>
              <a:ext cx="57240" cy="19044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36" h="120">
                  <a:moveTo>
                    <a:pt x="12" y="0"/>
                  </a:moveTo>
                  <a:lnTo>
                    <a:pt x="12" y="0"/>
                  </a:lnTo>
                  <a:lnTo>
                    <a:pt x="18" y="6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36" y="24"/>
                  </a:lnTo>
                  <a:lnTo>
                    <a:pt x="36" y="48"/>
                  </a:lnTo>
                  <a:lnTo>
                    <a:pt x="36" y="72"/>
                  </a:lnTo>
                  <a:lnTo>
                    <a:pt x="36" y="96"/>
                  </a:lnTo>
                  <a:lnTo>
                    <a:pt x="36" y="120"/>
                  </a:lnTo>
                  <a:lnTo>
                    <a:pt x="30" y="108"/>
                  </a:lnTo>
                  <a:lnTo>
                    <a:pt x="24" y="96"/>
                  </a:lnTo>
                  <a:lnTo>
                    <a:pt x="18" y="90"/>
                  </a:lnTo>
                  <a:lnTo>
                    <a:pt x="18" y="78"/>
                  </a:lnTo>
                  <a:lnTo>
                    <a:pt x="12" y="66"/>
                  </a:lnTo>
                  <a:lnTo>
                    <a:pt x="6" y="60"/>
                  </a:lnTo>
                  <a:lnTo>
                    <a:pt x="0" y="48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50"/>
            <p:cNvSpPr/>
            <p:nvPr/>
          </p:nvSpPr>
          <p:spPr>
            <a:xfrm>
              <a:off x="7364520" y="784440"/>
              <a:ext cx="190440" cy="666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120" h="42">
                  <a:moveTo>
                    <a:pt x="0" y="24"/>
                  </a:moveTo>
                  <a:lnTo>
                    <a:pt x="0" y="24"/>
                  </a:lnTo>
                  <a:lnTo>
                    <a:pt x="6" y="18"/>
                  </a:lnTo>
                  <a:lnTo>
                    <a:pt x="12" y="12"/>
                  </a:lnTo>
                  <a:lnTo>
                    <a:pt x="18" y="6"/>
                  </a:lnTo>
                  <a:lnTo>
                    <a:pt x="24" y="0"/>
                  </a:lnTo>
                  <a:lnTo>
                    <a:pt x="36" y="0"/>
                  </a:lnTo>
                  <a:lnTo>
                    <a:pt x="48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84" y="6"/>
                  </a:lnTo>
                  <a:lnTo>
                    <a:pt x="96" y="6"/>
                  </a:lnTo>
                  <a:lnTo>
                    <a:pt x="108" y="6"/>
                  </a:lnTo>
                  <a:lnTo>
                    <a:pt x="120" y="6"/>
                  </a:lnTo>
                  <a:lnTo>
                    <a:pt x="114" y="6"/>
                  </a:lnTo>
                  <a:lnTo>
                    <a:pt x="102" y="12"/>
                  </a:lnTo>
                  <a:lnTo>
                    <a:pt x="90" y="18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60" y="30"/>
                  </a:lnTo>
                  <a:lnTo>
                    <a:pt x="48" y="36"/>
                  </a:lnTo>
                  <a:lnTo>
                    <a:pt x="36" y="42"/>
                  </a:lnTo>
                  <a:lnTo>
                    <a:pt x="36" y="36"/>
                  </a:lnTo>
                  <a:lnTo>
                    <a:pt x="30" y="36"/>
                  </a:lnTo>
                  <a:lnTo>
                    <a:pt x="24" y="36"/>
                  </a:lnTo>
                  <a:lnTo>
                    <a:pt x="18" y="36"/>
                  </a:lnTo>
                  <a:lnTo>
                    <a:pt x="12" y="30"/>
                  </a:lnTo>
                  <a:lnTo>
                    <a:pt x="6" y="3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51"/>
            <p:cNvSpPr/>
            <p:nvPr/>
          </p:nvSpPr>
          <p:spPr>
            <a:xfrm>
              <a:off x="7183440" y="546120"/>
              <a:ext cx="57240" cy="19044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36" h="120">
                  <a:moveTo>
                    <a:pt x="18" y="120"/>
                  </a:moveTo>
                  <a:lnTo>
                    <a:pt x="18" y="114"/>
                  </a:lnTo>
                  <a:lnTo>
                    <a:pt x="12" y="114"/>
                  </a:lnTo>
                  <a:lnTo>
                    <a:pt x="12" y="108"/>
                  </a:lnTo>
                  <a:lnTo>
                    <a:pt x="6" y="108"/>
                  </a:lnTo>
                  <a:lnTo>
                    <a:pt x="6" y="102"/>
                  </a:lnTo>
                  <a:lnTo>
                    <a:pt x="0" y="96"/>
                  </a:lnTo>
                  <a:lnTo>
                    <a:pt x="0" y="72"/>
                  </a:lnTo>
                  <a:lnTo>
                    <a:pt x="0" y="48"/>
                  </a:lnTo>
                  <a:lnTo>
                    <a:pt x="0" y="24"/>
                  </a:lnTo>
                  <a:lnTo>
                    <a:pt x="0" y="0"/>
                  </a:lnTo>
                  <a:lnTo>
                    <a:pt x="6" y="6"/>
                  </a:lnTo>
                  <a:lnTo>
                    <a:pt x="6" y="18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24" y="48"/>
                  </a:lnTo>
                  <a:lnTo>
                    <a:pt x="24" y="54"/>
                  </a:lnTo>
                  <a:lnTo>
                    <a:pt x="30" y="66"/>
                  </a:lnTo>
                  <a:lnTo>
                    <a:pt x="36" y="78"/>
                  </a:lnTo>
                  <a:lnTo>
                    <a:pt x="30" y="84"/>
                  </a:lnTo>
                  <a:lnTo>
                    <a:pt x="24" y="96"/>
                  </a:lnTo>
                  <a:lnTo>
                    <a:pt x="24" y="108"/>
                  </a:lnTo>
                  <a:lnTo>
                    <a:pt x="18" y="12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52"/>
            <p:cNvSpPr/>
            <p:nvPr/>
          </p:nvSpPr>
          <p:spPr>
            <a:xfrm>
              <a:off x="6935760" y="860400"/>
              <a:ext cx="190440" cy="572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120" h="36">
                  <a:moveTo>
                    <a:pt x="120" y="12"/>
                  </a:moveTo>
                  <a:lnTo>
                    <a:pt x="114" y="18"/>
                  </a:lnTo>
                  <a:lnTo>
                    <a:pt x="108" y="24"/>
                  </a:lnTo>
                  <a:lnTo>
                    <a:pt x="102" y="30"/>
                  </a:lnTo>
                  <a:lnTo>
                    <a:pt x="96" y="36"/>
                  </a:lnTo>
                  <a:lnTo>
                    <a:pt x="84" y="36"/>
                  </a:lnTo>
                  <a:lnTo>
                    <a:pt x="72" y="36"/>
                  </a:lnTo>
                  <a:lnTo>
                    <a:pt x="60" y="36"/>
                  </a:lnTo>
                  <a:lnTo>
                    <a:pt x="48" y="30"/>
                  </a:lnTo>
                  <a:lnTo>
                    <a:pt x="36" y="30"/>
                  </a:lnTo>
                  <a:lnTo>
                    <a:pt x="24" y="30"/>
                  </a:lnTo>
                  <a:lnTo>
                    <a:pt x="12" y="30"/>
                  </a:lnTo>
                  <a:lnTo>
                    <a:pt x="0" y="30"/>
                  </a:lnTo>
                  <a:lnTo>
                    <a:pt x="12" y="30"/>
                  </a:lnTo>
                  <a:lnTo>
                    <a:pt x="24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60" y="6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0" y="6"/>
                  </a:lnTo>
                  <a:lnTo>
                    <a:pt x="96" y="6"/>
                  </a:lnTo>
                  <a:lnTo>
                    <a:pt x="102" y="6"/>
                  </a:lnTo>
                  <a:lnTo>
                    <a:pt x="108" y="6"/>
                  </a:lnTo>
                  <a:lnTo>
                    <a:pt x="114" y="12"/>
                  </a:lnTo>
                  <a:lnTo>
                    <a:pt x="120" y="12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53"/>
            <p:cNvSpPr/>
            <p:nvPr/>
          </p:nvSpPr>
          <p:spPr>
            <a:xfrm>
              <a:off x="7040520" y="1089000"/>
              <a:ext cx="152640" cy="35244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96" h="222">
                  <a:moveTo>
                    <a:pt x="78" y="0"/>
                  </a:moveTo>
                  <a:lnTo>
                    <a:pt x="84" y="12"/>
                  </a:lnTo>
                  <a:lnTo>
                    <a:pt x="90" y="30"/>
                  </a:lnTo>
                  <a:lnTo>
                    <a:pt x="90" y="42"/>
                  </a:lnTo>
                  <a:lnTo>
                    <a:pt x="96" y="60"/>
                  </a:lnTo>
                  <a:lnTo>
                    <a:pt x="84" y="78"/>
                  </a:lnTo>
                  <a:lnTo>
                    <a:pt x="72" y="96"/>
                  </a:lnTo>
                  <a:lnTo>
                    <a:pt x="60" y="120"/>
                  </a:lnTo>
                  <a:lnTo>
                    <a:pt x="48" y="138"/>
                  </a:lnTo>
                  <a:lnTo>
                    <a:pt x="36" y="162"/>
                  </a:lnTo>
                  <a:lnTo>
                    <a:pt x="24" y="180"/>
                  </a:lnTo>
                  <a:lnTo>
                    <a:pt x="12" y="204"/>
                  </a:lnTo>
                  <a:lnTo>
                    <a:pt x="0" y="222"/>
                  </a:lnTo>
                  <a:lnTo>
                    <a:pt x="6" y="180"/>
                  </a:lnTo>
                  <a:lnTo>
                    <a:pt x="6" y="138"/>
                  </a:lnTo>
                  <a:lnTo>
                    <a:pt x="12" y="90"/>
                  </a:lnTo>
                  <a:lnTo>
                    <a:pt x="18" y="48"/>
                  </a:lnTo>
                  <a:lnTo>
                    <a:pt x="24" y="42"/>
                  </a:lnTo>
                  <a:lnTo>
                    <a:pt x="30" y="36"/>
                  </a:lnTo>
                  <a:lnTo>
                    <a:pt x="42" y="30"/>
                  </a:lnTo>
                  <a:lnTo>
                    <a:pt x="48" y="24"/>
                  </a:lnTo>
                  <a:lnTo>
                    <a:pt x="54" y="18"/>
                  </a:lnTo>
                  <a:lnTo>
                    <a:pt x="60" y="12"/>
                  </a:lnTo>
                  <a:lnTo>
                    <a:pt x="72" y="6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54"/>
            <p:cNvSpPr/>
            <p:nvPr/>
          </p:nvSpPr>
          <p:spPr>
            <a:xfrm>
              <a:off x="7469280" y="898560"/>
              <a:ext cx="371520" cy="15264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234" h="96">
                  <a:moveTo>
                    <a:pt x="0" y="18"/>
                  </a:moveTo>
                  <a:lnTo>
                    <a:pt x="12" y="12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8" y="6"/>
                  </a:lnTo>
                  <a:lnTo>
                    <a:pt x="90" y="12"/>
                  </a:lnTo>
                  <a:lnTo>
                    <a:pt x="102" y="18"/>
                  </a:lnTo>
                  <a:lnTo>
                    <a:pt x="108" y="24"/>
                  </a:lnTo>
                  <a:lnTo>
                    <a:pt x="120" y="30"/>
                  </a:lnTo>
                  <a:lnTo>
                    <a:pt x="132" y="36"/>
                  </a:lnTo>
                  <a:lnTo>
                    <a:pt x="138" y="42"/>
                  </a:lnTo>
                  <a:lnTo>
                    <a:pt x="150" y="48"/>
                  </a:lnTo>
                  <a:lnTo>
                    <a:pt x="162" y="54"/>
                  </a:lnTo>
                  <a:lnTo>
                    <a:pt x="174" y="60"/>
                  </a:lnTo>
                  <a:lnTo>
                    <a:pt x="180" y="66"/>
                  </a:lnTo>
                  <a:lnTo>
                    <a:pt x="192" y="72"/>
                  </a:lnTo>
                  <a:lnTo>
                    <a:pt x="204" y="78"/>
                  </a:lnTo>
                  <a:lnTo>
                    <a:pt x="216" y="84"/>
                  </a:lnTo>
                  <a:lnTo>
                    <a:pt x="222" y="90"/>
                  </a:lnTo>
                  <a:lnTo>
                    <a:pt x="234" y="96"/>
                  </a:lnTo>
                  <a:lnTo>
                    <a:pt x="222" y="96"/>
                  </a:lnTo>
                  <a:lnTo>
                    <a:pt x="210" y="96"/>
                  </a:lnTo>
                  <a:lnTo>
                    <a:pt x="198" y="96"/>
                  </a:lnTo>
                  <a:lnTo>
                    <a:pt x="192" y="96"/>
                  </a:lnTo>
                  <a:lnTo>
                    <a:pt x="180" y="90"/>
                  </a:lnTo>
                  <a:lnTo>
                    <a:pt x="168" y="90"/>
                  </a:lnTo>
                  <a:lnTo>
                    <a:pt x="156" y="90"/>
                  </a:lnTo>
                  <a:lnTo>
                    <a:pt x="144" y="90"/>
                  </a:lnTo>
                  <a:lnTo>
                    <a:pt x="132" y="90"/>
                  </a:lnTo>
                  <a:lnTo>
                    <a:pt x="126" y="84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90" y="84"/>
                  </a:lnTo>
                  <a:lnTo>
                    <a:pt x="78" y="84"/>
                  </a:lnTo>
                  <a:lnTo>
                    <a:pt x="66" y="84"/>
                  </a:lnTo>
                  <a:lnTo>
                    <a:pt x="54" y="78"/>
                  </a:lnTo>
                  <a:lnTo>
                    <a:pt x="48" y="72"/>
                  </a:lnTo>
                  <a:lnTo>
                    <a:pt x="42" y="66"/>
                  </a:lnTo>
                  <a:lnTo>
                    <a:pt x="36" y="54"/>
                  </a:lnTo>
                  <a:lnTo>
                    <a:pt x="30" y="48"/>
                  </a:lnTo>
                  <a:lnTo>
                    <a:pt x="24" y="42"/>
                  </a:lnTo>
                  <a:lnTo>
                    <a:pt x="12" y="30"/>
                  </a:lnTo>
                  <a:lnTo>
                    <a:pt x="6" y="24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55"/>
            <p:cNvSpPr/>
            <p:nvPr/>
          </p:nvSpPr>
          <p:spPr>
            <a:xfrm>
              <a:off x="7288200" y="260280"/>
              <a:ext cx="152280" cy="3621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362160"/>
                <a:gd name="textAreaBottom" fmla="*/ 362520 h 362160"/>
              </a:gdLst>
              <a:ahLst/>
              <a:rect l="textAreaLeft" t="textAreaTop" r="textAreaRight" b="textAreaBottom"/>
              <a:pathLst>
                <a:path w="96" h="228">
                  <a:moveTo>
                    <a:pt x="12" y="228"/>
                  </a:moveTo>
                  <a:lnTo>
                    <a:pt x="12" y="210"/>
                  </a:lnTo>
                  <a:lnTo>
                    <a:pt x="6" y="198"/>
                  </a:lnTo>
                  <a:lnTo>
                    <a:pt x="6" y="180"/>
                  </a:lnTo>
                  <a:lnTo>
                    <a:pt x="0" y="162"/>
                  </a:lnTo>
                  <a:lnTo>
                    <a:pt x="12" y="144"/>
                  </a:lnTo>
                  <a:lnTo>
                    <a:pt x="24" y="126"/>
                  </a:lnTo>
                  <a:lnTo>
                    <a:pt x="36" y="102"/>
                  </a:lnTo>
                  <a:lnTo>
                    <a:pt x="48" y="84"/>
                  </a:lnTo>
                  <a:lnTo>
                    <a:pt x="60" y="60"/>
                  </a:lnTo>
                  <a:lnTo>
                    <a:pt x="72" y="42"/>
                  </a:lnTo>
                  <a:lnTo>
                    <a:pt x="84" y="18"/>
                  </a:lnTo>
                  <a:lnTo>
                    <a:pt x="96" y="0"/>
                  </a:lnTo>
                  <a:lnTo>
                    <a:pt x="96" y="42"/>
                  </a:lnTo>
                  <a:lnTo>
                    <a:pt x="90" y="84"/>
                  </a:lnTo>
                  <a:lnTo>
                    <a:pt x="84" y="126"/>
                  </a:lnTo>
                  <a:lnTo>
                    <a:pt x="78" y="168"/>
                  </a:lnTo>
                  <a:lnTo>
                    <a:pt x="72" y="180"/>
                  </a:lnTo>
                  <a:lnTo>
                    <a:pt x="66" y="186"/>
                  </a:lnTo>
                  <a:lnTo>
                    <a:pt x="54" y="192"/>
                  </a:lnTo>
                  <a:lnTo>
                    <a:pt x="48" y="198"/>
                  </a:lnTo>
                  <a:lnTo>
                    <a:pt x="36" y="204"/>
                  </a:lnTo>
                  <a:lnTo>
                    <a:pt x="30" y="210"/>
                  </a:lnTo>
                  <a:lnTo>
                    <a:pt x="24" y="222"/>
                  </a:lnTo>
                  <a:lnTo>
                    <a:pt x="12" y="228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56"/>
            <p:cNvSpPr/>
            <p:nvPr/>
          </p:nvSpPr>
          <p:spPr>
            <a:xfrm>
              <a:off x="6659640" y="650880"/>
              <a:ext cx="352440" cy="15264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222" h="96">
                  <a:moveTo>
                    <a:pt x="222" y="78"/>
                  </a:moveTo>
                  <a:lnTo>
                    <a:pt x="210" y="84"/>
                  </a:lnTo>
                  <a:lnTo>
                    <a:pt x="204" y="84"/>
                  </a:lnTo>
                  <a:lnTo>
                    <a:pt x="198" y="84"/>
                  </a:lnTo>
                  <a:lnTo>
                    <a:pt x="192" y="90"/>
                  </a:lnTo>
                  <a:lnTo>
                    <a:pt x="186" y="90"/>
                  </a:lnTo>
                  <a:lnTo>
                    <a:pt x="180" y="90"/>
                  </a:lnTo>
                  <a:lnTo>
                    <a:pt x="168" y="96"/>
                  </a:lnTo>
                  <a:lnTo>
                    <a:pt x="162" y="96"/>
                  </a:lnTo>
                  <a:lnTo>
                    <a:pt x="156" y="90"/>
                  </a:lnTo>
                  <a:lnTo>
                    <a:pt x="144" y="84"/>
                  </a:lnTo>
                  <a:lnTo>
                    <a:pt x="132" y="78"/>
                  </a:lnTo>
                  <a:lnTo>
                    <a:pt x="126" y="72"/>
                  </a:lnTo>
                  <a:lnTo>
                    <a:pt x="114" y="66"/>
                  </a:lnTo>
                  <a:lnTo>
                    <a:pt x="102" y="60"/>
                  </a:lnTo>
                  <a:lnTo>
                    <a:pt x="90" y="54"/>
                  </a:lnTo>
                  <a:lnTo>
                    <a:pt x="84" y="48"/>
                  </a:lnTo>
                  <a:lnTo>
                    <a:pt x="72" y="42"/>
                  </a:lnTo>
                  <a:lnTo>
                    <a:pt x="60" y="36"/>
                  </a:lnTo>
                  <a:lnTo>
                    <a:pt x="54" y="30"/>
                  </a:lnTo>
                  <a:lnTo>
                    <a:pt x="42" y="24"/>
                  </a:lnTo>
                  <a:lnTo>
                    <a:pt x="30" y="18"/>
                  </a:lnTo>
                  <a:lnTo>
                    <a:pt x="24" y="12"/>
                  </a:lnTo>
                  <a:lnTo>
                    <a:pt x="12" y="6"/>
                  </a:lnTo>
                  <a:lnTo>
                    <a:pt x="0" y="0"/>
                  </a:lnTo>
                  <a:lnTo>
                    <a:pt x="12" y="0"/>
                  </a:lnTo>
                  <a:lnTo>
                    <a:pt x="24" y="6"/>
                  </a:lnTo>
                  <a:lnTo>
                    <a:pt x="30" y="6"/>
                  </a:lnTo>
                  <a:lnTo>
                    <a:pt x="42" y="6"/>
                  </a:lnTo>
                  <a:lnTo>
                    <a:pt x="54" y="6"/>
                  </a:lnTo>
                  <a:lnTo>
                    <a:pt x="60" y="6"/>
                  </a:lnTo>
                  <a:lnTo>
                    <a:pt x="72" y="6"/>
                  </a:lnTo>
                  <a:lnTo>
                    <a:pt x="84" y="6"/>
                  </a:lnTo>
                  <a:lnTo>
                    <a:pt x="90" y="12"/>
                  </a:lnTo>
                  <a:lnTo>
                    <a:pt x="102" y="12"/>
                  </a:lnTo>
                  <a:lnTo>
                    <a:pt x="114" y="12"/>
                  </a:lnTo>
                  <a:lnTo>
                    <a:pt x="126" y="12"/>
                  </a:lnTo>
                  <a:lnTo>
                    <a:pt x="132" y="12"/>
                  </a:lnTo>
                  <a:lnTo>
                    <a:pt x="144" y="18"/>
                  </a:lnTo>
                  <a:lnTo>
                    <a:pt x="156" y="18"/>
                  </a:lnTo>
                  <a:lnTo>
                    <a:pt x="168" y="18"/>
                  </a:lnTo>
                  <a:lnTo>
                    <a:pt x="174" y="24"/>
                  </a:lnTo>
                  <a:lnTo>
                    <a:pt x="180" y="36"/>
                  </a:lnTo>
                  <a:lnTo>
                    <a:pt x="186" y="42"/>
                  </a:lnTo>
                  <a:lnTo>
                    <a:pt x="192" y="48"/>
                  </a:lnTo>
                  <a:lnTo>
                    <a:pt x="198" y="60"/>
                  </a:lnTo>
                  <a:lnTo>
                    <a:pt x="204" y="66"/>
                  </a:lnTo>
                  <a:lnTo>
                    <a:pt x="210" y="72"/>
                  </a:lnTo>
                  <a:lnTo>
                    <a:pt x="222" y="78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57"/>
            <p:cNvSpPr/>
            <p:nvPr/>
          </p:nvSpPr>
          <p:spPr>
            <a:xfrm>
              <a:off x="7069320" y="955800"/>
              <a:ext cx="114120" cy="152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72" h="96">
                  <a:moveTo>
                    <a:pt x="66" y="0"/>
                  </a:moveTo>
                  <a:lnTo>
                    <a:pt x="66" y="6"/>
                  </a:lnTo>
                  <a:lnTo>
                    <a:pt x="72" y="12"/>
                  </a:lnTo>
                  <a:lnTo>
                    <a:pt x="72" y="24"/>
                  </a:lnTo>
                  <a:lnTo>
                    <a:pt x="72" y="30"/>
                  </a:lnTo>
                  <a:lnTo>
                    <a:pt x="60" y="42"/>
                  </a:lnTo>
                  <a:lnTo>
                    <a:pt x="54" y="48"/>
                  </a:lnTo>
                  <a:lnTo>
                    <a:pt x="42" y="54"/>
                  </a:lnTo>
                  <a:lnTo>
                    <a:pt x="36" y="66"/>
                  </a:lnTo>
                  <a:lnTo>
                    <a:pt x="24" y="72"/>
                  </a:lnTo>
                  <a:lnTo>
                    <a:pt x="18" y="84"/>
                  </a:lnTo>
                  <a:lnTo>
                    <a:pt x="12" y="90"/>
                  </a:lnTo>
                  <a:lnTo>
                    <a:pt x="0" y="96"/>
                  </a:lnTo>
                  <a:lnTo>
                    <a:pt x="6" y="90"/>
                  </a:lnTo>
                  <a:lnTo>
                    <a:pt x="6" y="78"/>
                  </a:lnTo>
                  <a:lnTo>
                    <a:pt x="12" y="66"/>
                  </a:lnTo>
                  <a:lnTo>
                    <a:pt x="18" y="60"/>
                  </a:lnTo>
                  <a:lnTo>
                    <a:pt x="18" y="48"/>
                  </a:lnTo>
                  <a:lnTo>
                    <a:pt x="24" y="36"/>
                  </a:lnTo>
                  <a:lnTo>
                    <a:pt x="30" y="30"/>
                  </a:lnTo>
                  <a:lnTo>
                    <a:pt x="30" y="18"/>
                  </a:lnTo>
                  <a:lnTo>
                    <a:pt x="36" y="12"/>
                  </a:lnTo>
                  <a:lnTo>
                    <a:pt x="42" y="12"/>
                  </a:lnTo>
                  <a:lnTo>
                    <a:pt x="48" y="12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60" y="6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58"/>
            <p:cNvSpPr/>
            <p:nvPr/>
          </p:nvSpPr>
          <p:spPr>
            <a:xfrm>
              <a:off x="7345440" y="917640"/>
              <a:ext cx="171360" cy="1144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08" h="72">
                  <a:moveTo>
                    <a:pt x="0" y="0"/>
                  </a:moveTo>
                  <a:lnTo>
                    <a:pt x="6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8" y="6"/>
                  </a:lnTo>
                  <a:lnTo>
                    <a:pt x="54" y="18"/>
                  </a:lnTo>
                  <a:lnTo>
                    <a:pt x="60" y="24"/>
                  </a:lnTo>
                  <a:lnTo>
                    <a:pt x="72" y="36"/>
                  </a:lnTo>
                  <a:lnTo>
                    <a:pt x="78" y="42"/>
                  </a:lnTo>
                  <a:lnTo>
                    <a:pt x="90" y="54"/>
                  </a:lnTo>
                  <a:lnTo>
                    <a:pt x="96" y="60"/>
                  </a:lnTo>
                  <a:lnTo>
                    <a:pt x="108" y="72"/>
                  </a:lnTo>
                  <a:lnTo>
                    <a:pt x="96" y="66"/>
                  </a:lnTo>
                  <a:lnTo>
                    <a:pt x="84" y="60"/>
                  </a:lnTo>
                  <a:lnTo>
                    <a:pt x="72" y="60"/>
                  </a:lnTo>
                  <a:lnTo>
                    <a:pt x="66" y="54"/>
                  </a:lnTo>
                  <a:lnTo>
                    <a:pt x="54" y="48"/>
                  </a:lnTo>
                  <a:lnTo>
                    <a:pt x="42" y="48"/>
                  </a:lnTo>
                  <a:lnTo>
                    <a:pt x="30" y="42"/>
                  </a:lnTo>
                  <a:lnTo>
                    <a:pt x="18" y="36"/>
                  </a:lnTo>
                  <a:lnTo>
                    <a:pt x="18" y="30"/>
                  </a:lnTo>
                  <a:lnTo>
                    <a:pt x="12" y="18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59"/>
            <p:cNvSpPr/>
            <p:nvPr/>
          </p:nvSpPr>
          <p:spPr>
            <a:xfrm>
              <a:off x="7307280" y="584280"/>
              <a:ext cx="114480" cy="16200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72" h="102">
                  <a:moveTo>
                    <a:pt x="0" y="102"/>
                  </a:moveTo>
                  <a:lnTo>
                    <a:pt x="0" y="96"/>
                  </a:lnTo>
                  <a:lnTo>
                    <a:pt x="0" y="84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2" y="60"/>
                  </a:lnTo>
                  <a:lnTo>
                    <a:pt x="18" y="54"/>
                  </a:lnTo>
                  <a:lnTo>
                    <a:pt x="30" y="48"/>
                  </a:lnTo>
                  <a:lnTo>
                    <a:pt x="36" y="36"/>
                  </a:lnTo>
                  <a:lnTo>
                    <a:pt x="48" y="30"/>
                  </a:lnTo>
                  <a:lnTo>
                    <a:pt x="54" y="18"/>
                  </a:lnTo>
                  <a:lnTo>
                    <a:pt x="66" y="12"/>
                  </a:lnTo>
                  <a:lnTo>
                    <a:pt x="72" y="0"/>
                  </a:lnTo>
                  <a:lnTo>
                    <a:pt x="66" y="12"/>
                  </a:lnTo>
                  <a:lnTo>
                    <a:pt x="66" y="24"/>
                  </a:lnTo>
                  <a:lnTo>
                    <a:pt x="60" y="30"/>
                  </a:lnTo>
                  <a:lnTo>
                    <a:pt x="54" y="42"/>
                  </a:lnTo>
                  <a:lnTo>
                    <a:pt x="54" y="54"/>
                  </a:lnTo>
                  <a:lnTo>
                    <a:pt x="48" y="66"/>
                  </a:lnTo>
                  <a:lnTo>
                    <a:pt x="48" y="72"/>
                  </a:lnTo>
                  <a:lnTo>
                    <a:pt x="42" y="84"/>
                  </a:lnTo>
                  <a:lnTo>
                    <a:pt x="36" y="84"/>
                  </a:lnTo>
                  <a:lnTo>
                    <a:pt x="30" y="90"/>
                  </a:lnTo>
                  <a:lnTo>
                    <a:pt x="24" y="90"/>
                  </a:lnTo>
                  <a:lnTo>
                    <a:pt x="18" y="96"/>
                  </a:lnTo>
                  <a:lnTo>
                    <a:pt x="12" y="96"/>
                  </a:lnTo>
                  <a:lnTo>
                    <a:pt x="6" y="10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60"/>
            <p:cNvSpPr/>
            <p:nvPr/>
          </p:nvSpPr>
          <p:spPr>
            <a:xfrm>
              <a:off x="6993000" y="679680"/>
              <a:ext cx="142920" cy="1047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90" h="66">
                  <a:moveTo>
                    <a:pt x="90" y="66"/>
                  </a:moveTo>
                  <a:lnTo>
                    <a:pt x="90" y="66"/>
                  </a:lnTo>
                  <a:lnTo>
                    <a:pt x="84" y="66"/>
                  </a:lnTo>
                  <a:lnTo>
                    <a:pt x="78" y="66"/>
                  </a:lnTo>
                  <a:lnTo>
                    <a:pt x="72" y="66"/>
                  </a:lnTo>
                  <a:lnTo>
                    <a:pt x="66" y="66"/>
                  </a:lnTo>
                  <a:lnTo>
                    <a:pt x="54" y="60"/>
                  </a:lnTo>
                  <a:lnTo>
                    <a:pt x="48" y="48"/>
                  </a:lnTo>
                  <a:lnTo>
                    <a:pt x="36" y="42"/>
                  </a:lnTo>
                  <a:lnTo>
                    <a:pt x="30" y="30"/>
                  </a:lnTo>
                  <a:lnTo>
                    <a:pt x="24" y="24"/>
                  </a:lnTo>
                  <a:lnTo>
                    <a:pt x="12" y="18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0"/>
                  </a:lnTo>
                  <a:lnTo>
                    <a:pt x="18" y="6"/>
                  </a:lnTo>
                  <a:lnTo>
                    <a:pt x="24" y="12"/>
                  </a:lnTo>
                  <a:lnTo>
                    <a:pt x="36" y="12"/>
                  </a:lnTo>
                  <a:lnTo>
                    <a:pt x="48" y="18"/>
                  </a:lnTo>
                  <a:lnTo>
                    <a:pt x="54" y="24"/>
                  </a:lnTo>
                  <a:lnTo>
                    <a:pt x="66" y="24"/>
                  </a:lnTo>
                  <a:lnTo>
                    <a:pt x="72" y="30"/>
                  </a:lnTo>
                  <a:lnTo>
                    <a:pt x="78" y="36"/>
                  </a:lnTo>
                  <a:lnTo>
                    <a:pt x="84" y="48"/>
                  </a:lnTo>
                  <a:lnTo>
                    <a:pt x="90" y="60"/>
                  </a:lnTo>
                  <a:lnTo>
                    <a:pt x="90" y="66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26" name=""/>
          <p:cNvGraphicFramePr/>
          <p:nvPr/>
        </p:nvGraphicFramePr>
        <p:xfrm>
          <a:off x="395280" y="2924280"/>
          <a:ext cx="7129440" cy="3168720"/>
        </p:xfrm>
        <a:graphic>
          <a:graphicData uri="http://schemas.openxmlformats.org/drawingml/2006/table">
            <a:tbl>
              <a:tblPr/>
              <a:tblGrid>
                <a:gridCol w="3564000"/>
                <a:gridCol w="3565440"/>
              </a:tblGrid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البرمجة بالعناص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البرمجة الاجرائ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المستخدم ونظام التشغيل والبرنامج جميعها تتحكم في مسار تنفيذ البرنام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البرنامج وحده يتحكم في مسار تنفيذ البرنامج امراً بعد امر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سهولة انشاء واجهة المستخد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صعوبة إنشاء واجهة المستخد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1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سهولة الربط مع قواعد البيانات المختلف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صعوبة الربط مع قواعد البينات المختلف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يتم استخدام الكائنات لتنفيذ البرنام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يتم كتابة الاوامر من المستخدم لتنفيذ البرنامج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Rectangle 4" descr=""/>
          <p:cNvPicPr/>
          <p:nvPr/>
        </p:nvPicPr>
        <p:blipFill>
          <a:blip r:embed="rId1"/>
          <a:stretch/>
        </p:blipFill>
        <p:spPr>
          <a:xfrm>
            <a:off x="152280" y="268200"/>
            <a:ext cx="8510760" cy="1474920"/>
          </a:xfrm>
          <a:prstGeom prst="rect">
            <a:avLst/>
          </a:prstGeom>
          <a:ln w="0">
            <a:noFill/>
          </a:ln>
        </p:spPr>
      </p:pic>
      <p:grpSp>
        <p:nvGrpSpPr>
          <p:cNvPr id="328" name="Group 44"/>
          <p:cNvGrpSpPr/>
          <p:nvPr/>
        </p:nvGrpSpPr>
        <p:grpSpPr>
          <a:xfrm>
            <a:off x="826920" y="260280"/>
            <a:ext cx="1181160" cy="1181160"/>
            <a:chOff x="826920" y="260280"/>
            <a:chExt cx="1181160" cy="1181160"/>
          </a:xfrm>
        </p:grpSpPr>
        <p:sp>
          <p:nvSpPr>
            <p:cNvPr id="329" name="Freeform 45"/>
            <p:cNvSpPr/>
            <p:nvPr/>
          </p:nvSpPr>
          <p:spPr>
            <a:xfrm>
              <a:off x="1503000" y="1079640"/>
              <a:ext cx="181080" cy="33336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14" h="210">
                  <a:moveTo>
                    <a:pt x="6" y="0"/>
                  </a:moveTo>
                  <a:lnTo>
                    <a:pt x="18" y="0"/>
                  </a:lnTo>
                  <a:lnTo>
                    <a:pt x="24" y="6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2" y="18"/>
                  </a:lnTo>
                  <a:lnTo>
                    <a:pt x="48" y="24"/>
                  </a:lnTo>
                  <a:lnTo>
                    <a:pt x="60" y="24"/>
                  </a:lnTo>
                  <a:lnTo>
                    <a:pt x="66" y="30"/>
                  </a:lnTo>
                  <a:lnTo>
                    <a:pt x="72" y="54"/>
                  </a:lnTo>
                  <a:lnTo>
                    <a:pt x="78" y="72"/>
                  </a:lnTo>
                  <a:lnTo>
                    <a:pt x="84" y="96"/>
                  </a:lnTo>
                  <a:lnTo>
                    <a:pt x="90" y="120"/>
                  </a:lnTo>
                  <a:lnTo>
                    <a:pt x="96" y="144"/>
                  </a:lnTo>
                  <a:lnTo>
                    <a:pt x="102" y="168"/>
                  </a:lnTo>
                  <a:lnTo>
                    <a:pt x="108" y="186"/>
                  </a:lnTo>
                  <a:lnTo>
                    <a:pt x="114" y="210"/>
                  </a:lnTo>
                  <a:lnTo>
                    <a:pt x="96" y="198"/>
                  </a:lnTo>
                  <a:lnTo>
                    <a:pt x="84" y="180"/>
                  </a:lnTo>
                  <a:lnTo>
                    <a:pt x="72" y="162"/>
                  </a:lnTo>
                  <a:lnTo>
                    <a:pt x="60" y="144"/>
                  </a:lnTo>
                  <a:lnTo>
                    <a:pt x="42" y="132"/>
                  </a:lnTo>
                  <a:lnTo>
                    <a:pt x="30" y="114"/>
                  </a:lnTo>
                  <a:lnTo>
                    <a:pt x="18" y="96"/>
                  </a:lnTo>
                  <a:lnTo>
                    <a:pt x="0" y="78"/>
                  </a:lnTo>
                  <a:lnTo>
                    <a:pt x="6" y="60"/>
                  </a:lnTo>
                  <a:lnTo>
                    <a:pt x="6" y="36"/>
                  </a:lnTo>
                  <a:lnTo>
                    <a:pt x="6" y="1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6"/>
            <p:cNvSpPr/>
            <p:nvPr/>
          </p:nvSpPr>
          <p:spPr>
            <a:xfrm>
              <a:off x="1617480" y="574920"/>
              <a:ext cx="352440" cy="18072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22" h="114">
                  <a:moveTo>
                    <a:pt x="0" y="108"/>
                  </a:moveTo>
                  <a:lnTo>
                    <a:pt x="6" y="102"/>
                  </a:lnTo>
                  <a:lnTo>
                    <a:pt x="12" y="96"/>
                  </a:lnTo>
                  <a:lnTo>
                    <a:pt x="12" y="84"/>
                  </a:lnTo>
                  <a:lnTo>
                    <a:pt x="18" y="78"/>
                  </a:lnTo>
                  <a:lnTo>
                    <a:pt x="24" y="72"/>
                  </a:lnTo>
                  <a:lnTo>
                    <a:pt x="30" y="66"/>
                  </a:lnTo>
                  <a:lnTo>
                    <a:pt x="30" y="54"/>
                  </a:lnTo>
                  <a:lnTo>
                    <a:pt x="36" y="48"/>
                  </a:lnTo>
                  <a:lnTo>
                    <a:pt x="48" y="48"/>
                  </a:lnTo>
                  <a:lnTo>
                    <a:pt x="60" y="42"/>
                  </a:lnTo>
                  <a:lnTo>
                    <a:pt x="72" y="42"/>
                  </a:lnTo>
                  <a:lnTo>
                    <a:pt x="84" y="36"/>
                  </a:lnTo>
                  <a:lnTo>
                    <a:pt x="96" y="36"/>
                  </a:lnTo>
                  <a:lnTo>
                    <a:pt x="108" y="30"/>
                  </a:lnTo>
                  <a:lnTo>
                    <a:pt x="120" y="30"/>
                  </a:lnTo>
                  <a:lnTo>
                    <a:pt x="132" y="24"/>
                  </a:lnTo>
                  <a:lnTo>
                    <a:pt x="144" y="24"/>
                  </a:lnTo>
                  <a:lnTo>
                    <a:pt x="150" y="18"/>
                  </a:lnTo>
                  <a:lnTo>
                    <a:pt x="168" y="18"/>
                  </a:lnTo>
                  <a:lnTo>
                    <a:pt x="174" y="12"/>
                  </a:lnTo>
                  <a:lnTo>
                    <a:pt x="186" y="12"/>
                  </a:lnTo>
                  <a:lnTo>
                    <a:pt x="198" y="6"/>
                  </a:lnTo>
                  <a:lnTo>
                    <a:pt x="210" y="6"/>
                  </a:lnTo>
                  <a:lnTo>
                    <a:pt x="222" y="0"/>
                  </a:lnTo>
                  <a:lnTo>
                    <a:pt x="216" y="12"/>
                  </a:lnTo>
                  <a:lnTo>
                    <a:pt x="204" y="18"/>
                  </a:lnTo>
                  <a:lnTo>
                    <a:pt x="198" y="24"/>
                  </a:lnTo>
                  <a:lnTo>
                    <a:pt x="192" y="30"/>
                  </a:lnTo>
                  <a:lnTo>
                    <a:pt x="180" y="36"/>
                  </a:lnTo>
                  <a:lnTo>
                    <a:pt x="174" y="42"/>
                  </a:lnTo>
                  <a:lnTo>
                    <a:pt x="162" y="54"/>
                  </a:lnTo>
                  <a:lnTo>
                    <a:pt x="156" y="60"/>
                  </a:lnTo>
                  <a:lnTo>
                    <a:pt x="144" y="66"/>
                  </a:lnTo>
                  <a:lnTo>
                    <a:pt x="138" y="72"/>
                  </a:lnTo>
                  <a:lnTo>
                    <a:pt x="132" y="78"/>
                  </a:lnTo>
                  <a:lnTo>
                    <a:pt x="120" y="84"/>
                  </a:lnTo>
                  <a:lnTo>
                    <a:pt x="114" y="96"/>
                  </a:lnTo>
                  <a:lnTo>
                    <a:pt x="102" y="102"/>
                  </a:lnTo>
                  <a:lnTo>
                    <a:pt x="96" y="108"/>
                  </a:lnTo>
                  <a:lnTo>
                    <a:pt x="84" y="114"/>
                  </a:lnTo>
                  <a:lnTo>
                    <a:pt x="72" y="114"/>
                  </a:lnTo>
                  <a:lnTo>
                    <a:pt x="66" y="114"/>
                  </a:lnTo>
                  <a:lnTo>
                    <a:pt x="54" y="114"/>
                  </a:lnTo>
                  <a:lnTo>
                    <a:pt x="42" y="114"/>
                  </a:lnTo>
                  <a:lnTo>
                    <a:pt x="30" y="108"/>
                  </a:lnTo>
                  <a:lnTo>
                    <a:pt x="24" y="108"/>
                  </a:lnTo>
                  <a:lnTo>
                    <a:pt x="12" y="108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47"/>
            <p:cNvSpPr/>
            <p:nvPr/>
          </p:nvSpPr>
          <p:spPr>
            <a:xfrm>
              <a:off x="1131840" y="298440"/>
              <a:ext cx="171360" cy="3524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108" h="222">
                  <a:moveTo>
                    <a:pt x="102" y="222"/>
                  </a:moveTo>
                  <a:lnTo>
                    <a:pt x="96" y="216"/>
                  </a:lnTo>
                  <a:lnTo>
                    <a:pt x="84" y="210"/>
                  </a:lnTo>
                  <a:lnTo>
                    <a:pt x="78" y="204"/>
                  </a:lnTo>
                  <a:lnTo>
                    <a:pt x="72" y="204"/>
                  </a:lnTo>
                  <a:lnTo>
                    <a:pt x="66" y="198"/>
                  </a:lnTo>
                  <a:lnTo>
                    <a:pt x="60" y="192"/>
                  </a:lnTo>
                  <a:lnTo>
                    <a:pt x="54" y="192"/>
                  </a:lnTo>
                  <a:lnTo>
                    <a:pt x="48" y="186"/>
                  </a:lnTo>
                  <a:lnTo>
                    <a:pt x="42" y="162"/>
                  </a:lnTo>
                  <a:lnTo>
                    <a:pt x="36" y="138"/>
                  </a:lnTo>
                  <a:lnTo>
                    <a:pt x="30" y="114"/>
                  </a:lnTo>
                  <a:lnTo>
                    <a:pt x="24" y="90"/>
                  </a:lnTo>
                  <a:lnTo>
                    <a:pt x="18" y="72"/>
                  </a:lnTo>
                  <a:lnTo>
                    <a:pt x="12" y="48"/>
                  </a:lnTo>
                  <a:lnTo>
                    <a:pt x="6" y="24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4" y="30"/>
                  </a:lnTo>
                  <a:lnTo>
                    <a:pt x="42" y="48"/>
                  </a:lnTo>
                  <a:lnTo>
                    <a:pt x="54" y="66"/>
                  </a:lnTo>
                  <a:lnTo>
                    <a:pt x="66" y="84"/>
                  </a:lnTo>
                  <a:lnTo>
                    <a:pt x="78" y="96"/>
                  </a:lnTo>
                  <a:lnTo>
                    <a:pt x="96" y="114"/>
                  </a:lnTo>
                  <a:lnTo>
                    <a:pt x="108" y="132"/>
                  </a:lnTo>
                  <a:lnTo>
                    <a:pt x="102" y="156"/>
                  </a:lnTo>
                  <a:lnTo>
                    <a:pt x="102" y="174"/>
                  </a:lnTo>
                  <a:lnTo>
                    <a:pt x="102" y="198"/>
                  </a:lnTo>
                  <a:lnTo>
                    <a:pt x="102" y="222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48"/>
            <p:cNvSpPr/>
            <p:nvPr/>
          </p:nvSpPr>
          <p:spPr>
            <a:xfrm>
              <a:off x="855360" y="965160"/>
              <a:ext cx="333360" cy="16200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210" h="102">
                  <a:moveTo>
                    <a:pt x="210" y="6"/>
                  </a:moveTo>
                  <a:lnTo>
                    <a:pt x="204" y="12"/>
                  </a:lnTo>
                  <a:lnTo>
                    <a:pt x="204" y="18"/>
                  </a:lnTo>
                  <a:lnTo>
                    <a:pt x="198" y="24"/>
                  </a:lnTo>
                  <a:lnTo>
                    <a:pt x="198" y="30"/>
                  </a:lnTo>
                  <a:lnTo>
                    <a:pt x="192" y="36"/>
                  </a:lnTo>
                  <a:lnTo>
                    <a:pt x="186" y="42"/>
                  </a:lnTo>
                  <a:lnTo>
                    <a:pt x="186" y="48"/>
                  </a:lnTo>
                  <a:lnTo>
                    <a:pt x="180" y="54"/>
                  </a:lnTo>
                  <a:lnTo>
                    <a:pt x="168" y="60"/>
                  </a:lnTo>
                  <a:lnTo>
                    <a:pt x="162" y="60"/>
                  </a:lnTo>
                  <a:lnTo>
                    <a:pt x="150" y="66"/>
                  </a:lnTo>
                  <a:lnTo>
                    <a:pt x="138" y="66"/>
                  </a:lnTo>
                  <a:lnTo>
                    <a:pt x="126" y="72"/>
                  </a:lnTo>
                  <a:lnTo>
                    <a:pt x="114" y="72"/>
                  </a:lnTo>
                  <a:lnTo>
                    <a:pt x="102" y="78"/>
                  </a:lnTo>
                  <a:lnTo>
                    <a:pt x="90" y="78"/>
                  </a:lnTo>
                  <a:lnTo>
                    <a:pt x="78" y="84"/>
                  </a:lnTo>
                  <a:lnTo>
                    <a:pt x="66" y="84"/>
                  </a:lnTo>
                  <a:lnTo>
                    <a:pt x="60" y="90"/>
                  </a:lnTo>
                  <a:lnTo>
                    <a:pt x="48" y="90"/>
                  </a:lnTo>
                  <a:lnTo>
                    <a:pt x="36" y="96"/>
                  </a:lnTo>
                  <a:lnTo>
                    <a:pt x="24" y="96"/>
                  </a:lnTo>
                  <a:lnTo>
                    <a:pt x="12" y="96"/>
                  </a:lnTo>
                  <a:lnTo>
                    <a:pt x="0" y="102"/>
                  </a:lnTo>
                  <a:lnTo>
                    <a:pt x="6" y="96"/>
                  </a:lnTo>
                  <a:lnTo>
                    <a:pt x="18" y="90"/>
                  </a:lnTo>
                  <a:lnTo>
                    <a:pt x="24" y="84"/>
                  </a:lnTo>
                  <a:lnTo>
                    <a:pt x="30" y="78"/>
                  </a:lnTo>
                  <a:lnTo>
                    <a:pt x="42" y="72"/>
                  </a:lnTo>
                  <a:lnTo>
                    <a:pt x="48" y="60"/>
                  </a:lnTo>
                  <a:lnTo>
                    <a:pt x="54" y="54"/>
                  </a:lnTo>
                  <a:lnTo>
                    <a:pt x="66" y="48"/>
                  </a:lnTo>
                  <a:lnTo>
                    <a:pt x="72" y="42"/>
                  </a:lnTo>
                  <a:lnTo>
                    <a:pt x="78" y="36"/>
                  </a:lnTo>
                  <a:lnTo>
                    <a:pt x="90" y="30"/>
                  </a:lnTo>
                  <a:lnTo>
                    <a:pt x="96" y="24"/>
                  </a:lnTo>
                  <a:lnTo>
                    <a:pt x="102" y="18"/>
                  </a:lnTo>
                  <a:lnTo>
                    <a:pt x="114" y="12"/>
                  </a:lnTo>
                  <a:lnTo>
                    <a:pt x="120" y="6"/>
                  </a:lnTo>
                  <a:lnTo>
                    <a:pt x="126" y="0"/>
                  </a:lnTo>
                  <a:lnTo>
                    <a:pt x="138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8" y="0"/>
                  </a:lnTo>
                  <a:lnTo>
                    <a:pt x="180" y="0"/>
                  </a:lnTo>
                  <a:lnTo>
                    <a:pt x="192" y="6"/>
                  </a:lnTo>
                  <a:lnTo>
                    <a:pt x="198" y="6"/>
                  </a:lnTo>
                  <a:lnTo>
                    <a:pt x="210" y="6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49"/>
            <p:cNvSpPr/>
            <p:nvPr/>
          </p:nvSpPr>
          <p:spPr>
            <a:xfrm>
              <a:off x="1417320" y="974880"/>
              <a:ext cx="57240" cy="19044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36" h="120">
                  <a:moveTo>
                    <a:pt x="12" y="0"/>
                  </a:moveTo>
                  <a:lnTo>
                    <a:pt x="12" y="0"/>
                  </a:lnTo>
                  <a:lnTo>
                    <a:pt x="18" y="6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36" y="24"/>
                  </a:lnTo>
                  <a:lnTo>
                    <a:pt x="36" y="48"/>
                  </a:lnTo>
                  <a:lnTo>
                    <a:pt x="36" y="72"/>
                  </a:lnTo>
                  <a:lnTo>
                    <a:pt x="36" y="96"/>
                  </a:lnTo>
                  <a:lnTo>
                    <a:pt x="36" y="120"/>
                  </a:lnTo>
                  <a:lnTo>
                    <a:pt x="30" y="108"/>
                  </a:lnTo>
                  <a:lnTo>
                    <a:pt x="24" y="96"/>
                  </a:lnTo>
                  <a:lnTo>
                    <a:pt x="18" y="90"/>
                  </a:lnTo>
                  <a:lnTo>
                    <a:pt x="18" y="78"/>
                  </a:lnTo>
                  <a:lnTo>
                    <a:pt x="12" y="66"/>
                  </a:lnTo>
                  <a:lnTo>
                    <a:pt x="6" y="60"/>
                  </a:lnTo>
                  <a:lnTo>
                    <a:pt x="0" y="48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50"/>
            <p:cNvSpPr/>
            <p:nvPr/>
          </p:nvSpPr>
          <p:spPr>
            <a:xfrm>
              <a:off x="1531800" y="784440"/>
              <a:ext cx="190440" cy="666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120" h="42">
                  <a:moveTo>
                    <a:pt x="0" y="24"/>
                  </a:moveTo>
                  <a:lnTo>
                    <a:pt x="0" y="24"/>
                  </a:lnTo>
                  <a:lnTo>
                    <a:pt x="6" y="18"/>
                  </a:lnTo>
                  <a:lnTo>
                    <a:pt x="12" y="12"/>
                  </a:lnTo>
                  <a:lnTo>
                    <a:pt x="18" y="6"/>
                  </a:lnTo>
                  <a:lnTo>
                    <a:pt x="24" y="0"/>
                  </a:lnTo>
                  <a:lnTo>
                    <a:pt x="36" y="0"/>
                  </a:lnTo>
                  <a:lnTo>
                    <a:pt x="48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84" y="6"/>
                  </a:lnTo>
                  <a:lnTo>
                    <a:pt x="96" y="6"/>
                  </a:lnTo>
                  <a:lnTo>
                    <a:pt x="108" y="6"/>
                  </a:lnTo>
                  <a:lnTo>
                    <a:pt x="120" y="6"/>
                  </a:lnTo>
                  <a:lnTo>
                    <a:pt x="114" y="6"/>
                  </a:lnTo>
                  <a:lnTo>
                    <a:pt x="102" y="12"/>
                  </a:lnTo>
                  <a:lnTo>
                    <a:pt x="90" y="18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60" y="30"/>
                  </a:lnTo>
                  <a:lnTo>
                    <a:pt x="48" y="36"/>
                  </a:lnTo>
                  <a:lnTo>
                    <a:pt x="36" y="42"/>
                  </a:lnTo>
                  <a:lnTo>
                    <a:pt x="36" y="36"/>
                  </a:lnTo>
                  <a:lnTo>
                    <a:pt x="30" y="36"/>
                  </a:lnTo>
                  <a:lnTo>
                    <a:pt x="24" y="36"/>
                  </a:lnTo>
                  <a:lnTo>
                    <a:pt x="18" y="36"/>
                  </a:lnTo>
                  <a:lnTo>
                    <a:pt x="12" y="30"/>
                  </a:lnTo>
                  <a:lnTo>
                    <a:pt x="6" y="3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51"/>
            <p:cNvSpPr/>
            <p:nvPr/>
          </p:nvSpPr>
          <p:spPr>
            <a:xfrm>
              <a:off x="1350720" y="546120"/>
              <a:ext cx="57240" cy="19044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36" h="120">
                  <a:moveTo>
                    <a:pt x="18" y="120"/>
                  </a:moveTo>
                  <a:lnTo>
                    <a:pt x="18" y="114"/>
                  </a:lnTo>
                  <a:lnTo>
                    <a:pt x="12" y="114"/>
                  </a:lnTo>
                  <a:lnTo>
                    <a:pt x="12" y="108"/>
                  </a:lnTo>
                  <a:lnTo>
                    <a:pt x="6" y="108"/>
                  </a:lnTo>
                  <a:lnTo>
                    <a:pt x="6" y="102"/>
                  </a:lnTo>
                  <a:lnTo>
                    <a:pt x="0" y="96"/>
                  </a:lnTo>
                  <a:lnTo>
                    <a:pt x="0" y="72"/>
                  </a:lnTo>
                  <a:lnTo>
                    <a:pt x="0" y="48"/>
                  </a:lnTo>
                  <a:lnTo>
                    <a:pt x="0" y="24"/>
                  </a:lnTo>
                  <a:lnTo>
                    <a:pt x="0" y="0"/>
                  </a:lnTo>
                  <a:lnTo>
                    <a:pt x="6" y="6"/>
                  </a:lnTo>
                  <a:lnTo>
                    <a:pt x="6" y="18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24" y="48"/>
                  </a:lnTo>
                  <a:lnTo>
                    <a:pt x="24" y="54"/>
                  </a:lnTo>
                  <a:lnTo>
                    <a:pt x="30" y="66"/>
                  </a:lnTo>
                  <a:lnTo>
                    <a:pt x="36" y="78"/>
                  </a:lnTo>
                  <a:lnTo>
                    <a:pt x="30" y="84"/>
                  </a:lnTo>
                  <a:lnTo>
                    <a:pt x="24" y="96"/>
                  </a:lnTo>
                  <a:lnTo>
                    <a:pt x="24" y="108"/>
                  </a:lnTo>
                  <a:lnTo>
                    <a:pt x="18" y="12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52"/>
            <p:cNvSpPr/>
            <p:nvPr/>
          </p:nvSpPr>
          <p:spPr>
            <a:xfrm>
              <a:off x="1103040" y="860400"/>
              <a:ext cx="190440" cy="572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120" h="36">
                  <a:moveTo>
                    <a:pt x="120" y="12"/>
                  </a:moveTo>
                  <a:lnTo>
                    <a:pt x="114" y="18"/>
                  </a:lnTo>
                  <a:lnTo>
                    <a:pt x="108" y="24"/>
                  </a:lnTo>
                  <a:lnTo>
                    <a:pt x="102" y="30"/>
                  </a:lnTo>
                  <a:lnTo>
                    <a:pt x="96" y="36"/>
                  </a:lnTo>
                  <a:lnTo>
                    <a:pt x="84" y="36"/>
                  </a:lnTo>
                  <a:lnTo>
                    <a:pt x="72" y="36"/>
                  </a:lnTo>
                  <a:lnTo>
                    <a:pt x="60" y="36"/>
                  </a:lnTo>
                  <a:lnTo>
                    <a:pt x="48" y="30"/>
                  </a:lnTo>
                  <a:lnTo>
                    <a:pt x="36" y="30"/>
                  </a:lnTo>
                  <a:lnTo>
                    <a:pt x="24" y="30"/>
                  </a:lnTo>
                  <a:lnTo>
                    <a:pt x="12" y="30"/>
                  </a:lnTo>
                  <a:lnTo>
                    <a:pt x="0" y="30"/>
                  </a:lnTo>
                  <a:lnTo>
                    <a:pt x="12" y="30"/>
                  </a:lnTo>
                  <a:lnTo>
                    <a:pt x="24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60" y="6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0" y="6"/>
                  </a:lnTo>
                  <a:lnTo>
                    <a:pt x="96" y="6"/>
                  </a:lnTo>
                  <a:lnTo>
                    <a:pt x="102" y="6"/>
                  </a:lnTo>
                  <a:lnTo>
                    <a:pt x="108" y="6"/>
                  </a:lnTo>
                  <a:lnTo>
                    <a:pt x="114" y="12"/>
                  </a:lnTo>
                  <a:lnTo>
                    <a:pt x="120" y="12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53"/>
            <p:cNvSpPr/>
            <p:nvPr/>
          </p:nvSpPr>
          <p:spPr>
            <a:xfrm>
              <a:off x="1207800" y="1089000"/>
              <a:ext cx="152640" cy="35244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96" h="222">
                  <a:moveTo>
                    <a:pt x="78" y="0"/>
                  </a:moveTo>
                  <a:lnTo>
                    <a:pt x="84" y="12"/>
                  </a:lnTo>
                  <a:lnTo>
                    <a:pt x="90" y="30"/>
                  </a:lnTo>
                  <a:lnTo>
                    <a:pt x="90" y="42"/>
                  </a:lnTo>
                  <a:lnTo>
                    <a:pt x="96" y="60"/>
                  </a:lnTo>
                  <a:lnTo>
                    <a:pt x="84" y="78"/>
                  </a:lnTo>
                  <a:lnTo>
                    <a:pt x="72" y="96"/>
                  </a:lnTo>
                  <a:lnTo>
                    <a:pt x="60" y="120"/>
                  </a:lnTo>
                  <a:lnTo>
                    <a:pt x="48" y="138"/>
                  </a:lnTo>
                  <a:lnTo>
                    <a:pt x="36" y="162"/>
                  </a:lnTo>
                  <a:lnTo>
                    <a:pt x="24" y="180"/>
                  </a:lnTo>
                  <a:lnTo>
                    <a:pt x="12" y="204"/>
                  </a:lnTo>
                  <a:lnTo>
                    <a:pt x="0" y="222"/>
                  </a:lnTo>
                  <a:lnTo>
                    <a:pt x="6" y="180"/>
                  </a:lnTo>
                  <a:lnTo>
                    <a:pt x="6" y="138"/>
                  </a:lnTo>
                  <a:lnTo>
                    <a:pt x="12" y="90"/>
                  </a:lnTo>
                  <a:lnTo>
                    <a:pt x="18" y="48"/>
                  </a:lnTo>
                  <a:lnTo>
                    <a:pt x="24" y="42"/>
                  </a:lnTo>
                  <a:lnTo>
                    <a:pt x="30" y="36"/>
                  </a:lnTo>
                  <a:lnTo>
                    <a:pt x="42" y="30"/>
                  </a:lnTo>
                  <a:lnTo>
                    <a:pt x="48" y="24"/>
                  </a:lnTo>
                  <a:lnTo>
                    <a:pt x="54" y="18"/>
                  </a:lnTo>
                  <a:lnTo>
                    <a:pt x="60" y="12"/>
                  </a:lnTo>
                  <a:lnTo>
                    <a:pt x="72" y="6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54"/>
            <p:cNvSpPr/>
            <p:nvPr/>
          </p:nvSpPr>
          <p:spPr>
            <a:xfrm>
              <a:off x="1636560" y="898560"/>
              <a:ext cx="371520" cy="15264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234" h="96">
                  <a:moveTo>
                    <a:pt x="0" y="18"/>
                  </a:moveTo>
                  <a:lnTo>
                    <a:pt x="12" y="12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8" y="6"/>
                  </a:lnTo>
                  <a:lnTo>
                    <a:pt x="90" y="12"/>
                  </a:lnTo>
                  <a:lnTo>
                    <a:pt x="102" y="18"/>
                  </a:lnTo>
                  <a:lnTo>
                    <a:pt x="108" y="24"/>
                  </a:lnTo>
                  <a:lnTo>
                    <a:pt x="120" y="30"/>
                  </a:lnTo>
                  <a:lnTo>
                    <a:pt x="132" y="36"/>
                  </a:lnTo>
                  <a:lnTo>
                    <a:pt x="138" y="42"/>
                  </a:lnTo>
                  <a:lnTo>
                    <a:pt x="150" y="48"/>
                  </a:lnTo>
                  <a:lnTo>
                    <a:pt x="162" y="54"/>
                  </a:lnTo>
                  <a:lnTo>
                    <a:pt x="174" y="60"/>
                  </a:lnTo>
                  <a:lnTo>
                    <a:pt x="180" y="66"/>
                  </a:lnTo>
                  <a:lnTo>
                    <a:pt x="192" y="72"/>
                  </a:lnTo>
                  <a:lnTo>
                    <a:pt x="204" y="78"/>
                  </a:lnTo>
                  <a:lnTo>
                    <a:pt x="216" y="84"/>
                  </a:lnTo>
                  <a:lnTo>
                    <a:pt x="222" y="90"/>
                  </a:lnTo>
                  <a:lnTo>
                    <a:pt x="234" y="96"/>
                  </a:lnTo>
                  <a:lnTo>
                    <a:pt x="222" y="96"/>
                  </a:lnTo>
                  <a:lnTo>
                    <a:pt x="210" y="96"/>
                  </a:lnTo>
                  <a:lnTo>
                    <a:pt x="198" y="96"/>
                  </a:lnTo>
                  <a:lnTo>
                    <a:pt x="192" y="96"/>
                  </a:lnTo>
                  <a:lnTo>
                    <a:pt x="180" y="90"/>
                  </a:lnTo>
                  <a:lnTo>
                    <a:pt x="168" y="90"/>
                  </a:lnTo>
                  <a:lnTo>
                    <a:pt x="156" y="90"/>
                  </a:lnTo>
                  <a:lnTo>
                    <a:pt x="144" y="90"/>
                  </a:lnTo>
                  <a:lnTo>
                    <a:pt x="132" y="90"/>
                  </a:lnTo>
                  <a:lnTo>
                    <a:pt x="126" y="84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90" y="84"/>
                  </a:lnTo>
                  <a:lnTo>
                    <a:pt x="78" y="84"/>
                  </a:lnTo>
                  <a:lnTo>
                    <a:pt x="66" y="84"/>
                  </a:lnTo>
                  <a:lnTo>
                    <a:pt x="54" y="78"/>
                  </a:lnTo>
                  <a:lnTo>
                    <a:pt x="48" y="72"/>
                  </a:lnTo>
                  <a:lnTo>
                    <a:pt x="42" y="66"/>
                  </a:lnTo>
                  <a:lnTo>
                    <a:pt x="36" y="54"/>
                  </a:lnTo>
                  <a:lnTo>
                    <a:pt x="30" y="48"/>
                  </a:lnTo>
                  <a:lnTo>
                    <a:pt x="24" y="42"/>
                  </a:lnTo>
                  <a:lnTo>
                    <a:pt x="12" y="30"/>
                  </a:lnTo>
                  <a:lnTo>
                    <a:pt x="6" y="24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55"/>
            <p:cNvSpPr/>
            <p:nvPr/>
          </p:nvSpPr>
          <p:spPr>
            <a:xfrm>
              <a:off x="1455480" y="260280"/>
              <a:ext cx="152280" cy="3621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362160"/>
                <a:gd name="textAreaBottom" fmla="*/ 362520 h 362160"/>
              </a:gdLst>
              <a:ahLst/>
              <a:rect l="textAreaLeft" t="textAreaTop" r="textAreaRight" b="textAreaBottom"/>
              <a:pathLst>
                <a:path w="96" h="228">
                  <a:moveTo>
                    <a:pt x="12" y="228"/>
                  </a:moveTo>
                  <a:lnTo>
                    <a:pt x="12" y="210"/>
                  </a:lnTo>
                  <a:lnTo>
                    <a:pt x="6" y="198"/>
                  </a:lnTo>
                  <a:lnTo>
                    <a:pt x="6" y="180"/>
                  </a:lnTo>
                  <a:lnTo>
                    <a:pt x="0" y="162"/>
                  </a:lnTo>
                  <a:lnTo>
                    <a:pt x="12" y="144"/>
                  </a:lnTo>
                  <a:lnTo>
                    <a:pt x="24" y="126"/>
                  </a:lnTo>
                  <a:lnTo>
                    <a:pt x="36" y="102"/>
                  </a:lnTo>
                  <a:lnTo>
                    <a:pt x="48" y="84"/>
                  </a:lnTo>
                  <a:lnTo>
                    <a:pt x="60" y="60"/>
                  </a:lnTo>
                  <a:lnTo>
                    <a:pt x="72" y="42"/>
                  </a:lnTo>
                  <a:lnTo>
                    <a:pt x="84" y="18"/>
                  </a:lnTo>
                  <a:lnTo>
                    <a:pt x="96" y="0"/>
                  </a:lnTo>
                  <a:lnTo>
                    <a:pt x="96" y="42"/>
                  </a:lnTo>
                  <a:lnTo>
                    <a:pt x="90" y="84"/>
                  </a:lnTo>
                  <a:lnTo>
                    <a:pt x="84" y="126"/>
                  </a:lnTo>
                  <a:lnTo>
                    <a:pt x="78" y="168"/>
                  </a:lnTo>
                  <a:lnTo>
                    <a:pt x="72" y="180"/>
                  </a:lnTo>
                  <a:lnTo>
                    <a:pt x="66" y="186"/>
                  </a:lnTo>
                  <a:lnTo>
                    <a:pt x="54" y="192"/>
                  </a:lnTo>
                  <a:lnTo>
                    <a:pt x="48" y="198"/>
                  </a:lnTo>
                  <a:lnTo>
                    <a:pt x="36" y="204"/>
                  </a:lnTo>
                  <a:lnTo>
                    <a:pt x="30" y="210"/>
                  </a:lnTo>
                  <a:lnTo>
                    <a:pt x="24" y="222"/>
                  </a:lnTo>
                  <a:lnTo>
                    <a:pt x="12" y="228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56"/>
            <p:cNvSpPr/>
            <p:nvPr/>
          </p:nvSpPr>
          <p:spPr>
            <a:xfrm>
              <a:off x="826920" y="650880"/>
              <a:ext cx="352440" cy="15264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222" h="96">
                  <a:moveTo>
                    <a:pt x="222" y="78"/>
                  </a:moveTo>
                  <a:lnTo>
                    <a:pt x="210" y="84"/>
                  </a:lnTo>
                  <a:lnTo>
                    <a:pt x="204" y="84"/>
                  </a:lnTo>
                  <a:lnTo>
                    <a:pt x="198" y="84"/>
                  </a:lnTo>
                  <a:lnTo>
                    <a:pt x="192" y="90"/>
                  </a:lnTo>
                  <a:lnTo>
                    <a:pt x="186" y="90"/>
                  </a:lnTo>
                  <a:lnTo>
                    <a:pt x="180" y="90"/>
                  </a:lnTo>
                  <a:lnTo>
                    <a:pt x="168" y="96"/>
                  </a:lnTo>
                  <a:lnTo>
                    <a:pt x="162" y="96"/>
                  </a:lnTo>
                  <a:lnTo>
                    <a:pt x="156" y="90"/>
                  </a:lnTo>
                  <a:lnTo>
                    <a:pt x="144" y="84"/>
                  </a:lnTo>
                  <a:lnTo>
                    <a:pt x="132" y="78"/>
                  </a:lnTo>
                  <a:lnTo>
                    <a:pt x="126" y="72"/>
                  </a:lnTo>
                  <a:lnTo>
                    <a:pt x="114" y="66"/>
                  </a:lnTo>
                  <a:lnTo>
                    <a:pt x="102" y="60"/>
                  </a:lnTo>
                  <a:lnTo>
                    <a:pt x="90" y="54"/>
                  </a:lnTo>
                  <a:lnTo>
                    <a:pt x="84" y="48"/>
                  </a:lnTo>
                  <a:lnTo>
                    <a:pt x="72" y="42"/>
                  </a:lnTo>
                  <a:lnTo>
                    <a:pt x="60" y="36"/>
                  </a:lnTo>
                  <a:lnTo>
                    <a:pt x="54" y="30"/>
                  </a:lnTo>
                  <a:lnTo>
                    <a:pt x="42" y="24"/>
                  </a:lnTo>
                  <a:lnTo>
                    <a:pt x="30" y="18"/>
                  </a:lnTo>
                  <a:lnTo>
                    <a:pt x="24" y="12"/>
                  </a:lnTo>
                  <a:lnTo>
                    <a:pt x="12" y="6"/>
                  </a:lnTo>
                  <a:lnTo>
                    <a:pt x="0" y="0"/>
                  </a:lnTo>
                  <a:lnTo>
                    <a:pt x="12" y="0"/>
                  </a:lnTo>
                  <a:lnTo>
                    <a:pt x="24" y="6"/>
                  </a:lnTo>
                  <a:lnTo>
                    <a:pt x="30" y="6"/>
                  </a:lnTo>
                  <a:lnTo>
                    <a:pt x="42" y="6"/>
                  </a:lnTo>
                  <a:lnTo>
                    <a:pt x="54" y="6"/>
                  </a:lnTo>
                  <a:lnTo>
                    <a:pt x="60" y="6"/>
                  </a:lnTo>
                  <a:lnTo>
                    <a:pt x="72" y="6"/>
                  </a:lnTo>
                  <a:lnTo>
                    <a:pt x="84" y="6"/>
                  </a:lnTo>
                  <a:lnTo>
                    <a:pt x="90" y="12"/>
                  </a:lnTo>
                  <a:lnTo>
                    <a:pt x="102" y="12"/>
                  </a:lnTo>
                  <a:lnTo>
                    <a:pt x="114" y="12"/>
                  </a:lnTo>
                  <a:lnTo>
                    <a:pt x="126" y="12"/>
                  </a:lnTo>
                  <a:lnTo>
                    <a:pt x="132" y="12"/>
                  </a:lnTo>
                  <a:lnTo>
                    <a:pt x="144" y="18"/>
                  </a:lnTo>
                  <a:lnTo>
                    <a:pt x="156" y="18"/>
                  </a:lnTo>
                  <a:lnTo>
                    <a:pt x="168" y="18"/>
                  </a:lnTo>
                  <a:lnTo>
                    <a:pt x="174" y="24"/>
                  </a:lnTo>
                  <a:lnTo>
                    <a:pt x="180" y="36"/>
                  </a:lnTo>
                  <a:lnTo>
                    <a:pt x="186" y="42"/>
                  </a:lnTo>
                  <a:lnTo>
                    <a:pt x="192" y="48"/>
                  </a:lnTo>
                  <a:lnTo>
                    <a:pt x="198" y="60"/>
                  </a:lnTo>
                  <a:lnTo>
                    <a:pt x="204" y="66"/>
                  </a:lnTo>
                  <a:lnTo>
                    <a:pt x="210" y="72"/>
                  </a:lnTo>
                  <a:lnTo>
                    <a:pt x="222" y="78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57"/>
            <p:cNvSpPr/>
            <p:nvPr/>
          </p:nvSpPr>
          <p:spPr>
            <a:xfrm>
              <a:off x="1236600" y="955800"/>
              <a:ext cx="114120" cy="152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72" h="96">
                  <a:moveTo>
                    <a:pt x="66" y="0"/>
                  </a:moveTo>
                  <a:lnTo>
                    <a:pt x="66" y="6"/>
                  </a:lnTo>
                  <a:lnTo>
                    <a:pt x="72" y="12"/>
                  </a:lnTo>
                  <a:lnTo>
                    <a:pt x="72" y="24"/>
                  </a:lnTo>
                  <a:lnTo>
                    <a:pt x="72" y="30"/>
                  </a:lnTo>
                  <a:lnTo>
                    <a:pt x="60" y="42"/>
                  </a:lnTo>
                  <a:lnTo>
                    <a:pt x="54" y="48"/>
                  </a:lnTo>
                  <a:lnTo>
                    <a:pt x="42" y="54"/>
                  </a:lnTo>
                  <a:lnTo>
                    <a:pt x="36" y="66"/>
                  </a:lnTo>
                  <a:lnTo>
                    <a:pt x="24" y="72"/>
                  </a:lnTo>
                  <a:lnTo>
                    <a:pt x="18" y="84"/>
                  </a:lnTo>
                  <a:lnTo>
                    <a:pt x="12" y="90"/>
                  </a:lnTo>
                  <a:lnTo>
                    <a:pt x="0" y="96"/>
                  </a:lnTo>
                  <a:lnTo>
                    <a:pt x="6" y="90"/>
                  </a:lnTo>
                  <a:lnTo>
                    <a:pt x="6" y="78"/>
                  </a:lnTo>
                  <a:lnTo>
                    <a:pt x="12" y="66"/>
                  </a:lnTo>
                  <a:lnTo>
                    <a:pt x="18" y="60"/>
                  </a:lnTo>
                  <a:lnTo>
                    <a:pt x="18" y="48"/>
                  </a:lnTo>
                  <a:lnTo>
                    <a:pt x="24" y="36"/>
                  </a:lnTo>
                  <a:lnTo>
                    <a:pt x="30" y="30"/>
                  </a:lnTo>
                  <a:lnTo>
                    <a:pt x="30" y="18"/>
                  </a:lnTo>
                  <a:lnTo>
                    <a:pt x="36" y="12"/>
                  </a:lnTo>
                  <a:lnTo>
                    <a:pt x="42" y="12"/>
                  </a:lnTo>
                  <a:lnTo>
                    <a:pt x="48" y="12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60" y="6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58"/>
            <p:cNvSpPr/>
            <p:nvPr/>
          </p:nvSpPr>
          <p:spPr>
            <a:xfrm>
              <a:off x="1512720" y="917640"/>
              <a:ext cx="171360" cy="1144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08" h="72">
                  <a:moveTo>
                    <a:pt x="0" y="0"/>
                  </a:moveTo>
                  <a:lnTo>
                    <a:pt x="6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8" y="6"/>
                  </a:lnTo>
                  <a:lnTo>
                    <a:pt x="54" y="18"/>
                  </a:lnTo>
                  <a:lnTo>
                    <a:pt x="60" y="24"/>
                  </a:lnTo>
                  <a:lnTo>
                    <a:pt x="72" y="36"/>
                  </a:lnTo>
                  <a:lnTo>
                    <a:pt x="78" y="42"/>
                  </a:lnTo>
                  <a:lnTo>
                    <a:pt x="90" y="54"/>
                  </a:lnTo>
                  <a:lnTo>
                    <a:pt x="96" y="60"/>
                  </a:lnTo>
                  <a:lnTo>
                    <a:pt x="108" y="72"/>
                  </a:lnTo>
                  <a:lnTo>
                    <a:pt x="96" y="66"/>
                  </a:lnTo>
                  <a:lnTo>
                    <a:pt x="84" y="60"/>
                  </a:lnTo>
                  <a:lnTo>
                    <a:pt x="72" y="60"/>
                  </a:lnTo>
                  <a:lnTo>
                    <a:pt x="66" y="54"/>
                  </a:lnTo>
                  <a:lnTo>
                    <a:pt x="54" y="48"/>
                  </a:lnTo>
                  <a:lnTo>
                    <a:pt x="42" y="48"/>
                  </a:lnTo>
                  <a:lnTo>
                    <a:pt x="30" y="42"/>
                  </a:lnTo>
                  <a:lnTo>
                    <a:pt x="18" y="36"/>
                  </a:lnTo>
                  <a:lnTo>
                    <a:pt x="18" y="30"/>
                  </a:lnTo>
                  <a:lnTo>
                    <a:pt x="12" y="18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59"/>
            <p:cNvSpPr/>
            <p:nvPr/>
          </p:nvSpPr>
          <p:spPr>
            <a:xfrm>
              <a:off x="1474560" y="584280"/>
              <a:ext cx="114480" cy="16200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72" h="102">
                  <a:moveTo>
                    <a:pt x="0" y="102"/>
                  </a:moveTo>
                  <a:lnTo>
                    <a:pt x="0" y="96"/>
                  </a:lnTo>
                  <a:lnTo>
                    <a:pt x="0" y="84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2" y="60"/>
                  </a:lnTo>
                  <a:lnTo>
                    <a:pt x="18" y="54"/>
                  </a:lnTo>
                  <a:lnTo>
                    <a:pt x="30" y="48"/>
                  </a:lnTo>
                  <a:lnTo>
                    <a:pt x="36" y="36"/>
                  </a:lnTo>
                  <a:lnTo>
                    <a:pt x="48" y="30"/>
                  </a:lnTo>
                  <a:lnTo>
                    <a:pt x="54" y="18"/>
                  </a:lnTo>
                  <a:lnTo>
                    <a:pt x="66" y="12"/>
                  </a:lnTo>
                  <a:lnTo>
                    <a:pt x="72" y="0"/>
                  </a:lnTo>
                  <a:lnTo>
                    <a:pt x="66" y="12"/>
                  </a:lnTo>
                  <a:lnTo>
                    <a:pt x="66" y="24"/>
                  </a:lnTo>
                  <a:lnTo>
                    <a:pt x="60" y="30"/>
                  </a:lnTo>
                  <a:lnTo>
                    <a:pt x="54" y="42"/>
                  </a:lnTo>
                  <a:lnTo>
                    <a:pt x="54" y="54"/>
                  </a:lnTo>
                  <a:lnTo>
                    <a:pt x="48" y="66"/>
                  </a:lnTo>
                  <a:lnTo>
                    <a:pt x="48" y="72"/>
                  </a:lnTo>
                  <a:lnTo>
                    <a:pt x="42" y="84"/>
                  </a:lnTo>
                  <a:lnTo>
                    <a:pt x="36" y="84"/>
                  </a:lnTo>
                  <a:lnTo>
                    <a:pt x="30" y="90"/>
                  </a:lnTo>
                  <a:lnTo>
                    <a:pt x="24" y="90"/>
                  </a:lnTo>
                  <a:lnTo>
                    <a:pt x="18" y="96"/>
                  </a:lnTo>
                  <a:lnTo>
                    <a:pt x="12" y="96"/>
                  </a:lnTo>
                  <a:lnTo>
                    <a:pt x="6" y="10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60"/>
            <p:cNvSpPr/>
            <p:nvPr/>
          </p:nvSpPr>
          <p:spPr>
            <a:xfrm>
              <a:off x="1160280" y="679680"/>
              <a:ext cx="142920" cy="1047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90" h="66">
                  <a:moveTo>
                    <a:pt x="90" y="66"/>
                  </a:moveTo>
                  <a:lnTo>
                    <a:pt x="90" y="66"/>
                  </a:lnTo>
                  <a:lnTo>
                    <a:pt x="84" y="66"/>
                  </a:lnTo>
                  <a:lnTo>
                    <a:pt x="78" y="66"/>
                  </a:lnTo>
                  <a:lnTo>
                    <a:pt x="72" y="66"/>
                  </a:lnTo>
                  <a:lnTo>
                    <a:pt x="66" y="66"/>
                  </a:lnTo>
                  <a:lnTo>
                    <a:pt x="54" y="60"/>
                  </a:lnTo>
                  <a:lnTo>
                    <a:pt x="48" y="48"/>
                  </a:lnTo>
                  <a:lnTo>
                    <a:pt x="36" y="42"/>
                  </a:lnTo>
                  <a:lnTo>
                    <a:pt x="30" y="30"/>
                  </a:lnTo>
                  <a:lnTo>
                    <a:pt x="24" y="24"/>
                  </a:lnTo>
                  <a:lnTo>
                    <a:pt x="12" y="18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0"/>
                  </a:lnTo>
                  <a:lnTo>
                    <a:pt x="18" y="6"/>
                  </a:lnTo>
                  <a:lnTo>
                    <a:pt x="24" y="12"/>
                  </a:lnTo>
                  <a:lnTo>
                    <a:pt x="36" y="12"/>
                  </a:lnTo>
                  <a:lnTo>
                    <a:pt x="48" y="18"/>
                  </a:lnTo>
                  <a:lnTo>
                    <a:pt x="54" y="24"/>
                  </a:lnTo>
                  <a:lnTo>
                    <a:pt x="66" y="24"/>
                  </a:lnTo>
                  <a:lnTo>
                    <a:pt x="72" y="30"/>
                  </a:lnTo>
                  <a:lnTo>
                    <a:pt x="78" y="36"/>
                  </a:lnTo>
                  <a:lnTo>
                    <a:pt x="84" y="48"/>
                  </a:lnTo>
                  <a:lnTo>
                    <a:pt x="90" y="60"/>
                  </a:lnTo>
                  <a:lnTo>
                    <a:pt x="90" y="66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Group 44"/>
          <p:cNvGrpSpPr/>
          <p:nvPr/>
        </p:nvGrpSpPr>
        <p:grpSpPr>
          <a:xfrm>
            <a:off x="6659640" y="260280"/>
            <a:ext cx="1181160" cy="1181160"/>
            <a:chOff x="6659640" y="260280"/>
            <a:chExt cx="1181160" cy="1181160"/>
          </a:xfrm>
        </p:grpSpPr>
        <p:sp>
          <p:nvSpPr>
            <p:cNvPr id="346" name="Freeform 45"/>
            <p:cNvSpPr/>
            <p:nvPr/>
          </p:nvSpPr>
          <p:spPr>
            <a:xfrm>
              <a:off x="7335720" y="1079640"/>
              <a:ext cx="181080" cy="33336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14" h="210">
                  <a:moveTo>
                    <a:pt x="6" y="0"/>
                  </a:moveTo>
                  <a:lnTo>
                    <a:pt x="18" y="0"/>
                  </a:lnTo>
                  <a:lnTo>
                    <a:pt x="24" y="6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2" y="18"/>
                  </a:lnTo>
                  <a:lnTo>
                    <a:pt x="48" y="24"/>
                  </a:lnTo>
                  <a:lnTo>
                    <a:pt x="60" y="24"/>
                  </a:lnTo>
                  <a:lnTo>
                    <a:pt x="66" y="30"/>
                  </a:lnTo>
                  <a:lnTo>
                    <a:pt x="72" y="54"/>
                  </a:lnTo>
                  <a:lnTo>
                    <a:pt x="78" y="72"/>
                  </a:lnTo>
                  <a:lnTo>
                    <a:pt x="84" y="96"/>
                  </a:lnTo>
                  <a:lnTo>
                    <a:pt x="90" y="120"/>
                  </a:lnTo>
                  <a:lnTo>
                    <a:pt x="96" y="144"/>
                  </a:lnTo>
                  <a:lnTo>
                    <a:pt x="102" y="168"/>
                  </a:lnTo>
                  <a:lnTo>
                    <a:pt x="108" y="186"/>
                  </a:lnTo>
                  <a:lnTo>
                    <a:pt x="114" y="210"/>
                  </a:lnTo>
                  <a:lnTo>
                    <a:pt x="96" y="198"/>
                  </a:lnTo>
                  <a:lnTo>
                    <a:pt x="84" y="180"/>
                  </a:lnTo>
                  <a:lnTo>
                    <a:pt x="72" y="162"/>
                  </a:lnTo>
                  <a:lnTo>
                    <a:pt x="60" y="144"/>
                  </a:lnTo>
                  <a:lnTo>
                    <a:pt x="42" y="132"/>
                  </a:lnTo>
                  <a:lnTo>
                    <a:pt x="30" y="114"/>
                  </a:lnTo>
                  <a:lnTo>
                    <a:pt x="18" y="96"/>
                  </a:lnTo>
                  <a:lnTo>
                    <a:pt x="0" y="78"/>
                  </a:lnTo>
                  <a:lnTo>
                    <a:pt x="6" y="60"/>
                  </a:lnTo>
                  <a:lnTo>
                    <a:pt x="6" y="36"/>
                  </a:lnTo>
                  <a:lnTo>
                    <a:pt x="6" y="1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46"/>
            <p:cNvSpPr/>
            <p:nvPr/>
          </p:nvSpPr>
          <p:spPr>
            <a:xfrm>
              <a:off x="7450200" y="574920"/>
              <a:ext cx="352440" cy="18072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22" h="114">
                  <a:moveTo>
                    <a:pt x="0" y="108"/>
                  </a:moveTo>
                  <a:lnTo>
                    <a:pt x="6" y="102"/>
                  </a:lnTo>
                  <a:lnTo>
                    <a:pt x="12" y="96"/>
                  </a:lnTo>
                  <a:lnTo>
                    <a:pt x="12" y="84"/>
                  </a:lnTo>
                  <a:lnTo>
                    <a:pt x="18" y="78"/>
                  </a:lnTo>
                  <a:lnTo>
                    <a:pt x="24" y="72"/>
                  </a:lnTo>
                  <a:lnTo>
                    <a:pt x="30" y="66"/>
                  </a:lnTo>
                  <a:lnTo>
                    <a:pt x="30" y="54"/>
                  </a:lnTo>
                  <a:lnTo>
                    <a:pt x="36" y="48"/>
                  </a:lnTo>
                  <a:lnTo>
                    <a:pt x="48" y="48"/>
                  </a:lnTo>
                  <a:lnTo>
                    <a:pt x="60" y="42"/>
                  </a:lnTo>
                  <a:lnTo>
                    <a:pt x="72" y="42"/>
                  </a:lnTo>
                  <a:lnTo>
                    <a:pt x="84" y="36"/>
                  </a:lnTo>
                  <a:lnTo>
                    <a:pt x="96" y="36"/>
                  </a:lnTo>
                  <a:lnTo>
                    <a:pt x="108" y="30"/>
                  </a:lnTo>
                  <a:lnTo>
                    <a:pt x="120" y="30"/>
                  </a:lnTo>
                  <a:lnTo>
                    <a:pt x="132" y="24"/>
                  </a:lnTo>
                  <a:lnTo>
                    <a:pt x="144" y="24"/>
                  </a:lnTo>
                  <a:lnTo>
                    <a:pt x="150" y="18"/>
                  </a:lnTo>
                  <a:lnTo>
                    <a:pt x="168" y="18"/>
                  </a:lnTo>
                  <a:lnTo>
                    <a:pt x="174" y="12"/>
                  </a:lnTo>
                  <a:lnTo>
                    <a:pt x="186" y="12"/>
                  </a:lnTo>
                  <a:lnTo>
                    <a:pt x="198" y="6"/>
                  </a:lnTo>
                  <a:lnTo>
                    <a:pt x="210" y="6"/>
                  </a:lnTo>
                  <a:lnTo>
                    <a:pt x="222" y="0"/>
                  </a:lnTo>
                  <a:lnTo>
                    <a:pt x="216" y="12"/>
                  </a:lnTo>
                  <a:lnTo>
                    <a:pt x="204" y="18"/>
                  </a:lnTo>
                  <a:lnTo>
                    <a:pt x="198" y="24"/>
                  </a:lnTo>
                  <a:lnTo>
                    <a:pt x="192" y="30"/>
                  </a:lnTo>
                  <a:lnTo>
                    <a:pt x="180" y="36"/>
                  </a:lnTo>
                  <a:lnTo>
                    <a:pt x="174" y="42"/>
                  </a:lnTo>
                  <a:lnTo>
                    <a:pt x="162" y="54"/>
                  </a:lnTo>
                  <a:lnTo>
                    <a:pt x="156" y="60"/>
                  </a:lnTo>
                  <a:lnTo>
                    <a:pt x="144" y="66"/>
                  </a:lnTo>
                  <a:lnTo>
                    <a:pt x="138" y="72"/>
                  </a:lnTo>
                  <a:lnTo>
                    <a:pt x="132" y="78"/>
                  </a:lnTo>
                  <a:lnTo>
                    <a:pt x="120" y="84"/>
                  </a:lnTo>
                  <a:lnTo>
                    <a:pt x="114" y="96"/>
                  </a:lnTo>
                  <a:lnTo>
                    <a:pt x="102" y="102"/>
                  </a:lnTo>
                  <a:lnTo>
                    <a:pt x="96" y="108"/>
                  </a:lnTo>
                  <a:lnTo>
                    <a:pt x="84" y="114"/>
                  </a:lnTo>
                  <a:lnTo>
                    <a:pt x="72" y="114"/>
                  </a:lnTo>
                  <a:lnTo>
                    <a:pt x="66" y="114"/>
                  </a:lnTo>
                  <a:lnTo>
                    <a:pt x="54" y="114"/>
                  </a:lnTo>
                  <a:lnTo>
                    <a:pt x="42" y="114"/>
                  </a:lnTo>
                  <a:lnTo>
                    <a:pt x="30" y="108"/>
                  </a:lnTo>
                  <a:lnTo>
                    <a:pt x="24" y="108"/>
                  </a:lnTo>
                  <a:lnTo>
                    <a:pt x="12" y="108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47"/>
            <p:cNvSpPr/>
            <p:nvPr/>
          </p:nvSpPr>
          <p:spPr>
            <a:xfrm>
              <a:off x="6964560" y="298440"/>
              <a:ext cx="171360" cy="3524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108" h="222">
                  <a:moveTo>
                    <a:pt x="102" y="222"/>
                  </a:moveTo>
                  <a:lnTo>
                    <a:pt x="96" y="216"/>
                  </a:lnTo>
                  <a:lnTo>
                    <a:pt x="84" y="210"/>
                  </a:lnTo>
                  <a:lnTo>
                    <a:pt x="78" y="204"/>
                  </a:lnTo>
                  <a:lnTo>
                    <a:pt x="72" y="204"/>
                  </a:lnTo>
                  <a:lnTo>
                    <a:pt x="66" y="198"/>
                  </a:lnTo>
                  <a:lnTo>
                    <a:pt x="60" y="192"/>
                  </a:lnTo>
                  <a:lnTo>
                    <a:pt x="54" y="192"/>
                  </a:lnTo>
                  <a:lnTo>
                    <a:pt x="48" y="186"/>
                  </a:lnTo>
                  <a:lnTo>
                    <a:pt x="42" y="162"/>
                  </a:lnTo>
                  <a:lnTo>
                    <a:pt x="36" y="138"/>
                  </a:lnTo>
                  <a:lnTo>
                    <a:pt x="30" y="114"/>
                  </a:lnTo>
                  <a:lnTo>
                    <a:pt x="24" y="90"/>
                  </a:lnTo>
                  <a:lnTo>
                    <a:pt x="18" y="72"/>
                  </a:lnTo>
                  <a:lnTo>
                    <a:pt x="12" y="48"/>
                  </a:lnTo>
                  <a:lnTo>
                    <a:pt x="6" y="24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4" y="30"/>
                  </a:lnTo>
                  <a:lnTo>
                    <a:pt x="42" y="48"/>
                  </a:lnTo>
                  <a:lnTo>
                    <a:pt x="54" y="66"/>
                  </a:lnTo>
                  <a:lnTo>
                    <a:pt x="66" y="84"/>
                  </a:lnTo>
                  <a:lnTo>
                    <a:pt x="78" y="96"/>
                  </a:lnTo>
                  <a:lnTo>
                    <a:pt x="96" y="114"/>
                  </a:lnTo>
                  <a:lnTo>
                    <a:pt x="108" y="132"/>
                  </a:lnTo>
                  <a:lnTo>
                    <a:pt x="102" y="156"/>
                  </a:lnTo>
                  <a:lnTo>
                    <a:pt x="102" y="174"/>
                  </a:lnTo>
                  <a:lnTo>
                    <a:pt x="102" y="198"/>
                  </a:lnTo>
                  <a:lnTo>
                    <a:pt x="102" y="222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48"/>
            <p:cNvSpPr/>
            <p:nvPr/>
          </p:nvSpPr>
          <p:spPr>
            <a:xfrm>
              <a:off x="6688080" y="965160"/>
              <a:ext cx="333360" cy="16200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210" h="102">
                  <a:moveTo>
                    <a:pt x="210" y="6"/>
                  </a:moveTo>
                  <a:lnTo>
                    <a:pt x="204" y="12"/>
                  </a:lnTo>
                  <a:lnTo>
                    <a:pt x="204" y="18"/>
                  </a:lnTo>
                  <a:lnTo>
                    <a:pt x="198" y="24"/>
                  </a:lnTo>
                  <a:lnTo>
                    <a:pt x="198" y="30"/>
                  </a:lnTo>
                  <a:lnTo>
                    <a:pt x="192" y="36"/>
                  </a:lnTo>
                  <a:lnTo>
                    <a:pt x="186" y="42"/>
                  </a:lnTo>
                  <a:lnTo>
                    <a:pt x="186" y="48"/>
                  </a:lnTo>
                  <a:lnTo>
                    <a:pt x="180" y="54"/>
                  </a:lnTo>
                  <a:lnTo>
                    <a:pt x="168" y="60"/>
                  </a:lnTo>
                  <a:lnTo>
                    <a:pt x="162" y="60"/>
                  </a:lnTo>
                  <a:lnTo>
                    <a:pt x="150" y="66"/>
                  </a:lnTo>
                  <a:lnTo>
                    <a:pt x="138" y="66"/>
                  </a:lnTo>
                  <a:lnTo>
                    <a:pt x="126" y="72"/>
                  </a:lnTo>
                  <a:lnTo>
                    <a:pt x="114" y="72"/>
                  </a:lnTo>
                  <a:lnTo>
                    <a:pt x="102" y="78"/>
                  </a:lnTo>
                  <a:lnTo>
                    <a:pt x="90" y="78"/>
                  </a:lnTo>
                  <a:lnTo>
                    <a:pt x="78" y="84"/>
                  </a:lnTo>
                  <a:lnTo>
                    <a:pt x="66" y="84"/>
                  </a:lnTo>
                  <a:lnTo>
                    <a:pt x="60" y="90"/>
                  </a:lnTo>
                  <a:lnTo>
                    <a:pt x="48" y="90"/>
                  </a:lnTo>
                  <a:lnTo>
                    <a:pt x="36" y="96"/>
                  </a:lnTo>
                  <a:lnTo>
                    <a:pt x="24" y="96"/>
                  </a:lnTo>
                  <a:lnTo>
                    <a:pt x="12" y="96"/>
                  </a:lnTo>
                  <a:lnTo>
                    <a:pt x="0" y="102"/>
                  </a:lnTo>
                  <a:lnTo>
                    <a:pt x="6" y="96"/>
                  </a:lnTo>
                  <a:lnTo>
                    <a:pt x="18" y="90"/>
                  </a:lnTo>
                  <a:lnTo>
                    <a:pt x="24" y="84"/>
                  </a:lnTo>
                  <a:lnTo>
                    <a:pt x="30" y="78"/>
                  </a:lnTo>
                  <a:lnTo>
                    <a:pt x="42" y="72"/>
                  </a:lnTo>
                  <a:lnTo>
                    <a:pt x="48" y="60"/>
                  </a:lnTo>
                  <a:lnTo>
                    <a:pt x="54" y="54"/>
                  </a:lnTo>
                  <a:lnTo>
                    <a:pt x="66" y="48"/>
                  </a:lnTo>
                  <a:lnTo>
                    <a:pt x="72" y="42"/>
                  </a:lnTo>
                  <a:lnTo>
                    <a:pt x="78" y="36"/>
                  </a:lnTo>
                  <a:lnTo>
                    <a:pt x="90" y="30"/>
                  </a:lnTo>
                  <a:lnTo>
                    <a:pt x="96" y="24"/>
                  </a:lnTo>
                  <a:lnTo>
                    <a:pt x="102" y="18"/>
                  </a:lnTo>
                  <a:lnTo>
                    <a:pt x="114" y="12"/>
                  </a:lnTo>
                  <a:lnTo>
                    <a:pt x="120" y="6"/>
                  </a:lnTo>
                  <a:lnTo>
                    <a:pt x="126" y="0"/>
                  </a:lnTo>
                  <a:lnTo>
                    <a:pt x="138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8" y="0"/>
                  </a:lnTo>
                  <a:lnTo>
                    <a:pt x="180" y="0"/>
                  </a:lnTo>
                  <a:lnTo>
                    <a:pt x="192" y="6"/>
                  </a:lnTo>
                  <a:lnTo>
                    <a:pt x="198" y="6"/>
                  </a:lnTo>
                  <a:lnTo>
                    <a:pt x="210" y="6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49"/>
            <p:cNvSpPr/>
            <p:nvPr/>
          </p:nvSpPr>
          <p:spPr>
            <a:xfrm>
              <a:off x="7250040" y="974880"/>
              <a:ext cx="57240" cy="19044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36" h="120">
                  <a:moveTo>
                    <a:pt x="12" y="0"/>
                  </a:moveTo>
                  <a:lnTo>
                    <a:pt x="12" y="0"/>
                  </a:lnTo>
                  <a:lnTo>
                    <a:pt x="18" y="6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36" y="24"/>
                  </a:lnTo>
                  <a:lnTo>
                    <a:pt x="36" y="48"/>
                  </a:lnTo>
                  <a:lnTo>
                    <a:pt x="36" y="72"/>
                  </a:lnTo>
                  <a:lnTo>
                    <a:pt x="36" y="96"/>
                  </a:lnTo>
                  <a:lnTo>
                    <a:pt x="36" y="120"/>
                  </a:lnTo>
                  <a:lnTo>
                    <a:pt x="30" y="108"/>
                  </a:lnTo>
                  <a:lnTo>
                    <a:pt x="24" y="96"/>
                  </a:lnTo>
                  <a:lnTo>
                    <a:pt x="18" y="90"/>
                  </a:lnTo>
                  <a:lnTo>
                    <a:pt x="18" y="78"/>
                  </a:lnTo>
                  <a:lnTo>
                    <a:pt x="12" y="66"/>
                  </a:lnTo>
                  <a:lnTo>
                    <a:pt x="6" y="60"/>
                  </a:lnTo>
                  <a:lnTo>
                    <a:pt x="0" y="48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50"/>
            <p:cNvSpPr/>
            <p:nvPr/>
          </p:nvSpPr>
          <p:spPr>
            <a:xfrm>
              <a:off x="7364520" y="784440"/>
              <a:ext cx="190440" cy="666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120" h="42">
                  <a:moveTo>
                    <a:pt x="0" y="24"/>
                  </a:moveTo>
                  <a:lnTo>
                    <a:pt x="0" y="24"/>
                  </a:lnTo>
                  <a:lnTo>
                    <a:pt x="6" y="18"/>
                  </a:lnTo>
                  <a:lnTo>
                    <a:pt x="12" y="12"/>
                  </a:lnTo>
                  <a:lnTo>
                    <a:pt x="18" y="6"/>
                  </a:lnTo>
                  <a:lnTo>
                    <a:pt x="24" y="0"/>
                  </a:lnTo>
                  <a:lnTo>
                    <a:pt x="36" y="0"/>
                  </a:lnTo>
                  <a:lnTo>
                    <a:pt x="48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84" y="6"/>
                  </a:lnTo>
                  <a:lnTo>
                    <a:pt x="96" y="6"/>
                  </a:lnTo>
                  <a:lnTo>
                    <a:pt x="108" y="6"/>
                  </a:lnTo>
                  <a:lnTo>
                    <a:pt x="120" y="6"/>
                  </a:lnTo>
                  <a:lnTo>
                    <a:pt x="114" y="6"/>
                  </a:lnTo>
                  <a:lnTo>
                    <a:pt x="102" y="12"/>
                  </a:lnTo>
                  <a:lnTo>
                    <a:pt x="90" y="18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60" y="30"/>
                  </a:lnTo>
                  <a:lnTo>
                    <a:pt x="48" y="36"/>
                  </a:lnTo>
                  <a:lnTo>
                    <a:pt x="36" y="42"/>
                  </a:lnTo>
                  <a:lnTo>
                    <a:pt x="36" y="36"/>
                  </a:lnTo>
                  <a:lnTo>
                    <a:pt x="30" y="36"/>
                  </a:lnTo>
                  <a:lnTo>
                    <a:pt x="24" y="36"/>
                  </a:lnTo>
                  <a:lnTo>
                    <a:pt x="18" y="36"/>
                  </a:lnTo>
                  <a:lnTo>
                    <a:pt x="12" y="30"/>
                  </a:lnTo>
                  <a:lnTo>
                    <a:pt x="6" y="3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51"/>
            <p:cNvSpPr/>
            <p:nvPr/>
          </p:nvSpPr>
          <p:spPr>
            <a:xfrm>
              <a:off x="7183440" y="546120"/>
              <a:ext cx="57240" cy="19044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36" h="120">
                  <a:moveTo>
                    <a:pt x="18" y="120"/>
                  </a:moveTo>
                  <a:lnTo>
                    <a:pt x="18" y="114"/>
                  </a:lnTo>
                  <a:lnTo>
                    <a:pt x="12" y="114"/>
                  </a:lnTo>
                  <a:lnTo>
                    <a:pt x="12" y="108"/>
                  </a:lnTo>
                  <a:lnTo>
                    <a:pt x="6" y="108"/>
                  </a:lnTo>
                  <a:lnTo>
                    <a:pt x="6" y="102"/>
                  </a:lnTo>
                  <a:lnTo>
                    <a:pt x="0" y="96"/>
                  </a:lnTo>
                  <a:lnTo>
                    <a:pt x="0" y="72"/>
                  </a:lnTo>
                  <a:lnTo>
                    <a:pt x="0" y="48"/>
                  </a:lnTo>
                  <a:lnTo>
                    <a:pt x="0" y="24"/>
                  </a:lnTo>
                  <a:lnTo>
                    <a:pt x="0" y="0"/>
                  </a:lnTo>
                  <a:lnTo>
                    <a:pt x="6" y="6"/>
                  </a:lnTo>
                  <a:lnTo>
                    <a:pt x="6" y="18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24" y="48"/>
                  </a:lnTo>
                  <a:lnTo>
                    <a:pt x="24" y="54"/>
                  </a:lnTo>
                  <a:lnTo>
                    <a:pt x="30" y="66"/>
                  </a:lnTo>
                  <a:lnTo>
                    <a:pt x="36" y="78"/>
                  </a:lnTo>
                  <a:lnTo>
                    <a:pt x="30" y="84"/>
                  </a:lnTo>
                  <a:lnTo>
                    <a:pt x="24" y="96"/>
                  </a:lnTo>
                  <a:lnTo>
                    <a:pt x="24" y="108"/>
                  </a:lnTo>
                  <a:lnTo>
                    <a:pt x="18" y="12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52"/>
            <p:cNvSpPr/>
            <p:nvPr/>
          </p:nvSpPr>
          <p:spPr>
            <a:xfrm>
              <a:off x="6935760" y="860400"/>
              <a:ext cx="190440" cy="572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120" h="36">
                  <a:moveTo>
                    <a:pt x="120" y="12"/>
                  </a:moveTo>
                  <a:lnTo>
                    <a:pt x="114" y="18"/>
                  </a:lnTo>
                  <a:lnTo>
                    <a:pt x="108" y="24"/>
                  </a:lnTo>
                  <a:lnTo>
                    <a:pt x="102" y="30"/>
                  </a:lnTo>
                  <a:lnTo>
                    <a:pt x="96" y="36"/>
                  </a:lnTo>
                  <a:lnTo>
                    <a:pt x="84" y="36"/>
                  </a:lnTo>
                  <a:lnTo>
                    <a:pt x="72" y="36"/>
                  </a:lnTo>
                  <a:lnTo>
                    <a:pt x="60" y="36"/>
                  </a:lnTo>
                  <a:lnTo>
                    <a:pt x="48" y="30"/>
                  </a:lnTo>
                  <a:lnTo>
                    <a:pt x="36" y="30"/>
                  </a:lnTo>
                  <a:lnTo>
                    <a:pt x="24" y="30"/>
                  </a:lnTo>
                  <a:lnTo>
                    <a:pt x="12" y="30"/>
                  </a:lnTo>
                  <a:lnTo>
                    <a:pt x="0" y="30"/>
                  </a:lnTo>
                  <a:lnTo>
                    <a:pt x="12" y="30"/>
                  </a:lnTo>
                  <a:lnTo>
                    <a:pt x="24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60" y="6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0" y="6"/>
                  </a:lnTo>
                  <a:lnTo>
                    <a:pt x="96" y="6"/>
                  </a:lnTo>
                  <a:lnTo>
                    <a:pt x="102" y="6"/>
                  </a:lnTo>
                  <a:lnTo>
                    <a:pt x="108" y="6"/>
                  </a:lnTo>
                  <a:lnTo>
                    <a:pt x="114" y="12"/>
                  </a:lnTo>
                  <a:lnTo>
                    <a:pt x="120" y="12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53"/>
            <p:cNvSpPr/>
            <p:nvPr/>
          </p:nvSpPr>
          <p:spPr>
            <a:xfrm>
              <a:off x="7040520" y="1089000"/>
              <a:ext cx="152640" cy="35244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96" h="222">
                  <a:moveTo>
                    <a:pt x="78" y="0"/>
                  </a:moveTo>
                  <a:lnTo>
                    <a:pt x="84" y="12"/>
                  </a:lnTo>
                  <a:lnTo>
                    <a:pt x="90" y="30"/>
                  </a:lnTo>
                  <a:lnTo>
                    <a:pt x="90" y="42"/>
                  </a:lnTo>
                  <a:lnTo>
                    <a:pt x="96" y="60"/>
                  </a:lnTo>
                  <a:lnTo>
                    <a:pt x="84" y="78"/>
                  </a:lnTo>
                  <a:lnTo>
                    <a:pt x="72" y="96"/>
                  </a:lnTo>
                  <a:lnTo>
                    <a:pt x="60" y="120"/>
                  </a:lnTo>
                  <a:lnTo>
                    <a:pt x="48" y="138"/>
                  </a:lnTo>
                  <a:lnTo>
                    <a:pt x="36" y="162"/>
                  </a:lnTo>
                  <a:lnTo>
                    <a:pt x="24" y="180"/>
                  </a:lnTo>
                  <a:lnTo>
                    <a:pt x="12" y="204"/>
                  </a:lnTo>
                  <a:lnTo>
                    <a:pt x="0" y="222"/>
                  </a:lnTo>
                  <a:lnTo>
                    <a:pt x="6" y="180"/>
                  </a:lnTo>
                  <a:lnTo>
                    <a:pt x="6" y="138"/>
                  </a:lnTo>
                  <a:lnTo>
                    <a:pt x="12" y="90"/>
                  </a:lnTo>
                  <a:lnTo>
                    <a:pt x="18" y="48"/>
                  </a:lnTo>
                  <a:lnTo>
                    <a:pt x="24" y="42"/>
                  </a:lnTo>
                  <a:lnTo>
                    <a:pt x="30" y="36"/>
                  </a:lnTo>
                  <a:lnTo>
                    <a:pt x="42" y="30"/>
                  </a:lnTo>
                  <a:lnTo>
                    <a:pt x="48" y="24"/>
                  </a:lnTo>
                  <a:lnTo>
                    <a:pt x="54" y="18"/>
                  </a:lnTo>
                  <a:lnTo>
                    <a:pt x="60" y="12"/>
                  </a:lnTo>
                  <a:lnTo>
                    <a:pt x="72" y="6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54"/>
            <p:cNvSpPr/>
            <p:nvPr/>
          </p:nvSpPr>
          <p:spPr>
            <a:xfrm>
              <a:off x="7469280" y="898560"/>
              <a:ext cx="371520" cy="15264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234" h="96">
                  <a:moveTo>
                    <a:pt x="0" y="18"/>
                  </a:moveTo>
                  <a:lnTo>
                    <a:pt x="12" y="12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8" y="6"/>
                  </a:lnTo>
                  <a:lnTo>
                    <a:pt x="90" y="12"/>
                  </a:lnTo>
                  <a:lnTo>
                    <a:pt x="102" y="18"/>
                  </a:lnTo>
                  <a:lnTo>
                    <a:pt x="108" y="24"/>
                  </a:lnTo>
                  <a:lnTo>
                    <a:pt x="120" y="30"/>
                  </a:lnTo>
                  <a:lnTo>
                    <a:pt x="132" y="36"/>
                  </a:lnTo>
                  <a:lnTo>
                    <a:pt x="138" y="42"/>
                  </a:lnTo>
                  <a:lnTo>
                    <a:pt x="150" y="48"/>
                  </a:lnTo>
                  <a:lnTo>
                    <a:pt x="162" y="54"/>
                  </a:lnTo>
                  <a:lnTo>
                    <a:pt x="174" y="60"/>
                  </a:lnTo>
                  <a:lnTo>
                    <a:pt x="180" y="66"/>
                  </a:lnTo>
                  <a:lnTo>
                    <a:pt x="192" y="72"/>
                  </a:lnTo>
                  <a:lnTo>
                    <a:pt x="204" y="78"/>
                  </a:lnTo>
                  <a:lnTo>
                    <a:pt x="216" y="84"/>
                  </a:lnTo>
                  <a:lnTo>
                    <a:pt x="222" y="90"/>
                  </a:lnTo>
                  <a:lnTo>
                    <a:pt x="234" y="96"/>
                  </a:lnTo>
                  <a:lnTo>
                    <a:pt x="222" y="96"/>
                  </a:lnTo>
                  <a:lnTo>
                    <a:pt x="210" y="96"/>
                  </a:lnTo>
                  <a:lnTo>
                    <a:pt x="198" y="96"/>
                  </a:lnTo>
                  <a:lnTo>
                    <a:pt x="192" y="96"/>
                  </a:lnTo>
                  <a:lnTo>
                    <a:pt x="180" y="90"/>
                  </a:lnTo>
                  <a:lnTo>
                    <a:pt x="168" y="90"/>
                  </a:lnTo>
                  <a:lnTo>
                    <a:pt x="156" y="90"/>
                  </a:lnTo>
                  <a:lnTo>
                    <a:pt x="144" y="90"/>
                  </a:lnTo>
                  <a:lnTo>
                    <a:pt x="132" y="90"/>
                  </a:lnTo>
                  <a:lnTo>
                    <a:pt x="126" y="84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90" y="84"/>
                  </a:lnTo>
                  <a:lnTo>
                    <a:pt x="78" y="84"/>
                  </a:lnTo>
                  <a:lnTo>
                    <a:pt x="66" y="84"/>
                  </a:lnTo>
                  <a:lnTo>
                    <a:pt x="54" y="78"/>
                  </a:lnTo>
                  <a:lnTo>
                    <a:pt x="48" y="72"/>
                  </a:lnTo>
                  <a:lnTo>
                    <a:pt x="42" y="66"/>
                  </a:lnTo>
                  <a:lnTo>
                    <a:pt x="36" y="54"/>
                  </a:lnTo>
                  <a:lnTo>
                    <a:pt x="30" y="48"/>
                  </a:lnTo>
                  <a:lnTo>
                    <a:pt x="24" y="42"/>
                  </a:lnTo>
                  <a:lnTo>
                    <a:pt x="12" y="30"/>
                  </a:lnTo>
                  <a:lnTo>
                    <a:pt x="6" y="24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55"/>
            <p:cNvSpPr/>
            <p:nvPr/>
          </p:nvSpPr>
          <p:spPr>
            <a:xfrm>
              <a:off x="7288200" y="260280"/>
              <a:ext cx="152280" cy="3621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362160"/>
                <a:gd name="textAreaBottom" fmla="*/ 362520 h 362160"/>
              </a:gdLst>
              <a:ahLst/>
              <a:rect l="textAreaLeft" t="textAreaTop" r="textAreaRight" b="textAreaBottom"/>
              <a:pathLst>
                <a:path w="96" h="228">
                  <a:moveTo>
                    <a:pt x="12" y="228"/>
                  </a:moveTo>
                  <a:lnTo>
                    <a:pt x="12" y="210"/>
                  </a:lnTo>
                  <a:lnTo>
                    <a:pt x="6" y="198"/>
                  </a:lnTo>
                  <a:lnTo>
                    <a:pt x="6" y="180"/>
                  </a:lnTo>
                  <a:lnTo>
                    <a:pt x="0" y="162"/>
                  </a:lnTo>
                  <a:lnTo>
                    <a:pt x="12" y="144"/>
                  </a:lnTo>
                  <a:lnTo>
                    <a:pt x="24" y="126"/>
                  </a:lnTo>
                  <a:lnTo>
                    <a:pt x="36" y="102"/>
                  </a:lnTo>
                  <a:lnTo>
                    <a:pt x="48" y="84"/>
                  </a:lnTo>
                  <a:lnTo>
                    <a:pt x="60" y="60"/>
                  </a:lnTo>
                  <a:lnTo>
                    <a:pt x="72" y="42"/>
                  </a:lnTo>
                  <a:lnTo>
                    <a:pt x="84" y="18"/>
                  </a:lnTo>
                  <a:lnTo>
                    <a:pt x="96" y="0"/>
                  </a:lnTo>
                  <a:lnTo>
                    <a:pt x="96" y="42"/>
                  </a:lnTo>
                  <a:lnTo>
                    <a:pt x="90" y="84"/>
                  </a:lnTo>
                  <a:lnTo>
                    <a:pt x="84" y="126"/>
                  </a:lnTo>
                  <a:lnTo>
                    <a:pt x="78" y="168"/>
                  </a:lnTo>
                  <a:lnTo>
                    <a:pt x="72" y="180"/>
                  </a:lnTo>
                  <a:lnTo>
                    <a:pt x="66" y="186"/>
                  </a:lnTo>
                  <a:lnTo>
                    <a:pt x="54" y="192"/>
                  </a:lnTo>
                  <a:lnTo>
                    <a:pt x="48" y="198"/>
                  </a:lnTo>
                  <a:lnTo>
                    <a:pt x="36" y="204"/>
                  </a:lnTo>
                  <a:lnTo>
                    <a:pt x="30" y="210"/>
                  </a:lnTo>
                  <a:lnTo>
                    <a:pt x="24" y="222"/>
                  </a:lnTo>
                  <a:lnTo>
                    <a:pt x="12" y="228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56"/>
            <p:cNvSpPr/>
            <p:nvPr/>
          </p:nvSpPr>
          <p:spPr>
            <a:xfrm>
              <a:off x="6659640" y="650880"/>
              <a:ext cx="352440" cy="15264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222" h="96">
                  <a:moveTo>
                    <a:pt x="222" y="78"/>
                  </a:moveTo>
                  <a:lnTo>
                    <a:pt x="210" y="84"/>
                  </a:lnTo>
                  <a:lnTo>
                    <a:pt x="204" y="84"/>
                  </a:lnTo>
                  <a:lnTo>
                    <a:pt x="198" y="84"/>
                  </a:lnTo>
                  <a:lnTo>
                    <a:pt x="192" y="90"/>
                  </a:lnTo>
                  <a:lnTo>
                    <a:pt x="186" y="90"/>
                  </a:lnTo>
                  <a:lnTo>
                    <a:pt x="180" y="90"/>
                  </a:lnTo>
                  <a:lnTo>
                    <a:pt x="168" y="96"/>
                  </a:lnTo>
                  <a:lnTo>
                    <a:pt x="162" y="96"/>
                  </a:lnTo>
                  <a:lnTo>
                    <a:pt x="156" y="90"/>
                  </a:lnTo>
                  <a:lnTo>
                    <a:pt x="144" y="84"/>
                  </a:lnTo>
                  <a:lnTo>
                    <a:pt x="132" y="78"/>
                  </a:lnTo>
                  <a:lnTo>
                    <a:pt x="126" y="72"/>
                  </a:lnTo>
                  <a:lnTo>
                    <a:pt x="114" y="66"/>
                  </a:lnTo>
                  <a:lnTo>
                    <a:pt x="102" y="60"/>
                  </a:lnTo>
                  <a:lnTo>
                    <a:pt x="90" y="54"/>
                  </a:lnTo>
                  <a:lnTo>
                    <a:pt x="84" y="48"/>
                  </a:lnTo>
                  <a:lnTo>
                    <a:pt x="72" y="42"/>
                  </a:lnTo>
                  <a:lnTo>
                    <a:pt x="60" y="36"/>
                  </a:lnTo>
                  <a:lnTo>
                    <a:pt x="54" y="30"/>
                  </a:lnTo>
                  <a:lnTo>
                    <a:pt x="42" y="24"/>
                  </a:lnTo>
                  <a:lnTo>
                    <a:pt x="30" y="18"/>
                  </a:lnTo>
                  <a:lnTo>
                    <a:pt x="24" y="12"/>
                  </a:lnTo>
                  <a:lnTo>
                    <a:pt x="12" y="6"/>
                  </a:lnTo>
                  <a:lnTo>
                    <a:pt x="0" y="0"/>
                  </a:lnTo>
                  <a:lnTo>
                    <a:pt x="12" y="0"/>
                  </a:lnTo>
                  <a:lnTo>
                    <a:pt x="24" y="6"/>
                  </a:lnTo>
                  <a:lnTo>
                    <a:pt x="30" y="6"/>
                  </a:lnTo>
                  <a:lnTo>
                    <a:pt x="42" y="6"/>
                  </a:lnTo>
                  <a:lnTo>
                    <a:pt x="54" y="6"/>
                  </a:lnTo>
                  <a:lnTo>
                    <a:pt x="60" y="6"/>
                  </a:lnTo>
                  <a:lnTo>
                    <a:pt x="72" y="6"/>
                  </a:lnTo>
                  <a:lnTo>
                    <a:pt x="84" y="6"/>
                  </a:lnTo>
                  <a:lnTo>
                    <a:pt x="90" y="12"/>
                  </a:lnTo>
                  <a:lnTo>
                    <a:pt x="102" y="12"/>
                  </a:lnTo>
                  <a:lnTo>
                    <a:pt x="114" y="12"/>
                  </a:lnTo>
                  <a:lnTo>
                    <a:pt x="126" y="12"/>
                  </a:lnTo>
                  <a:lnTo>
                    <a:pt x="132" y="12"/>
                  </a:lnTo>
                  <a:lnTo>
                    <a:pt x="144" y="18"/>
                  </a:lnTo>
                  <a:lnTo>
                    <a:pt x="156" y="18"/>
                  </a:lnTo>
                  <a:lnTo>
                    <a:pt x="168" y="18"/>
                  </a:lnTo>
                  <a:lnTo>
                    <a:pt x="174" y="24"/>
                  </a:lnTo>
                  <a:lnTo>
                    <a:pt x="180" y="36"/>
                  </a:lnTo>
                  <a:lnTo>
                    <a:pt x="186" y="42"/>
                  </a:lnTo>
                  <a:lnTo>
                    <a:pt x="192" y="48"/>
                  </a:lnTo>
                  <a:lnTo>
                    <a:pt x="198" y="60"/>
                  </a:lnTo>
                  <a:lnTo>
                    <a:pt x="204" y="66"/>
                  </a:lnTo>
                  <a:lnTo>
                    <a:pt x="210" y="72"/>
                  </a:lnTo>
                  <a:lnTo>
                    <a:pt x="222" y="78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57"/>
            <p:cNvSpPr/>
            <p:nvPr/>
          </p:nvSpPr>
          <p:spPr>
            <a:xfrm>
              <a:off x="7069320" y="955800"/>
              <a:ext cx="114120" cy="152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72" h="96">
                  <a:moveTo>
                    <a:pt x="66" y="0"/>
                  </a:moveTo>
                  <a:lnTo>
                    <a:pt x="66" y="6"/>
                  </a:lnTo>
                  <a:lnTo>
                    <a:pt x="72" y="12"/>
                  </a:lnTo>
                  <a:lnTo>
                    <a:pt x="72" y="24"/>
                  </a:lnTo>
                  <a:lnTo>
                    <a:pt x="72" y="30"/>
                  </a:lnTo>
                  <a:lnTo>
                    <a:pt x="60" y="42"/>
                  </a:lnTo>
                  <a:lnTo>
                    <a:pt x="54" y="48"/>
                  </a:lnTo>
                  <a:lnTo>
                    <a:pt x="42" y="54"/>
                  </a:lnTo>
                  <a:lnTo>
                    <a:pt x="36" y="66"/>
                  </a:lnTo>
                  <a:lnTo>
                    <a:pt x="24" y="72"/>
                  </a:lnTo>
                  <a:lnTo>
                    <a:pt x="18" y="84"/>
                  </a:lnTo>
                  <a:lnTo>
                    <a:pt x="12" y="90"/>
                  </a:lnTo>
                  <a:lnTo>
                    <a:pt x="0" y="96"/>
                  </a:lnTo>
                  <a:lnTo>
                    <a:pt x="6" y="90"/>
                  </a:lnTo>
                  <a:lnTo>
                    <a:pt x="6" y="78"/>
                  </a:lnTo>
                  <a:lnTo>
                    <a:pt x="12" y="66"/>
                  </a:lnTo>
                  <a:lnTo>
                    <a:pt x="18" y="60"/>
                  </a:lnTo>
                  <a:lnTo>
                    <a:pt x="18" y="48"/>
                  </a:lnTo>
                  <a:lnTo>
                    <a:pt x="24" y="36"/>
                  </a:lnTo>
                  <a:lnTo>
                    <a:pt x="30" y="30"/>
                  </a:lnTo>
                  <a:lnTo>
                    <a:pt x="30" y="18"/>
                  </a:lnTo>
                  <a:lnTo>
                    <a:pt x="36" y="12"/>
                  </a:lnTo>
                  <a:lnTo>
                    <a:pt x="42" y="12"/>
                  </a:lnTo>
                  <a:lnTo>
                    <a:pt x="48" y="12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60" y="6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58"/>
            <p:cNvSpPr/>
            <p:nvPr/>
          </p:nvSpPr>
          <p:spPr>
            <a:xfrm>
              <a:off x="7345440" y="917640"/>
              <a:ext cx="171360" cy="1144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08" h="72">
                  <a:moveTo>
                    <a:pt x="0" y="0"/>
                  </a:moveTo>
                  <a:lnTo>
                    <a:pt x="6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8" y="6"/>
                  </a:lnTo>
                  <a:lnTo>
                    <a:pt x="54" y="18"/>
                  </a:lnTo>
                  <a:lnTo>
                    <a:pt x="60" y="24"/>
                  </a:lnTo>
                  <a:lnTo>
                    <a:pt x="72" y="36"/>
                  </a:lnTo>
                  <a:lnTo>
                    <a:pt x="78" y="42"/>
                  </a:lnTo>
                  <a:lnTo>
                    <a:pt x="90" y="54"/>
                  </a:lnTo>
                  <a:lnTo>
                    <a:pt x="96" y="60"/>
                  </a:lnTo>
                  <a:lnTo>
                    <a:pt x="108" y="72"/>
                  </a:lnTo>
                  <a:lnTo>
                    <a:pt x="96" y="66"/>
                  </a:lnTo>
                  <a:lnTo>
                    <a:pt x="84" y="60"/>
                  </a:lnTo>
                  <a:lnTo>
                    <a:pt x="72" y="60"/>
                  </a:lnTo>
                  <a:lnTo>
                    <a:pt x="66" y="54"/>
                  </a:lnTo>
                  <a:lnTo>
                    <a:pt x="54" y="48"/>
                  </a:lnTo>
                  <a:lnTo>
                    <a:pt x="42" y="48"/>
                  </a:lnTo>
                  <a:lnTo>
                    <a:pt x="30" y="42"/>
                  </a:lnTo>
                  <a:lnTo>
                    <a:pt x="18" y="36"/>
                  </a:lnTo>
                  <a:lnTo>
                    <a:pt x="18" y="30"/>
                  </a:lnTo>
                  <a:lnTo>
                    <a:pt x="12" y="18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59"/>
            <p:cNvSpPr/>
            <p:nvPr/>
          </p:nvSpPr>
          <p:spPr>
            <a:xfrm>
              <a:off x="7307280" y="584280"/>
              <a:ext cx="114480" cy="16200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72" h="102">
                  <a:moveTo>
                    <a:pt x="0" y="102"/>
                  </a:moveTo>
                  <a:lnTo>
                    <a:pt x="0" y="96"/>
                  </a:lnTo>
                  <a:lnTo>
                    <a:pt x="0" y="84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2" y="60"/>
                  </a:lnTo>
                  <a:lnTo>
                    <a:pt x="18" y="54"/>
                  </a:lnTo>
                  <a:lnTo>
                    <a:pt x="30" y="48"/>
                  </a:lnTo>
                  <a:lnTo>
                    <a:pt x="36" y="36"/>
                  </a:lnTo>
                  <a:lnTo>
                    <a:pt x="48" y="30"/>
                  </a:lnTo>
                  <a:lnTo>
                    <a:pt x="54" y="18"/>
                  </a:lnTo>
                  <a:lnTo>
                    <a:pt x="66" y="12"/>
                  </a:lnTo>
                  <a:lnTo>
                    <a:pt x="72" y="0"/>
                  </a:lnTo>
                  <a:lnTo>
                    <a:pt x="66" y="12"/>
                  </a:lnTo>
                  <a:lnTo>
                    <a:pt x="66" y="24"/>
                  </a:lnTo>
                  <a:lnTo>
                    <a:pt x="60" y="30"/>
                  </a:lnTo>
                  <a:lnTo>
                    <a:pt x="54" y="42"/>
                  </a:lnTo>
                  <a:lnTo>
                    <a:pt x="54" y="54"/>
                  </a:lnTo>
                  <a:lnTo>
                    <a:pt x="48" y="66"/>
                  </a:lnTo>
                  <a:lnTo>
                    <a:pt x="48" y="72"/>
                  </a:lnTo>
                  <a:lnTo>
                    <a:pt x="42" y="84"/>
                  </a:lnTo>
                  <a:lnTo>
                    <a:pt x="36" y="84"/>
                  </a:lnTo>
                  <a:lnTo>
                    <a:pt x="30" y="90"/>
                  </a:lnTo>
                  <a:lnTo>
                    <a:pt x="24" y="90"/>
                  </a:lnTo>
                  <a:lnTo>
                    <a:pt x="18" y="96"/>
                  </a:lnTo>
                  <a:lnTo>
                    <a:pt x="12" y="96"/>
                  </a:lnTo>
                  <a:lnTo>
                    <a:pt x="6" y="10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60"/>
            <p:cNvSpPr/>
            <p:nvPr/>
          </p:nvSpPr>
          <p:spPr>
            <a:xfrm>
              <a:off x="6993000" y="679680"/>
              <a:ext cx="142920" cy="1047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90" h="66">
                  <a:moveTo>
                    <a:pt x="90" y="66"/>
                  </a:moveTo>
                  <a:lnTo>
                    <a:pt x="90" y="66"/>
                  </a:lnTo>
                  <a:lnTo>
                    <a:pt x="84" y="66"/>
                  </a:lnTo>
                  <a:lnTo>
                    <a:pt x="78" y="66"/>
                  </a:lnTo>
                  <a:lnTo>
                    <a:pt x="72" y="66"/>
                  </a:lnTo>
                  <a:lnTo>
                    <a:pt x="66" y="66"/>
                  </a:lnTo>
                  <a:lnTo>
                    <a:pt x="54" y="60"/>
                  </a:lnTo>
                  <a:lnTo>
                    <a:pt x="48" y="48"/>
                  </a:lnTo>
                  <a:lnTo>
                    <a:pt x="36" y="42"/>
                  </a:lnTo>
                  <a:lnTo>
                    <a:pt x="30" y="30"/>
                  </a:lnTo>
                  <a:lnTo>
                    <a:pt x="24" y="24"/>
                  </a:lnTo>
                  <a:lnTo>
                    <a:pt x="12" y="18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0"/>
                  </a:lnTo>
                  <a:lnTo>
                    <a:pt x="18" y="6"/>
                  </a:lnTo>
                  <a:lnTo>
                    <a:pt x="24" y="12"/>
                  </a:lnTo>
                  <a:lnTo>
                    <a:pt x="36" y="12"/>
                  </a:lnTo>
                  <a:lnTo>
                    <a:pt x="48" y="18"/>
                  </a:lnTo>
                  <a:lnTo>
                    <a:pt x="54" y="24"/>
                  </a:lnTo>
                  <a:lnTo>
                    <a:pt x="66" y="24"/>
                  </a:lnTo>
                  <a:lnTo>
                    <a:pt x="72" y="30"/>
                  </a:lnTo>
                  <a:lnTo>
                    <a:pt x="78" y="36"/>
                  </a:lnTo>
                  <a:lnTo>
                    <a:pt x="84" y="48"/>
                  </a:lnTo>
                  <a:lnTo>
                    <a:pt x="90" y="60"/>
                  </a:lnTo>
                  <a:lnTo>
                    <a:pt x="90" y="66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2" name="Rectangle 4" descr=""/>
          <p:cNvPicPr/>
          <p:nvPr/>
        </p:nvPicPr>
        <p:blipFill>
          <a:blip r:embed="rId2"/>
          <a:stretch/>
        </p:blipFill>
        <p:spPr>
          <a:xfrm>
            <a:off x="152280" y="1511280"/>
            <a:ext cx="851076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greetingcard-1"/>
          <p:cNvPicPr/>
          <p:nvPr/>
        </p:nvPicPr>
        <p:blipFill>
          <a:blip r:embed="rId1"/>
          <a:srcRect l="289" t="0" r="0" b="5000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3"/>
          <p:cNvSpPr/>
          <p:nvPr/>
        </p:nvSpPr>
        <p:spPr>
          <a:xfrm rot="490800">
            <a:off x="684000" y="1125000"/>
            <a:ext cx="7559640" cy="52563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4"/>
          <p:cNvSpPr/>
          <p:nvPr/>
        </p:nvSpPr>
        <p:spPr>
          <a:xfrm rot="21352200">
            <a:off x="755640" y="1125000"/>
            <a:ext cx="7559640" cy="5256360"/>
          </a:xfrm>
          <a:prstGeom prst="roundRect">
            <a:avLst>
              <a:gd name="adj" fmla="val 16667"/>
            </a:avLst>
          </a:prstGeom>
          <a:blipFill rotWithShape="0">
            <a:blip r:embed="rId3">
              <a:alphaModFix amt="70000"/>
            </a:blip>
            <a:srcRect/>
            <a:tile tx="0" ty="0" sx="100000" sy="100000" algn="ctr"/>
          </a:blipFill>
          <a:ln w="0">
            <a:solidFill>
              <a:srgbClr val="ff3399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5" descr="greetingc5"/>
          <p:cNvPicPr/>
          <p:nvPr/>
        </p:nvPicPr>
        <p:blipFill>
          <a:blip r:embed="rId4"/>
          <a:stretch/>
        </p:blipFill>
        <p:spPr>
          <a:xfrm rot="661800">
            <a:off x="3924360" y="475920"/>
            <a:ext cx="1643040" cy="13492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1079694348934346780"/>
          <p:cNvPicPr/>
          <p:nvPr/>
        </p:nvPicPr>
        <p:blipFill>
          <a:blip r:embed="rId5"/>
          <a:stretch/>
        </p:blipFill>
        <p:spPr>
          <a:xfrm rot="20581200">
            <a:off x="1618920" y="1557360"/>
            <a:ext cx="781200" cy="5079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1079694348934346780"/>
          <p:cNvPicPr/>
          <p:nvPr/>
        </p:nvPicPr>
        <p:blipFill>
          <a:blip r:embed="rId6"/>
          <a:stretch/>
        </p:blipFill>
        <p:spPr>
          <a:xfrm rot="20581200">
            <a:off x="1115640" y="2276640"/>
            <a:ext cx="781200" cy="50796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1088"/>
          <p:cNvSpPr/>
          <p:nvPr/>
        </p:nvSpPr>
        <p:spPr>
          <a:xfrm rot="20956200">
            <a:off x="2339280" y="1846080"/>
            <a:ext cx="53100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000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6699"/>
                </a:solidFill>
                <a:latin typeface="Arial"/>
                <a:cs typeface="Monotype Koufi"/>
              </a:rPr>
              <a:t>مفهوم البرمج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088"/>
          <p:cNvSpPr/>
          <p:nvPr/>
        </p:nvSpPr>
        <p:spPr>
          <a:xfrm rot="21257400">
            <a:off x="1331640" y="2922480"/>
            <a:ext cx="6072120" cy="316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000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c3399"/>
                </a:solidFill>
                <a:latin typeface="Arial"/>
                <a:cs typeface="Monotype Koufi"/>
              </a:rPr>
              <a:t>انواع البرمجيات </a:t>
            </a:r>
            <a:br>
              <a:rPr sz="4000"/>
            </a:br>
            <a:r>
              <a:rPr b="0" lang="ar-SA" sz="4000" spc="-1" strike="noStrike">
                <a:solidFill>
                  <a:srgbClr val="cc3399"/>
                </a:solidFill>
                <a:latin typeface="Arial"/>
                <a:ea typeface="Monotype Koufi"/>
              </a:rPr>
              <a:t>1</a:t>
            </a:r>
            <a:r>
              <a:rPr b="0" lang="ar-SA" sz="4000" spc="-1" strike="noStrike">
                <a:solidFill>
                  <a:srgbClr val="cc3399"/>
                </a:solidFill>
                <a:latin typeface="Arial"/>
                <a:ea typeface="Monotype Koufi"/>
              </a:rPr>
              <a:t>- انظمة التشغي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c3399"/>
                </a:solidFill>
                <a:latin typeface="Arial"/>
                <a:ea typeface="Monotype Koufi"/>
              </a:rPr>
              <a:t>2</a:t>
            </a:r>
            <a:r>
              <a:rPr b="0" lang="ar-SA" sz="4000" spc="-1" strike="noStrike">
                <a:solidFill>
                  <a:srgbClr val="cc3399"/>
                </a:solidFill>
                <a:latin typeface="Arial"/>
                <a:ea typeface="Monotype Koufi"/>
              </a:rPr>
              <a:t>- برامج التشغيل المساعد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c3399"/>
                </a:solidFill>
                <a:latin typeface="Arial"/>
                <a:ea typeface="Monotype Koufi"/>
              </a:rPr>
              <a:t>3</a:t>
            </a:r>
            <a:r>
              <a:rPr b="0" lang="ar-SA" sz="4000" spc="-1" strike="noStrike">
                <a:solidFill>
                  <a:srgbClr val="cc3399"/>
                </a:solidFill>
                <a:latin typeface="Arial"/>
                <a:ea typeface="Monotype Koufi"/>
              </a:rPr>
              <a:t>- البرامج التطبيقي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0"/>
          <p:cNvSpPr/>
          <p:nvPr/>
        </p:nvSpPr>
        <p:spPr>
          <a:xfrm rot="20784000">
            <a:off x="2470680" y="1915920"/>
            <a:ext cx="138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Lucida Handwrit"/>
              </a:rPr>
              <a:t>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" dur="250" autoRev="1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" dur="250" autoRev="1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" dur="250" autoRev="1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greetingcard-1"/>
          <p:cNvPicPr/>
          <p:nvPr/>
        </p:nvPicPr>
        <p:blipFill>
          <a:blip r:embed="rId1"/>
          <a:srcRect l="289" t="0" r="0" b="5000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AutoShape 3"/>
          <p:cNvSpPr/>
          <p:nvPr/>
        </p:nvSpPr>
        <p:spPr>
          <a:xfrm rot="490800">
            <a:off x="684000" y="1125000"/>
            <a:ext cx="7559640" cy="52563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4"/>
          <p:cNvSpPr/>
          <p:nvPr/>
        </p:nvSpPr>
        <p:spPr>
          <a:xfrm rot="21352200">
            <a:off x="755640" y="1125000"/>
            <a:ext cx="7559640" cy="5256360"/>
          </a:xfrm>
          <a:prstGeom prst="roundRect">
            <a:avLst>
              <a:gd name="adj" fmla="val 16667"/>
            </a:avLst>
          </a:prstGeom>
          <a:blipFill rotWithShape="0">
            <a:blip r:embed="rId3">
              <a:alphaModFix amt="70000"/>
            </a:blip>
            <a:srcRect/>
            <a:tile tx="0" ty="0" sx="100000" sy="100000" algn="ctr"/>
          </a:blipFill>
          <a:ln w="0">
            <a:solidFill>
              <a:srgbClr val="ff3399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" descr="greetingc5"/>
          <p:cNvPicPr/>
          <p:nvPr/>
        </p:nvPicPr>
        <p:blipFill>
          <a:blip r:embed="rId4"/>
          <a:stretch/>
        </p:blipFill>
        <p:spPr>
          <a:xfrm rot="661800">
            <a:off x="3924360" y="475920"/>
            <a:ext cx="1643040" cy="13492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1079694348934346780"/>
          <p:cNvPicPr/>
          <p:nvPr/>
        </p:nvPicPr>
        <p:blipFill>
          <a:blip r:embed="rId5"/>
          <a:stretch/>
        </p:blipFill>
        <p:spPr>
          <a:xfrm rot="20581200">
            <a:off x="1618920" y="1557360"/>
            <a:ext cx="781200" cy="5079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7" descr="1079694348934346780"/>
          <p:cNvPicPr/>
          <p:nvPr/>
        </p:nvPicPr>
        <p:blipFill>
          <a:blip r:embed="rId6"/>
          <a:stretch/>
        </p:blipFill>
        <p:spPr>
          <a:xfrm rot="20581200">
            <a:off x="1115640" y="2276640"/>
            <a:ext cx="781200" cy="50796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1088"/>
          <p:cNvSpPr/>
          <p:nvPr/>
        </p:nvSpPr>
        <p:spPr>
          <a:xfrm rot="20956200">
            <a:off x="947520" y="2100240"/>
            <a:ext cx="6715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000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Monotype Koufi"/>
              </a:rPr>
              <a:t>الفرق بين المبرمج ومستخدم البرنامج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088"/>
          <p:cNvSpPr/>
          <p:nvPr/>
        </p:nvSpPr>
        <p:spPr>
          <a:xfrm rot="21257400">
            <a:off x="1291680" y="2784600"/>
            <a:ext cx="7400880" cy="257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000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c3399"/>
                </a:solidFill>
                <a:latin typeface="Arial"/>
                <a:cs typeface="Monotype Koufi"/>
              </a:rPr>
              <a:t>المبرمج : هو من يكتب البرنام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70c0"/>
                </a:solidFill>
                <a:latin typeface="Arial"/>
                <a:cs typeface="Monotype Koufi"/>
              </a:rPr>
              <a:t>مستخدم البرنامج : من تظهر له واجهة البرنامج ولاتظهر له الاوامر التي كتبها المبرمج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2"/>
          <p:cNvSpPr/>
          <p:nvPr/>
        </p:nvSpPr>
        <p:spPr>
          <a:xfrm rot="21011400">
            <a:off x="2256840" y="1844280"/>
            <a:ext cx="173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Lucida Handwrit"/>
              </a:rPr>
              <a:t>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" dur="250" autoRev="1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8" dur="250" autoRev="1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" dur="250" autoRev="1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3"/>
          <p:cNvSpPr/>
          <p:nvPr/>
        </p:nvSpPr>
        <p:spPr>
          <a:xfrm>
            <a:off x="1547640" y="316080"/>
            <a:ext cx="4916520" cy="5870520"/>
          </a:xfrm>
          <a:prstGeom prst="ellipse">
            <a:avLst/>
          </a:prstGeom>
          <a:solidFill>
            <a:srgbClr val="ff33cc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4"/>
          <p:cNvSpPr/>
          <p:nvPr/>
        </p:nvSpPr>
        <p:spPr>
          <a:xfrm>
            <a:off x="1789200" y="557280"/>
            <a:ext cx="4917960" cy="5870520"/>
          </a:xfrm>
          <a:prstGeom prst="ellipse">
            <a:avLst/>
          </a:prstGeom>
          <a:solidFill>
            <a:srgbClr val="ffffff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5"/>
          <p:cNvSpPr/>
          <p:nvPr/>
        </p:nvSpPr>
        <p:spPr>
          <a:xfrm>
            <a:off x="1187280" y="476280"/>
            <a:ext cx="4916520" cy="5870520"/>
          </a:xfrm>
          <a:prstGeom prst="ellipse">
            <a:avLst/>
          </a:prstGeom>
          <a:solidFill>
            <a:srgbClr val="ccff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6" descr="an01251_"/>
          <p:cNvPicPr/>
          <p:nvPr/>
        </p:nvPicPr>
        <p:blipFill>
          <a:blip r:embed="rId1"/>
          <a:stretch/>
        </p:blipFill>
        <p:spPr>
          <a:xfrm flipH="1">
            <a:off x="9153000" y="0"/>
            <a:ext cx="1395720" cy="12542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an01251_"/>
          <p:cNvPicPr/>
          <p:nvPr/>
        </p:nvPicPr>
        <p:blipFill>
          <a:blip r:embed="rId2"/>
          <a:stretch/>
        </p:blipFill>
        <p:spPr>
          <a:xfrm>
            <a:off x="8172360" y="1989000"/>
            <a:ext cx="644760" cy="9064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8" descr="an01251_"/>
          <p:cNvPicPr/>
          <p:nvPr/>
        </p:nvPicPr>
        <p:blipFill>
          <a:blip r:embed="rId3"/>
          <a:stretch/>
        </p:blipFill>
        <p:spPr>
          <a:xfrm>
            <a:off x="7380360" y="3500280"/>
            <a:ext cx="771480" cy="10051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9" descr="an01251_"/>
          <p:cNvPicPr/>
          <p:nvPr/>
        </p:nvPicPr>
        <p:blipFill>
          <a:blip r:embed="rId4"/>
          <a:stretch/>
        </p:blipFill>
        <p:spPr>
          <a:xfrm>
            <a:off x="7450200" y="1179360"/>
            <a:ext cx="382680" cy="5842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0" descr="an01251_"/>
          <p:cNvPicPr/>
          <p:nvPr/>
        </p:nvPicPr>
        <p:blipFill>
          <a:blip r:embed="rId5"/>
          <a:stretch/>
        </p:blipFill>
        <p:spPr>
          <a:xfrm flipH="1">
            <a:off x="7596360" y="-747720"/>
            <a:ext cx="706320" cy="6364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1" descr="an01251_"/>
          <p:cNvPicPr/>
          <p:nvPr/>
        </p:nvPicPr>
        <p:blipFill>
          <a:blip r:embed="rId6">
            <a:lum bright="-24000"/>
          </a:blip>
          <a:stretch/>
        </p:blipFill>
        <p:spPr>
          <a:xfrm>
            <a:off x="8445600" y="7070760"/>
            <a:ext cx="1395360" cy="1254240"/>
          </a:xfrm>
          <a:prstGeom prst="rect">
            <a:avLst/>
          </a:prstGeom>
          <a:ln w="0">
            <a:noFill/>
          </a:ln>
        </p:spPr>
      </p:pic>
      <p:sp>
        <p:nvSpPr>
          <p:cNvPr id="225" name="Freeform 12"/>
          <p:cNvSpPr/>
          <p:nvPr/>
        </p:nvSpPr>
        <p:spPr>
          <a:xfrm flipH="1">
            <a:off x="250200" y="1773360"/>
            <a:ext cx="718920" cy="3600360"/>
          </a:xfrm>
          <a:custGeom>
            <a:avLst/>
            <a:gdLst>
              <a:gd name="textAreaLeft" fmla="*/ -360 w 718920"/>
              <a:gd name="textAreaRight" fmla="*/ 718920 w 718920"/>
              <a:gd name="textAreaTop" fmla="*/ 0 h 3600360"/>
              <a:gd name="textAreaBottom" fmla="*/ 3600720 h 3600360"/>
            </a:gdLst>
            <a:ahLst/>
            <a:rect l="textAreaLeft" t="textAreaTop" r="textAreaRight" b="textAreaBottom"/>
            <a:pathLst>
              <a:path w="315" h="1262">
                <a:moveTo>
                  <a:pt x="315" y="638"/>
                </a:moveTo>
                <a:lnTo>
                  <a:pt x="314" y="566"/>
                </a:lnTo>
                <a:lnTo>
                  <a:pt x="311" y="496"/>
                </a:lnTo>
                <a:lnTo>
                  <a:pt x="306" y="427"/>
                </a:lnTo>
                <a:lnTo>
                  <a:pt x="298" y="360"/>
                </a:lnTo>
                <a:lnTo>
                  <a:pt x="289" y="293"/>
                </a:lnTo>
                <a:lnTo>
                  <a:pt x="279" y="229"/>
                </a:lnTo>
                <a:lnTo>
                  <a:pt x="266" y="166"/>
                </a:lnTo>
                <a:lnTo>
                  <a:pt x="252" y="103"/>
                </a:lnTo>
                <a:lnTo>
                  <a:pt x="238" y="95"/>
                </a:lnTo>
                <a:lnTo>
                  <a:pt x="224" y="88"/>
                </a:lnTo>
                <a:lnTo>
                  <a:pt x="211" y="80"/>
                </a:lnTo>
                <a:lnTo>
                  <a:pt x="196" y="74"/>
                </a:lnTo>
                <a:lnTo>
                  <a:pt x="181" y="67"/>
                </a:lnTo>
                <a:lnTo>
                  <a:pt x="166" y="60"/>
                </a:lnTo>
                <a:lnTo>
                  <a:pt x="151" y="53"/>
                </a:lnTo>
                <a:lnTo>
                  <a:pt x="134" y="46"/>
                </a:lnTo>
                <a:lnTo>
                  <a:pt x="118" y="40"/>
                </a:lnTo>
                <a:lnTo>
                  <a:pt x="102" y="34"/>
                </a:lnTo>
                <a:lnTo>
                  <a:pt x="86" y="27"/>
                </a:lnTo>
                <a:lnTo>
                  <a:pt x="69" y="22"/>
                </a:lnTo>
                <a:lnTo>
                  <a:pt x="53" y="16"/>
                </a:lnTo>
                <a:lnTo>
                  <a:pt x="35" y="10"/>
                </a:lnTo>
                <a:lnTo>
                  <a:pt x="17" y="6"/>
                </a:lnTo>
                <a:lnTo>
                  <a:pt x="0" y="0"/>
                </a:lnTo>
                <a:lnTo>
                  <a:pt x="15" y="6"/>
                </a:lnTo>
                <a:lnTo>
                  <a:pt x="30" y="10"/>
                </a:lnTo>
                <a:lnTo>
                  <a:pt x="43" y="16"/>
                </a:lnTo>
                <a:lnTo>
                  <a:pt x="58" y="22"/>
                </a:lnTo>
                <a:lnTo>
                  <a:pt x="72" y="27"/>
                </a:lnTo>
                <a:lnTo>
                  <a:pt x="86" y="33"/>
                </a:lnTo>
                <a:lnTo>
                  <a:pt x="100" y="39"/>
                </a:lnTo>
                <a:lnTo>
                  <a:pt x="114" y="45"/>
                </a:lnTo>
                <a:lnTo>
                  <a:pt x="126" y="50"/>
                </a:lnTo>
                <a:lnTo>
                  <a:pt x="139" y="57"/>
                </a:lnTo>
                <a:lnTo>
                  <a:pt x="153" y="63"/>
                </a:lnTo>
                <a:lnTo>
                  <a:pt x="164" y="70"/>
                </a:lnTo>
                <a:lnTo>
                  <a:pt x="177" y="76"/>
                </a:lnTo>
                <a:lnTo>
                  <a:pt x="190" y="83"/>
                </a:lnTo>
                <a:lnTo>
                  <a:pt x="201" y="90"/>
                </a:lnTo>
                <a:lnTo>
                  <a:pt x="213" y="97"/>
                </a:lnTo>
                <a:lnTo>
                  <a:pt x="216" y="99"/>
                </a:lnTo>
                <a:lnTo>
                  <a:pt x="217" y="102"/>
                </a:lnTo>
                <a:lnTo>
                  <a:pt x="234" y="166"/>
                </a:lnTo>
                <a:lnTo>
                  <a:pt x="249" y="230"/>
                </a:lnTo>
                <a:lnTo>
                  <a:pt x="261" y="297"/>
                </a:lnTo>
                <a:lnTo>
                  <a:pt x="270" y="364"/>
                </a:lnTo>
                <a:lnTo>
                  <a:pt x="279" y="432"/>
                </a:lnTo>
                <a:lnTo>
                  <a:pt x="284" y="501"/>
                </a:lnTo>
                <a:lnTo>
                  <a:pt x="288" y="570"/>
                </a:lnTo>
                <a:lnTo>
                  <a:pt x="289" y="639"/>
                </a:lnTo>
                <a:lnTo>
                  <a:pt x="288" y="705"/>
                </a:lnTo>
                <a:lnTo>
                  <a:pt x="284" y="769"/>
                </a:lnTo>
                <a:lnTo>
                  <a:pt x="280" y="835"/>
                </a:lnTo>
                <a:lnTo>
                  <a:pt x="272" y="900"/>
                </a:lnTo>
                <a:lnTo>
                  <a:pt x="262" y="965"/>
                </a:lnTo>
                <a:lnTo>
                  <a:pt x="250" y="1030"/>
                </a:lnTo>
                <a:lnTo>
                  <a:pt x="236" y="1095"/>
                </a:lnTo>
                <a:lnTo>
                  <a:pt x="220" y="1159"/>
                </a:lnTo>
                <a:lnTo>
                  <a:pt x="219" y="1163"/>
                </a:lnTo>
                <a:lnTo>
                  <a:pt x="215" y="1165"/>
                </a:lnTo>
                <a:lnTo>
                  <a:pt x="204" y="1172"/>
                </a:lnTo>
                <a:lnTo>
                  <a:pt x="192" y="1179"/>
                </a:lnTo>
                <a:lnTo>
                  <a:pt x="179" y="1186"/>
                </a:lnTo>
                <a:lnTo>
                  <a:pt x="167" y="1192"/>
                </a:lnTo>
                <a:lnTo>
                  <a:pt x="155" y="1199"/>
                </a:lnTo>
                <a:lnTo>
                  <a:pt x="141" y="1204"/>
                </a:lnTo>
                <a:lnTo>
                  <a:pt x="129" y="1211"/>
                </a:lnTo>
                <a:lnTo>
                  <a:pt x="116" y="1217"/>
                </a:lnTo>
                <a:lnTo>
                  <a:pt x="102" y="1223"/>
                </a:lnTo>
                <a:lnTo>
                  <a:pt x="88" y="1229"/>
                </a:lnTo>
                <a:lnTo>
                  <a:pt x="75" y="1234"/>
                </a:lnTo>
                <a:lnTo>
                  <a:pt x="61" y="1240"/>
                </a:lnTo>
                <a:lnTo>
                  <a:pt x="46" y="1246"/>
                </a:lnTo>
                <a:lnTo>
                  <a:pt x="32" y="1252"/>
                </a:lnTo>
                <a:lnTo>
                  <a:pt x="17" y="1256"/>
                </a:lnTo>
                <a:lnTo>
                  <a:pt x="2" y="1262"/>
                </a:lnTo>
                <a:lnTo>
                  <a:pt x="19" y="1256"/>
                </a:lnTo>
                <a:lnTo>
                  <a:pt x="37" y="1252"/>
                </a:lnTo>
                <a:lnTo>
                  <a:pt x="54" y="1246"/>
                </a:lnTo>
                <a:lnTo>
                  <a:pt x="71" y="1240"/>
                </a:lnTo>
                <a:lnTo>
                  <a:pt x="87" y="1234"/>
                </a:lnTo>
                <a:lnTo>
                  <a:pt x="103" y="1229"/>
                </a:lnTo>
                <a:lnTo>
                  <a:pt x="119" y="1222"/>
                </a:lnTo>
                <a:lnTo>
                  <a:pt x="136" y="1216"/>
                </a:lnTo>
                <a:lnTo>
                  <a:pt x="151" y="1209"/>
                </a:lnTo>
                <a:lnTo>
                  <a:pt x="167" y="1202"/>
                </a:lnTo>
                <a:lnTo>
                  <a:pt x="182" y="1195"/>
                </a:lnTo>
                <a:lnTo>
                  <a:pt x="196" y="1188"/>
                </a:lnTo>
                <a:lnTo>
                  <a:pt x="211" y="1181"/>
                </a:lnTo>
                <a:lnTo>
                  <a:pt x="224" y="1174"/>
                </a:lnTo>
                <a:lnTo>
                  <a:pt x="238" y="1168"/>
                </a:lnTo>
                <a:lnTo>
                  <a:pt x="252" y="1159"/>
                </a:lnTo>
                <a:lnTo>
                  <a:pt x="266" y="1100"/>
                </a:lnTo>
                <a:lnTo>
                  <a:pt x="279" y="1037"/>
                </a:lnTo>
                <a:lnTo>
                  <a:pt x="289" y="973"/>
                </a:lnTo>
                <a:lnTo>
                  <a:pt x="298" y="908"/>
                </a:lnTo>
                <a:lnTo>
                  <a:pt x="305" y="843"/>
                </a:lnTo>
                <a:lnTo>
                  <a:pt x="311" y="775"/>
                </a:lnTo>
                <a:lnTo>
                  <a:pt x="314" y="707"/>
                </a:lnTo>
                <a:lnTo>
                  <a:pt x="315" y="638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13"/>
          <p:cNvSpPr/>
          <p:nvPr/>
        </p:nvSpPr>
        <p:spPr>
          <a:xfrm>
            <a:off x="684360" y="2637000"/>
            <a:ext cx="430200" cy="439560"/>
          </a:xfrm>
          <a:custGeom>
            <a:avLst/>
            <a:gdLst>
              <a:gd name="textAreaLeft" fmla="*/ 0 w 430200"/>
              <a:gd name="textAreaRight" fmla="*/ 430560 w 430200"/>
              <a:gd name="textAreaTop" fmla="*/ 0 h 439560"/>
              <a:gd name="textAreaBottom" fmla="*/ 439920 h 439560"/>
            </a:gdLst>
            <a:ahLst/>
            <a:rect l="textAreaLeft" t="textAreaTop" r="textAreaRight" b="textAreaBottom"/>
            <a:pathLst>
              <a:path w="168" h="168">
                <a:moveTo>
                  <a:pt x="84" y="0"/>
                </a:moveTo>
                <a:lnTo>
                  <a:pt x="67" y="1"/>
                </a:lnTo>
                <a:lnTo>
                  <a:pt x="52" y="7"/>
                </a:lnTo>
                <a:lnTo>
                  <a:pt x="37" y="14"/>
                </a:lnTo>
                <a:lnTo>
                  <a:pt x="25" y="24"/>
                </a:lnTo>
                <a:lnTo>
                  <a:pt x="15" y="37"/>
                </a:lnTo>
                <a:lnTo>
                  <a:pt x="7" y="51"/>
                </a:lnTo>
                <a:lnTo>
                  <a:pt x="1" y="67"/>
                </a:lnTo>
                <a:lnTo>
                  <a:pt x="0" y="84"/>
                </a:lnTo>
                <a:lnTo>
                  <a:pt x="1" y="102"/>
                </a:lnTo>
                <a:lnTo>
                  <a:pt x="7" y="117"/>
                </a:lnTo>
                <a:lnTo>
                  <a:pt x="15" y="132"/>
                </a:lnTo>
                <a:lnTo>
                  <a:pt x="25" y="143"/>
                </a:lnTo>
                <a:lnTo>
                  <a:pt x="37" y="153"/>
                </a:lnTo>
                <a:lnTo>
                  <a:pt x="52" y="161"/>
                </a:lnTo>
                <a:lnTo>
                  <a:pt x="67" y="167"/>
                </a:lnTo>
                <a:lnTo>
                  <a:pt x="84" y="168"/>
                </a:lnTo>
                <a:lnTo>
                  <a:pt x="101" y="167"/>
                </a:lnTo>
                <a:lnTo>
                  <a:pt x="117" y="161"/>
                </a:lnTo>
                <a:lnTo>
                  <a:pt x="131" y="153"/>
                </a:lnTo>
                <a:lnTo>
                  <a:pt x="144" y="143"/>
                </a:lnTo>
                <a:lnTo>
                  <a:pt x="154" y="132"/>
                </a:lnTo>
                <a:lnTo>
                  <a:pt x="161" y="117"/>
                </a:lnTo>
                <a:lnTo>
                  <a:pt x="167" y="102"/>
                </a:lnTo>
                <a:lnTo>
                  <a:pt x="168" y="84"/>
                </a:lnTo>
                <a:lnTo>
                  <a:pt x="167" y="67"/>
                </a:lnTo>
                <a:lnTo>
                  <a:pt x="161" y="51"/>
                </a:lnTo>
                <a:lnTo>
                  <a:pt x="154" y="37"/>
                </a:lnTo>
                <a:lnTo>
                  <a:pt x="144" y="24"/>
                </a:lnTo>
                <a:lnTo>
                  <a:pt x="131" y="14"/>
                </a:lnTo>
                <a:lnTo>
                  <a:pt x="117" y="7"/>
                </a:lnTo>
                <a:lnTo>
                  <a:pt x="101" y="1"/>
                </a:lnTo>
                <a:lnTo>
                  <a:pt x="84" y="0"/>
                </a:lnTo>
                <a:close/>
              </a:path>
            </a:pathLst>
          </a:custGeom>
          <a:solidFill>
            <a:srgbClr val="ff07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4"/>
          <p:cNvSpPr/>
          <p:nvPr/>
        </p:nvSpPr>
        <p:spPr>
          <a:xfrm>
            <a:off x="755640" y="3429000"/>
            <a:ext cx="263520" cy="287280"/>
          </a:xfrm>
          <a:custGeom>
            <a:avLst/>
            <a:gdLst>
              <a:gd name="textAreaLeft" fmla="*/ 0 w 263520"/>
              <a:gd name="textAreaRight" fmla="*/ 263880 w 2635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10" h="110">
                <a:moveTo>
                  <a:pt x="55" y="0"/>
                </a:moveTo>
                <a:lnTo>
                  <a:pt x="43" y="2"/>
                </a:lnTo>
                <a:lnTo>
                  <a:pt x="33" y="5"/>
                </a:lnTo>
                <a:lnTo>
                  <a:pt x="24" y="10"/>
                </a:lnTo>
                <a:lnTo>
                  <a:pt x="16" y="17"/>
                </a:lnTo>
                <a:lnTo>
                  <a:pt x="9" y="25"/>
                </a:lnTo>
                <a:lnTo>
                  <a:pt x="4" y="34"/>
                </a:lnTo>
                <a:lnTo>
                  <a:pt x="1" y="44"/>
                </a:lnTo>
                <a:lnTo>
                  <a:pt x="0" y="56"/>
                </a:lnTo>
                <a:lnTo>
                  <a:pt x="1" y="66"/>
                </a:lnTo>
                <a:lnTo>
                  <a:pt x="4" y="76"/>
                </a:lnTo>
                <a:lnTo>
                  <a:pt x="9" y="86"/>
                </a:lnTo>
                <a:lnTo>
                  <a:pt x="16" y="94"/>
                </a:lnTo>
                <a:lnTo>
                  <a:pt x="24" y="101"/>
                </a:lnTo>
                <a:lnTo>
                  <a:pt x="33" y="105"/>
                </a:lnTo>
                <a:lnTo>
                  <a:pt x="43" y="109"/>
                </a:lnTo>
                <a:lnTo>
                  <a:pt x="55" y="110"/>
                </a:lnTo>
                <a:lnTo>
                  <a:pt x="66" y="109"/>
                </a:lnTo>
                <a:lnTo>
                  <a:pt x="76" y="105"/>
                </a:lnTo>
                <a:lnTo>
                  <a:pt x="86" y="101"/>
                </a:lnTo>
                <a:lnTo>
                  <a:pt x="94" y="94"/>
                </a:lnTo>
                <a:lnTo>
                  <a:pt x="101" y="86"/>
                </a:lnTo>
                <a:lnTo>
                  <a:pt x="106" y="76"/>
                </a:lnTo>
                <a:lnTo>
                  <a:pt x="109" y="66"/>
                </a:lnTo>
                <a:lnTo>
                  <a:pt x="110" y="56"/>
                </a:lnTo>
                <a:lnTo>
                  <a:pt x="109" y="44"/>
                </a:lnTo>
                <a:lnTo>
                  <a:pt x="106" y="34"/>
                </a:lnTo>
                <a:lnTo>
                  <a:pt x="101" y="25"/>
                </a:lnTo>
                <a:lnTo>
                  <a:pt x="94" y="17"/>
                </a:lnTo>
                <a:lnTo>
                  <a:pt x="86" y="10"/>
                </a:lnTo>
                <a:lnTo>
                  <a:pt x="76" y="5"/>
                </a:lnTo>
                <a:lnTo>
                  <a:pt x="66" y="2"/>
                </a:lnTo>
                <a:lnTo>
                  <a:pt x="55" y="0"/>
                </a:lnTo>
                <a:close/>
              </a:path>
            </a:pathLst>
          </a:custGeom>
          <a:solidFill>
            <a:srgbClr val="c00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5"/>
          <p:cNvSpPr/>
          <p:nvPr/>
        </p:nvSpPr>
        <p:spPr>
          <a:xfrm>
            <a:off x="826920" y="3940200"/>
            <a:ext cx="144720" cy="136440"/>
          </a:xfrm>
          <a:custGeom>
            <a:avLst/>
            <a:gdLst>
              <a:gd name="textAreaLeft" fmla="*/ 0 w 144720"/>
              <a:gd name="textAreaRight" fmla="*/ 145080 w 14472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110" h="109">
                <a:moveTo>
                  <a:pt x="55" y="0"/>
                </a:moveTo>
                <a:lnTo>
                  <a:pt x="43" y="1"/>
                </a:lnTo>
                <a:lnTo>
                  <a:pt x="33" y="5"/>
                </a:lnTo>
                <a:lnTo>
                  <a:pt x="24" y="9"/>
                </a:lnTo>
                <a:lnTo>
                  <a:pt x="16" y="16"/>
                </a:lnTo>
                <a:lnTo>
                  <a:pt x="9" y="24"/>
                </a:lnTo>
                <a:lnTo>
                  <a:pt x="4" y="35"/>
                </a:lnTo>
                <a:lnTo>
                  <a:pt x="1" y="44"/>
                </a:lnTo>
                <a:lnTo>
                  <a:pt x="0" y="55"/>
                </a:lnTo>
                <a:lnTo>
                  <a:pt x="1" y="66"/>
                </a:lnTo>
                <a:lnTo>
                  <a:pt x="4" y="76"/>
                </a:lnTo>
                <a:lnTo>
                  <a:pt x="9" y="85"/>
                </a:lnTo>
                <a:lnTo>
                  <a:pt x="16" y="93"/>
                </a:lnTo>
                <a:lnTo>
                  <a:pt x="24" y="100"/>
                </a:lnTo>
                <a:lnTo>
                  <a:pt x="33" y="105"/>
                </a:lnTo>
                <a:lnTo>
                  <a:pt x="43" y="108"/>
                </a:lnTo>
                <a:lnTo>
                  <a:pt x="55" y="109"/>
                </a:lnTo>
                <a:lnTo>
                  <a:pt x="66" y="108"/>
                </a:lnTo>
                <a:lnTo>
                  <a:pt x="76" y="105"/>
                </a:lnTo>
                <a:lnTo>
                  <a:pt x="86" y="100"/>
                </a:lnTo>
                <a:lnTo>
                  <a:pt x="94" y="93"/>
                </a:lnTo>
                <a:lnTo>
                  <a:pt x="101" y="85"/>
                </a:lnTo>
                <a:lnTo>
                  <a:pt x="106" y="76"/>
                </a:lnTo>
                <a:lnTo>
                  <a:pt x="109" y="66"/>
                </a:lnTo>
                <a:lnTo>
                  <a:pt x="110" y="55"/>
                </a:lnTo>
                <a:lnTo>
                  <a:pt x="109" y="44"/>
                </a:lnTo>
                <a:lnTo>
                  <a:pt x="106" y="35"/>
                </a:lnTo>
                <a:lnTo>
                  <a:pt x="101" y="24"/>
                </a:lnTo>
                <a:lnTo>
                  <a:pt x="94" y="16"/>
                </a:lnTo>
                <a:lnTo>
                  <a:pt x="86" y="9"/>
                </a:lnTo>
                <a:lnTo>
                  <a:pt x="76" y="5"/>
                </a:lnTo>
                <a:lnTo>
                  <a:pt x="66" y="1"/>
                </a:lnTo>
                <a:lnTo>
                  <a:pt x="55" y="0"/>
                </a:lnTo>
                <a:close/>
              </a:path>
            </a:pathLst>
          </a:custGeom>
          <a:solidFill>
            <a:srgbClr val="ffb1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6"/>
          <p:cNvSpPr/>
          <p:nvPr/>
        </p:nvSpPr>
        <p:spPr>
          <a:xfrm>
            <a:off x="1187280" y="765000"/>
            <a:ext cx="4321440" cy="39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  <a:ea typeface="Simplified Arabic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ea typeface="Simplified Arabic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7"/>
          <p:cNvSpPr/>
          <p:nvPr/>
        </p:nvSpPr>
        <p:spPr>
          <a:xfrm>
            <a:off x="2124000" y="836640"/>
            <a:ext cx="4321080" cy="64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3399"/>
                </a:solidFill>
                <a:latin typeface="Arial"/>
                <a:cs typeface="Arabic Typesetting"/>
              </a:rPr>
              <a:t>كيف يحصل الفرد او الشركة على البرامج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  <a:ea typeface="Simplified Arabic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ea typeface="Simplified Arabic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8"/>
          <p:cNvSpPr/>
          <p:nvPr/>
        </p:nvSpPr>
        <p:spPr>
          <a:xfrm>
            <a:off x="1187280" y="2708280"/>
            <a:ext cx="6121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بطريقتين هما 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1</a:t>
            </a:r>
            <a:r>
              <a:rPr b="0" lang="ar-SA" sz="54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- شراء برنامج جاهز (مكتوب مسبقاً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2</a:t>
            </a:r>
            <a:r>
              <a:rPr b="0" lang="ar-SA" sz="54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- تطوير برنامج جدي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greetingcard-1"/>
          <p:cNvPicPr/>
          <p:nvPr/>
        </p:nvPicPr>
        <p:blipFill>
          <a:blip r:embed="rId1"/>
          <a:srcRect l="0" t="0" r="50003" b="28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5"/>
          <p:cNvSpPr/>
          <p:nvPr/>
        </p:nvSpPr>
        <p:spPr>
          <a:xfrm>
            <a:off x="6372360" y="4332240"/>
            <a:ext cx="2520720" cy="792360"/>
          </a:xfrm>
          <a:prstGeom prst="rect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3346560" y="4332240"/>
            <a:ext cx="2017440" cy="79236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2411280" y="4332240"/>
            <a:ext cx="792360" cy="792360"/>
          </a:xfrm>
          <a:prstGeom prst="rect">
            <a:avLst/>
          </a:prstGeom>
          <a:solidFill>
            <a:srgbClr val="00cc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179280" y="4332240"/>
            <a:ext cx="2017800" cy="792360"/>
          </a:xfrm>
          <a:prstGeom prst="rect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6" descr="p8"/>
          <p:cNvPicPr/>
          <p:nvPr/>
        </p:nvPicPr>
        <p:blipFill>
          <a:blip r:embed="rId2"/>
          <a:stretch/>
        </p:blipFill>
        <p:spPr>
          <a:xfrm>
            <a:off x="-181080" y="907920"/>
            <a:ext cx="9325080" cy="216072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4"/>
          <p:cNvSpPr/>
          <p:nvPr/>
        </p:nvSpPr>
        <p:spPr>
          <a:xfrm>
            <a:off x="250920" y="893880"/>
            <a:ext cx="864216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993366"/>
                </a:solidFill>
                <a:latin typeface="Arial"/>
              </a:rPr>
              <a:t>ماهي البرامج الجاهز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7575d1"/>
                </a:solidFill>
                <a:latin typeface="Arial"/>
                <a:cs typeface="arabswell_2"/>
              </a:rPr>
              <a:t>هي برامج عامة مكتوبة مسبقاً يمكن شراؤها مباشرة من السوق .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5"/>
          <p:cNvSpPr/>
          <p:nvPr/>
        </p:nvSpPr>
        <p:spPr>
          <a:xfrm>
            <a:off x="5435640" y="4365720"/>
            <a:ext cx="792000" cy="792000"/>
          </a:xfrm>
          <a:prstGeom prst="rect">
            <a:avLst/>
          </a:prstGeom>
          <a:solidFill>
            <a:srgbClr val="00cc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greetingcard-1"/>
          <p:cNvPicPr/>
          <p:nvPr/>
        </p:nvPicPr>
        <p:blipFill>
          <a:blip r:embed="rId1"/>
          <a:srcRect l="0" t="0" r="50003" b="28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4944576"/>
          <p:cNvPicPr/>
          <p:nvPr/>
        </p:nvPicPr>
        <p:blipFill>
          <a:blip r:embed="rId2"/>
          <a:stretch/>
        </p:blipFill>
        <p:spPr>
          <a:xfrm>
            <a:off x="6948360" y="4797360"/>
            <a:ext cx="2700360" cy="23400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4942442"/>
          <p:cNvPicPr/>
          <p:nvPr/>
        </p:nvPicPr>
        <p:blipFill>
          <a:blip r:embed="rId3"/>
          <a:stretch/>
        </p:blipFill>
        <p:spPr>
          <a:xfrm>
            <a:off x="-541440" y="-31608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14"/>
          <p:cNvSpPr/>
          <p:nvPr/>
        </p:nvSpPr>
        <p:spPr>
          <a:xfrm>
            <a:off x="250920" y="893880"/>
            <a:ext cx="864216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3366"/>
                </a:solidFill>
                <a:latin typeface="Arial"/>
              </a:rPr>
              <a:t>ماهي اهم الاوامر في البرمجة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3366"/>
                </a:solidFill>
                <a:latin typeface="Arial"/>
              </a:rPr>
              <a:t>الادخال : </a:t>
            </a:r>
            <a:r>
              <a:rPr b="1" lang="ar-SA" sz="2000" spc="-1" strike="noStrike">
                <a:solidFill>
                  <a:srgbClr val="ff9900"/>
                </a:solidFill>
                <a:latin typeface="Arial"/>
              </a:rPr>
              <a:t>عملية استقبال البيانات التي سوف يعالجها البرنامج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3366"/>
                </a:solidFill>
                <a:latin typeface="Arial"/>
              </a:rPr>
              <a:t>الاخراج : </a:t>
            </a:r>
            <a:r>
              <a:rPr b="1" lang="ar-SA" sz="2000" spc="-1" strike="noStrike">
                <a:solidFill>
                  <a:srgbClr val="7575d1"/>
                </a:solidFill>
                <a:latin typeface="Arial"/>
              </a:rPr>
              <a:t>عملية عرض المعلومات التي نتجت عن تنفيذ البرنامج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3366"/>
                </a:solidFill>
                <a:latin typeface="Arial"/>
              </a:rPr>
              <a:t>الحساب : </a:t>
            </a:r>
            <a:r>
              <a:rPr b="1" lang="ar-SA" sz="2000" spc="-1" strike="noStrike">
                <a:solidFill>
                  <a:srgbClr val="002060"/>
                </a:solidFill>
                <a:latin typeface="Arial"/>
              </a:rPr>
              <a:t>وهي العمليات الحسابية التي ينفذها البرنامج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3366"/>
                </a:solidFill>
                <a:latin typeface="Arial"/>
              </a:rPr>
              <a:t>التحقق من الشرط : </a:t>
            </a:r>
            <a:r>
              <a:rPr b="1" lang="ar-SA" sz="2000" spc="-1" strike="noStrike">
                <a:solidFill>
                  <a:srgbClr val="3c8c93"/>
                </a:solidFill>
                <a:latin typeface="Arial"/>
              </a:rPr>
              <a:t>وهي عملية التحقق من صحة شرط ما وتنفيذ بعض الاوامر بناء على مصداقية الشر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3366"/>
                </a:solidFill>
                <a:latin typeface="Arial"/>
              </a:rPr>
              <a:t>التكرار : </a:t>
            </a:r>
            <a:r>
              <a:rPr b="1" lang="ar-SA" sz="2000" spc="-1" strike="noStrike">
                <a:solidFill>
                  <a:srgbClr val="7575d1"/>
                </a:solidFill>
                <a:latin typeface="Arial"/>
              </a:rPr>
              <a:t>وهي عملية تكرار مجموعة من الاوامر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شكل بيضاوي 9"/>
          <p:cNvSpPr/>
          <p:nvPr/>
        </p:nvSpPr>
        <p:spPr>
          <a:xfrm>
            <a:off x="5867280" y="2205000"/>
            <a:ext cx="1297080" cy="576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شكل بيضاوي 10"/>
          <p:cNvSpPr/>
          <p:nvPr/>
        </p:nvSpPr>
        <p:spPr>
          <a:xfrm>
            <a:off x="6875640" y="2637000"/>
            <a:ext cx="1873080" cy="576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شكل بيضاوي 11"/>
          <p:cNvSpPr/>
          <p:nvPr/>
        </p:nvSpPr>
        <p:spPr>
          <a:xfrm>
            <a:off x="5651640" y="3429000"/>
            <a:ext cx="1296720" cy="576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7" name="رابط كسهم مستقيم 13"/>
          <p:cNvCxnSpPr>
            <a:endCxn id="244" idx="3"/>
          </p:cNvCxnSpPr>
          <p:nvPr/>
        </p:nvCxnSpPr>
        <p:spPr>
          <a:xfrm flipV="1">
            <a:off x="5003280" y="2696760"/>
            <a:ext cx="1055160" cy="21009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48" name="رابط كسهم مستقيم 18"/>
          <p:cNvCxnSpPr/>
          <p:nvPr/>
        </p:nvCxnSpPr>
        <p:spPr>
          <a:xfrm flipV="1">
            <a:off x="6011640" y="3212280"/>
            <a:ext cx="1369080" cy="1585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49" name="رابط كسهم مستقيم 19"/>
          <p:cNvCxnSpPr/>
          <p:nvPr/>
        </p:nvCxnSpPr>
        <p:spPr>
          <a:xfrm flipV="1">
            <a:off x="5308560" y="3933360"/>
            <a:ext cx="776880" cy="11692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250" name="شكل بيضاوي 23" descr=""/>
          <p:cNvPicPr/>
          <p:nvPr/>
        </p:nvPicPr>
        <p:blipFill>
          <a:blip r:embed="rId4"/>
          <a:stretch/>
        </p:blipFill>
        <p:spPr>
          <a:xfrm>
            <a:off x="1603440" y="4492800"/>
            <a:ext cx="4645080" cy="96984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5" dur="1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" dur="1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2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4" descr="greetingcard-1"/>
          <p:cNvPicPr/>
          <p:nvPr/>
        </p:nvPicPr>
        <p:blipFill>
          <a:blip r:embed="rId1"/>
          <a:srcRect l="49843" t="0" r="0" b="0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p8"/>
          <p:cNvPicPr/>
          <p:nvPr/>
        </p:nvPicPr>
        <p:blipFill>
          <a:blip r:embed="rId2"/>
          <a:stretch/>
        </p:blipFill>
        <p:spPr>
          <a:xfrm>
            <a:off x="-181080" y="907920"/>
            <a:ext cx="9325080" cy="2556000"/>
          </a:xfrm>
          <a:prstGeom prst="rect">
            <a:avLst/>
          </a:prstGeom>
          <a:ln w="0">
            <a:noFill/>
          </a:ln>
        </p:spPr>
      </p:pic>
      <p:sp>
        <p:nvSpPr>
          <p:cNvPr id="253" name="مستطيل مستدير الزوايا 32"/>
          <p:cNvSpPr/>
          <p:nvPr/>
        </p:nvSpPr>
        <p:spPr>
          <a:xfrm>
            <a:off x="6500880" y="571680"/>
            <a:ext cx="2286000" cy="585756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5857560"/>
              <a:gd name="textAreaBottom" fmla="*/ 5745960 h 5857560"/>
            </a:gdLst>
            <a:ahLst/>
            <a:rect l="textAreaLeft" t="textAreaTop" r="textAreaRight" b="textAreaBottom"/>
            <a:pathLst>
              <a:path w="21600" h="55342">
                <a:moveTo>
                  <a:pt x="3600" y="0"/>
                </a:moveTo>
                <a:arcTo wR="3600" hR="3600" stAng="16200000" swAng="-5400000"/>
                <a:lnTo>
                  <a:pt x="0" y="51742"/>
                </a:lnTo>
                <a:arcTo wR="3600" hR="3600" stAng="10800000" swAng="-5400000"/>
                <a:lnTo>
                  <a:pt x="18000" y="553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6699">
              <a:alpha val="37000"/>
            </a:srgbClr>
          </a:solidFill>
          <a:ln w="7632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088"/>
          <p:cNvSpPr/>
          <p:nvPr/>
        </p:nvSpPr>
        <p:spPr>
          <a:xfrm>
            <a:off x="6445080" y="2490840"/>
            <a:ext cx="2374920" cy="4227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000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9999"/>
                </a:solidFill>
                <a:latin typeface="Arial"/>
                <a:cs typeface="Monotype Koufi"/>
              </a:rPr>
              <a:t>اهمية البرمج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6"/>
          <p:cNvSpPr/>
          <p:nvPr/>
        </p:nvSpPr>
        <p:spPr>
          <a:xfrm>
            <a:off x="108000" y="2276640"/>
            <a:ext cx="6119640" cy="3384360"/>
          </a:xfrm>
          <a:prstGeom prst="roundRect">
            <a:avLst>
              <a:gd name="adj" fmla="val 16667"/>
            </a:avLst>
          </a:prstGeom>
          <a:solidFill>
            <a:srgbClr val="33cc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088"/>
          <p:cNvSpPr/>
          <p:nvPr/>
        </p:nvSpPr>
        <p:spPr>
          <a:xfrm>
            <a:off x="250920" y="1773360"/>
            <a:ext cx="6072120" cy="19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000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cc00"/>
                </a:solidFill>
                <a:latin typeface="Arial"/>
                <a:cs typeface="Monotype Koufi"/>
              </a:rPr>
              <a:t>امثلة على اجهزة ونظم تعمل باستخدام برامج خاصة بها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088"/>
          <p:cNvSpPr/>
          <p:nvPr/>
        </p:nvSpPr>
        <p:spPr>
          <a:xfrm>
            <a:off x="155520" y="3141720"/>
            <a:ext cx="6072120" cy="359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000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000"/>
                </a:solidFill>
                <a:latin typeface="Arial"/>
                <a:cs typeface="Monotype Koufi"/>
              </a:rPr>
              <a:t>في المنزل : </a:t>
            </a:r>
            <a:r>
              <a:rPr b="0" lang="ar-SA" sz="2400" spc="-1" strike="noStrike">
                <a:solidFill>
                  <a:srgbClr val="7030a0"/>
                </a:solidFill>
                <a:latin typeface="Arial"/>
                <a:cs typeface="Monotype Koufi"/>
              </a:rPr>
              <a:t>جهاز المكرويف ،الهاتف المحول ، بعض الساعات الالكتروني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000"/>
                </a:solidFill>
                <a:latin typeface="Arial"/>
                <a:cs typeface="Monotype Koufi"/>
              </a:rPr>
              <a:t>في الشارع : </a:t>
            </a:r>
            <a:r>
              <a:rPr b="0" lang="ar-SA" sz="2400" spc="-1" strike="noStrike">
                <a:solidFill>
                  <a:srgbClr val="7030a0"/>
                </a:solidFill>
                <a:latin typeface="Arial"/>
                <a:cs typeface="Monotype Koufi"/>
              </a:rPr>
              <a:t>اشارات المرور، السيارات الحديثة ، اجهزة الصراف الالي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000"/>
                </a:solidFill>
                <a:latin typeface="Arial"/>
                <a:cs typeface="Monotype Koufi"/>
              </a:rPr>
              <a:t>في المستشفيات : </a:t>
            </a:r>
            <a:r>
              <a:rPr b="0" lang="ar-SA" sz="2400" spc="-1" strike="noStrike">
                <a:solidFill>
                  <a:srgbClr val="7030a0"/>
                </a:solidFill>
                <a:latin typeface="Arial"/>
                <a:cs typeface="Monotype Koufi"/>
              </a:rPr>
              <a:t>الاجهزة الطبية المختلفة ، نظام المواعي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000"/>
                </a:solidFill>
                <a:latin typeface="Arial"/>
                <a:cs typeface="Monotype Koufi"/>
              </a:rPr>
              <a:t>في المحلات التجارية : </a:t>
            </a:r>
            <a:r>
              <a:rPr b="0" lang="ar-SA" sz="2400" spc="-1" strike="noStrike">
                <a:solidFill>
                  <a:srgbClr val="7030a0"/>
                </a:solidFill>
                <a:latin typeface="Arial"/>
                <a:cs typeface="Monotype Koufi"/>
              </a:rPr>
              <a:t>نظام البيع ، قارئ الاكوا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3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42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43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greetingcard-1"/>
          <p:cNvPicPr/>
          <p:nvPr/>
        </p:nvPicPr>
        <p:blipFill>
          <a:blip r:embed="rId1"/>
          <a:srcRect l="289" t="0" r="0" b="5000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6"/>
          <p:cNvSpPr/>
          <p:nvPr/>
        </p:nvSpPr>
        <p:spPr>
          <a:xfrm>
            <a:off x="3059280" y="260280"/>
            <a:ext cx="5473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 u="sng">
                <a:solidFill>
                  <a:srgbClr val="993366"/>
                </a:solidFill>
                <a:uFillTx/>
                <a:latin typeface="Arabic Typesetting"/>
                <a:cs typeface="هشام حر"/>
              </a:rPr>
              <a:t>تعريف البرنامج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0"/>
          <p:cNvSpPr/>
          <p:nvPr/>
        </p:nvSpPr>
        <p:spPr>
          <a:xfrm>
            <a:off x="324000" y="1989000"/>
            <a:ext cx="6696000" cy="3024360"/>
          </a:xfrm>
          <a:prstGeom prst="rect">
            <a:avLst/>
          </a:prstGeom>
          <a:noFill/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Text Box 11" descr=""/>
          <p:cNvPicPr/>
          <p:nvPr/>
        </p:nvPicPr>
        <p:blipFill>
          <a:blip r:embed="rId2"/>
          <a:stretch/>
        </p:blipFill>
        <p:spPr>
          <a:xfrm>
            <a:off x="1298520" y="2236680"/>
            <a:ext cx="489420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4" descr="greetingcard-1"/>
          <p:cNvPicPr/>
          <p:nvPr/>
        </p:nvPicPr>
        <p:blipFill>
          <a:blip r:embed="rId1"/>
          <a:srcRect l="49843" t="0" r="0" b="0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  <p:pic>
        <p:nvPicPr>
          <p:cNvPr id="263" name="Text Box 8" descr=""/>
          <p:cNvPicPr/>
          <p:nvPr/>
        </p:nvPicPr>
        <p:blipFill>
          <a:blip r:embed="rId2"/>
          <a:stretch/>
        </p:blipFill>
        <p:spPr>
          <a:xfrm>
            <a:off x="895320" y="1017720"/>
            <a:ext cx="7353360" cy="78732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10"/>
          <p:cNvSpPr/>
          <p:nvPr/>
        </p:nvSpPr>
        <p:spPr>
          <a:xfrm>
            <a:off x="395280" y="2060640"/>
            <a:ext cx="2952720" cy="1152360"/>
          </a:xfrm>
          <a:prstGeom prst="rect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5"/>
          <p:cNvSpPr/>
          <p:nvPr/>
        </p:nvSpPr>
        <p:spPr>
          <a:xfrm>
            <a:off x="5364000" y="2133720"/>
            <a:ext cx="2808360" cy="1224000"/>
          </a:xfrm>
          <a:prstGeom prst="rect">
            <a:avLst/>
          </a:prstGeom>
          <a:noFill/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WordArt 16" descr=""/>
          <p:cNvPicPr/>
          <p:nvPr/>
        </p:nvPicPr>
        <p:blipFill>
          <a:blip r:embed="rId3"/>
          <a:stretch/>
        </p:blipFill>
        <p:spPr>
          <a:xfrm>
            <a:off x="5505480" y="2200320"/>
            <a:ext cx="2376360" cy="976320"/>
          </a:xfrm>
          <a:prstGeom prst="rect">
            <a:avLst/>
          </a:prstGeom>
          <a:ln w="0">
            <a:noFill/>
          </a:ln>
        </p:spPr>
      </p:pic>
      <p:pic>
        <p:nvPicPr>
          <p:cNvPr id="267" name="WordArt 18" descr=""/>
          <p:cNvPicPr/>
          <p:nvPr/>
        </p:nvPicPr>
        <p:blipFill>
          <a:blip r:embed="rId4"/>
          <a:stretch/>
        </p:blipFill>
        <p:spPr>
          <a:xfrm>
            <a:off x="536400" y="2127240"/>
            <a:ext cx="2640240" cy="976320"/>
          </a:xfrm>
          <a:prstGeom prst="rect">
            <a:avLst/>
          </a:prstGeom>
          <a:ln w="0">
            <a:noFill/>
          </a:ln>
        </p:spPr>
      </p:pic>
      <p:pic>
        <p:nvPicPr>
          <p:cNvPr id="268" name="WordArt 20" descr=""/>
          <p:cNvPicPr/>
          <p:nvPr/>
        </p:nvPicPr>
        <p:blipFill>
          <a:blip r:embed="rId5"/>
          <a:stretch/>
        </p:blipFill>
        <p:spPr>
          <a:xfrm>
            <a:off x="7229520" y="3998880"/>
            <a:ext cx="1523880" cy="731880"/>
          </a:xfrm>
          <a:prstGeom prst="rect">
            <a:avLst/>
          </a:prstGeom>
          <a:ln w="0">
            <a:noFill/>
          </a:ln>
        </p:spPr>
      </p:pic>
      <p:sp>
        <p:nvSpPr>
          <p:cNvPr id="269" name="مستطيل مستدير الزوايا 32"/>
          <p:cNvSpPr/>
          <p:nvPr/>
        </p:nvSpPr>
        <p:spPr>
          <a:xfrm>
            <a:off x="179280" y="981000"/>
            <a:ext cx="8102880" cy="935280"/>
          </a:xfrm>
          <a:prstGeom prst="roundRect">
            <a:avLst>
              <a:gd name="adj" fmla="val 16667"/>
            </a:avLst>
          </a:prstGeom>
          <a:solidFill>
            <a:srgbClr val="ff6699">
              <a:alpha val="37000"/>
            </a:srgbClr>
          </a:solidFill>
          <a:ln w="7632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WordArt 20" descr=""/>
          <p:cNvPicPr/>
          <p:nvPr/>
        </p:nvPicPr>
        <p:blipFill>
          <a:blip r:embed="rId6"/>
          <a:stretch/>
        </p:blipFill>
        <p:spPr>
          <a:xfrm>
            <a:off x="5138640" y="3998880"/>
            <a:ext cx="1530360" cy="755640"/>
          </a:xfrm>
          <a:prstGeom prst="rect">
            <a:avLst/>
          </a:prstGeom>
          <a:ln w="0">
            <a:noFill/>
          </a:ln>
        </p:spPr>
      </p:pic>
      <p:pic>
        <p:nvPicPr>
          <p:cNvPr id="271" name="WordArt 20" descr=""/>
          <p:cNvPicPr/>
          <p:nvPr/>
        </p:nvPicPr>
        <p:blipFill>
          <a:blip r:embed="rId7"/>
          <a:stretch/>
        </p:blipFill>
        <p:spPr>
          <a:xfrm>
            <a:off x="2408400" y="3786120"/>
            <a:ext cx="1852560" cy="1017720"/>
          </a:xfrm>
          <a:prstGeom prst="rect">
            <a:avLst/>
          </a:prstGeom>
          <a:ln w="0">
            <a:noFill/>
          </a:ln>
        </p:spPr>
      </p:pic>
      <p:pic>
        <p:nvPicPr>
          <p:cNvPr id="272" name="WordArt 20" descr=""/>
          <p:cNvPicPr/>
          <p:nvPr/>
        </p:nvPicPr>
        <p:blipFill>
          <a:blip r:embed="rId8"/>
          <a:stretch/>
        </p:blipFill>
        <p:spPr>
          <a:xfrm>
            <a:off x="-42840" y="3638520"/>
            <a:ext cx="1852560" cy="1092240"/>
          </a:xfrm>
          <a:prstGeom prst="rect">
            <a:avLst/>
          </a:prstGeom>
          <a:ln w="0">
            <a:noFill/>
          </a:ln>
        </p:spPr>
      </p:pic>
      <p:grpSp>
        <p:nvGrpSpPr>
          <p:cNvPr id="273" name="مجموعة 42"/>
          <p:cNvGrpSpPr/>
          <p:nvPr/>
        </p:nvGrpSpPr>
        <p:grpSpPr>
          <a:xfrm>
            <a:off x="5219640" y="3357360"/>
            <a:ext cx="3024360" cy="719280"/>
            <a:chOff x="5219640" y="3357360"/>
            <a:chExt cx="3024360" cy="719280"/>
          </a:xfrm>
        </p:grpSpPr>
        <p:sp>
          <p:nvSpPr>
            <p:cNvPr id="274" name="رابط مستقيم 30"/>
            <p:cNvSpPr/>
            <p:nvPr/>
          </p:nvSpPr>
          <p:spPr>
            <a:xfrm>
              <a:off x="5219640" y="3718080"/>
              <a:ext cx="302436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رابط مستقيم 35"/>
            <p:cNvSpPr/>
            <p:nvPr/>
          </p:nvSpPr>
          <p:spPr>
            <a:xfrm flipV="1">
              <a:off x="6621480" y="3357360"/>
              <a:ext cx="0" cy="3603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رابط مستقيم 40"/>
            <p:cNvSpPr/>
            <p:nvPr/>
          </p:nvSpPr>
          <p:spPr>
            <a:xfrm flipV="1">
              <a:off x="5219640" y="3718080"/>
              <a:ext cx="0" cy="3585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رابط مستقيم 41"/>
            <p:cNvSpPr/>
            <p:nvPr/>
          </p:nvSpPr>
          <p:spPr>
            <a:xfrm flipV="1">
              <a:off x="8244000" y="3718080"/>
              <a:ext cx="0" cy="3585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Rectangle 15"/>
          <p:cNvSpPr/>
          <p:nvPr/>
        </p:nvSpPr>
        <p:spPr>
          <a:xfrm>
            <a:off x="7164360" y="4076640"/>
            <a:ext cx="1592280" cy="784440"/>
          </a:xfrm>
          <a:prstGeom prst="rect">
            <a:avLst/>
          </a:prstGeom>
          <a:noFill/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5"/>
          <p:cNvSpPr/>
          <p:nvPr/>
        </p:nvSpPr>
        <p:spPr>
          <a:xfrm>
            <a:off x="4932360" y="4149720"/>
            <a:ext cx="1727280" cy="782640"/>
          </a:xfrm>
          <a:prstGeom prst="rect">
            <a:avLst/>
          </a:prstGeom>
          <a:noFill/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مجموعة 46"/>
          <p:cNvGrpSpPr/>
          <p:nvPr/>
        </p:nvGrpSpPr>
        <p:grpSpPr>
          <a:xfrm>
            <a:off x="250920" y="3212640"/>
            <a:ext cx="3241440" cy="720720"/>
            <a:chOff x="250920" y="3212640"/>
            <a:chExt cx="3241440" cy="720720"/>
          </a:xfrm>
        </p:grpSpPr>
        <p:sp>
          <p:nvSpPr>
            <p:cNvPr id="281" name="رابط مستقيم 47"/>
            <p:cNvSpPr/>
            <p:nvPr/>
          </p:nvSpPr>
          <p:spPr>
            <a:xfrm>
              <a:off x="250920" y="3573360"/>
              <a:ext cx="3241440" cy="0"/>
            </a:xfrm>
            <a:prstGeom prst="line">
              <a:avLst/>
            </a:prstGeom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رابط مستقيم 48"/>
            <p:cNvSpPr/>
            <p:nvPr/>
          </p:nvSpPr>
          <p:spPr>
            <a:xfrm flipV="1">
              <a:off x="1752480" y="3212640"/>
              <a:ext cx="0" cy="360360"/>
            </a:xfrm>
            <a:prstGeom prst="line">
              <a:avLst/>
            </a:prstGeom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رابط مستقيم 49"/>
            <p:cNvSpPr/>
            <p:nvPr/>
          </p:nvSpPr>
          <p:spPr>
            <a:xfrm flipV="1">
              <a:off x="250920" y="3573000"/>
              <a:ext cx="0" cy="360360"/>
            </a:xfrm>
            <a:prstGeom prst="line">
              <a:avLst/>
            </a:prstGeom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رابط مستقيم 50"/>
            <p:cNvSpPr/>
            <p:nvPr/>
          </p:nvSpPr>
          <p:spPr>
            <a:xfrm flipV="1">
              <a:off x="3492360" y="3573000"/>
              <a:ext cx="0" cy="360360"/>
            </a:xfrm>
            <a:prstGeom prst="line">
              <a:avLst/>
            </a:prstGeom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Rectangle 10"/>
          <p:cNvSpPr/>
          <p:nvPr/>
        </p:nvSpPr>
        <p:spPr>
          <a:xfrm>
            <a:off x="2347920" y="3933720"/>
            <a:ext cx="2008080" cy="1008000"/>
          </a:xfrm>
          <a:prstGeom prst="rect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0"/>
          <p:cNvSpPr/>
          <p:nvPr/>
        </p:nvSpPr>
        <p:spPr>
          <a:xfrm>
            <a:off x="34920" y="3933720"/>
            <a:ext cx="1800360" cy="863640"/>
          </a:xfrm>
          <a:prstGeom prst="rect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مستطيل 53"/>
          <p:cNvSpPr/>
          <p:nvPr/>
        </p:nvSpPr>
        <p:spPr>
          <a:xfrm>
            <a:off x="7236000" y="5013360"/>
            <a:ext cx="1657080" cy="1584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7030a0"/>
                </a:solidFill>
                <a:latin typeface="Arial"/>
              </a:rPr>
              <a:t>تكتب الاوامر على شكل سلسلة نصية من الارقام الثنائية </a:t>
            </a:r>
            <a:r>
              <a:rPr b="1" lang="ar-SA" sz="1600" spc="-1" strike="noStrike">
                <a:solidFill>
                  <a:srgbClr val="7030a0"/>
                </a:solidFill>
                <a:latin typeface="Arial"/>
              </a:rPr>
              <a:t>0،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7030a0"/>
                </a:solidFill>
                <a:latin typeface="Arial"/>
              </a:rPr>
              <a:t>ترمز كل مجموعة الى عملية محددة ينفذها الحاسب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مستطيل 55"/>
          <p:cNvSpPr/>
          <p:nvPr/>
        </p:nvSpPr>
        <p:spPr>
          <a:xfrm>
            <a:off x="4932360" y="5013360"/>
            <a:ext cx="1655640" cy="1584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7030a0"/>
                </a:solidFill>
                <a:latin typeface="Arial"/>
              </a:rPr>
              <a:t>اختصارات للغة الال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7030a0"/>
                </a:solidFill>
                <a:latin typeface="Arial"/>
              </a:rPr>
              <a:t>تكتب الاوامر على هيئة اختصارات باللغة الانجليزية يسهل تذكرها للمبرم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7030a0"/>
                </a:solidFill>
                <a:latin typeface="Arial"/>
              </a:rPr>
              <a:t>يحولها المترجم للغة الاله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مستطيل 56"/>
          <p:cNvSpPr/>
          <p:nvPr/>
        </p:nvSpPr>
        <p:spPr>
          <a:xfrm>
            <a:off x="2627280" y="5013360"/>
            <a:ext cx="1657440" cy="1584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7030a0"/>
                </a:solidFill>
                <a:latin typeface="Arial"/>
              </a:rPr>
              <a:t>يكتب المبرمج البرنامج مفصلا اجراء بعد اجراء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7030a0"/>
                </a:solidFill>
                <a:latin typeface="Arial"/>
              </a:rPr>
              <a:t>تتميز بانها قصيرة وسهلة الفه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7030a0"/>
                </a:solidFill>
                <a:latin typeface="Arial"/>
              </a:rPr>
              <a:t>مثل لغة بيسك ، سي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مستطيل 57"/>
          <p:cNvSpPr/>
          <p:nvPr/>
        </p:nvSpPr>
        <p:spPr>
          <a:xfrm>
            <a:off x="179280" y="4941720"/>
            <a:ext cx="1656000" cy="15829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7030a0"/>
                </a:solidFill>
                <a:latin typeface="Arial"/>
              </a:rPr>
              <a:t>تجمع البيانات مع الاوامر الخاصة بها تحت كائن واح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7030a0"/>
                </a:solidFill>
                <a:latin typeface="Arial"/>
              </a:rPr>
              <a:t>يعطى اسما معين ويمكن ان يستخدم اكثر من مرة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7030a0"/>
                </a:solidFill>
                <a:latin typeface="Arial"/>
              </a:rPr>
              <a:t>مثل : لغة سي +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17:47:24Z</dcterms:created>
  <dc:creator>@</dc:creator>
  <dc:description/>
  <dc:language>en-US</dc:language>
  <cp:lastModifiedBy>badr</cp:lastModifiedBy>
  <dcterms:modified xsi:type="dcterms:W3CDTF">2014-09-08T17:20:25Z</dcterms:modified>
  <cp:revision>70</cp:revision>
  <dc:subject/>
  <dc:title>الشريحة 1</dc:title>
</cp:coreProperties>
</file>