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030-192D-488F-91F3-9E89670F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6D1-E44E-43C6-83D8-425C4D66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D19-D146-4441-B100-539AA8C0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DE6-487F-450B-830B-4459D60F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DCB67-9102-4B50-9664-BA47B954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7EE15-0C5F-4CBC-9F17-D347E3BC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ED6D0-4092-4750-8588-9F8C774A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8F2BC-AE29-4AF6-95F0-7868EEE0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72DDB-7ABA-48E6-AA88-03851BD4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719EA-74F1-472C-9DEF-A1544847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4BDB1-9AF9-4385-83F3-A6846C81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C55-A3B0-44C9-BB2F-E6E8DDB1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8CDF-EA50-4C25-8954-39628A47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C94A0-DCBA-4EDD-B78F-C1D0899A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EDBBE-9305-4880-9FF7-AB81626F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4A569-7AB1-46FD-894E-065D9160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F6227-3FB6-437C-A72D-CA59060E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F94-16D8-4ABF-A52D-E677A5D2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571-DBA5-495B-9799-1AC0D8D5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66C-323D-4D01-B99A-FE662971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924-5559-4EF6-A2EB-D0D6768A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10A-6035-4D8F-8ABA-752E436C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BD1-168F-4C56-8BBA-96EC01D3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92B-B0AA-4FFB-AFB6-CAD4F2AC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9F22-8587-4073-B6CA-8C790CF989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213C-11E4-48C5-ADF5-DA90A4E61C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3e3ff"/>
                </a:solidFill>
                <a:latin typeface="Arial"/>
                <a:cs typeface="Traditional Arabic"/>
              </a:rPr>
              <a:t>النثر السعودي المعاصر</a:t>
            </a:r>
            <a:br>
              <a:rPr sz="3600"/>
            </a:br>
            <a:r>
              <a:rPr b="0" lang="hi-IN" sz="3600" spc="-1" strike="noStrike">
                <a:solidFill>
                  <a:srgbClr val="e3e3ff"/>
                </a:solidFill>
                <a:latin typeface="Arial"/>
                <a:cs typeface="Traditional Arabic"/>
              </a:rPr>
              <a:t>أنواعه واتجاهاته الفنية</a:t>
            </a:r>
            <a:br>
              <a:rPr sz="3600"/>
            </a:br>
            <a:r>
              <a:rPr b="0" lang="hi-IN" sz="3600" spc="-1" strike="noStrike">
                <a:solidFill>
                  <a:srgbClr val="e3e3ff"/>
                </a:solidFill>
                <a:latin typeface="Arial"/>
                <a:cs typeface="Traditional Arabic"/>
              </a:rPr>
              <a:t>صفحة 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  <a:ea typeface="Traditional Arabic"/>
              </a:rPr>
              <a:t>66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نــواع النث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Traditional Arabic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r" rtl="1">
              <a:lnSpc>
                <a:spcPct val="10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ffffff"/>
                </a:solidFill>
                <a:latin typeface="Arial"/>
                <a:cs typeface="Traditional Arabic"/>
              </a:rPr>
              <a:t>ينحصر في القصة والمقالة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r" rtl="1">
              <a:lnSpc>
                <a:spcPct val="10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نثر المسرحي مازال في البدايات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r" rtl="1">
              <a:lnSpc>
                <a:spcPct val="10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ffffff"/>
                </a:solidFill>
                <a:latin typeface="Arial"/>
                <a:cs typeface="Traditional Arabic"/>
              </a:rPr>
              <a:t>بعض الشعراء شاركوا في النثر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النثر السعودي المعاصر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أنواعه واتجاهاته الفنية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صفحة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  <a:ea typeface="Traditional Arabic"/>
              </a:rPr>
              <a:t>66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r" rtl="1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  <a:cs typeface="Traditional Arabic"/>
              </a:rPr>
              <a:t>أولا – القصـــــ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رت القصة السعودية بمرحل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 algn="r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مرحلة الأولى : من تأسيس المملكة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raditional Arabic"/>
              </a:rPr>
              <a:t>51</a:t>
            </a: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Traditional Arabic"/>
              </a:rPr>
              <a:t>هـ حتى نهاية الحرب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raditional Arabic"/>
              </a:rPr>
              <a:t>65</a:t>
            </a: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Traditional Arabic"/>
              </a:rPr>
              <a:t>هـ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361800" algn="r" rtl="1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قصصها قصيرة  حجما لكنها تفتقر للتركي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361800" algn="r" rtl="1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وائية من حيث الأحداث لكنها تفتقر للشمولية والعم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361800" algn="r" rtl="1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ذات عيوب فنية كاعتمادها على المصادفة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361800" algn="r" rtl="1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ميل للضع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361800" algn="r" rtl="1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تشابهة المستوى والمضمون الاجتماعي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30480" indent="-361800" algn="r" rtl="1">
              <a:lnSpc>
                <a:spcPct val="90000"/>
              </a:lnSpc>
              <a:spcBef>
                <a:spcPts val="64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ألفاظها متقنة وأسلوبها رفي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e3e3ff"/>
                </a:solidFill>
                <a:latin typeface="Arial"/>
                <a:cs typeface="Traditional Arabic"/>
              </a:rPr>
              <a:t>النثر السعودي المعاصر</a:t>
            </a:r>
            <a:br>
              <a:rPr sz="3500"/>
            </a:br>
            <a:r>
              <a:rPr b="0" lang="hi-IN" sz="3500" spc="-1" strike="noStrike">
                <a:solidFill>
                  <a:srgbClr val="e3e3ff"/>
                </a:solidFill>
                <a:latin typeface="Arial"/>
                <a:cs typeface="Traditional Arabic"/>
              </a:rPr>
              <a:t>أنواعه واتجاهاته الفنية</a:t>
            </a:r>
            <a:br>
              <a:rPr sz="3500"/>
            </a:br>
            <a:r>
              <a:rPr b="0" lang="hi-IN" sz="3500" spc="-1" strike="noStrike">
                <a:solidFill>
                  <a:srgbClr val="e3e3ff"/>
                </a:solidFill>
                <a:latin typeface="Arial"/>
                <a:cs typeface="Traditional Arabic"/>
              </a:rPr>
              <a:t>صفحة </a:t>
            </a:r>
            <a:r>
              <a:rPr b="0" lang="en-US" sz="3500" spc="-1" strike="noStrike">
                <a:solidFill>
                  <a:srgbClr val="e3e3ff"/>
                </a:solidFill>
                <a:latin typeface="Arial"/>
                <a:ea typeface="Traditional Arabic"/>
              </a:rPr>
              <a:t>66</a:t>
            </a:r>
            <a:endParaRPr b="0" lang="en-US" sz="35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ffcc"/>
                </a:solidFill>
                <a:latin typeface="Arial"/>
                <a:cs typeface="Traditional Arabic"/>
              </a:rPr>
              <a:t>المرحلة الثانية - ما بعد الحرب العالمية الثانية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876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0000"/>
                </a:solidFill>
                <a:latin typeface="Arial"/>
                <a:ea typeface="Traditional Arabic"/>
              </a:rPr>
              <a:t>1</a:t>
            </a:r>
            <a:r>
              <a:rPr b="1" lang="ar-SA" sz="3500" spc="-1" strike="noStrike">
                <a:solidFill>
                  <a:srgbClr val="ff0000"/>
                </a:solidFill>
                <a:latin typeface="Arial"/>
                <a:ea typeface="Traditional Arabic"/>
              </a:rPr>
              <a:t>- مظاهر التغيير في هذه المرحلة 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 algn="r" rtl="1">
              <a:spcBef>
                <a:spcPts val="751"/>
              </a:spcBef>
              <a:buClr>
                <a:srgbClr val="e3e3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عودة المبتعثين بثقافات مختلف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 algn="r" rtl="1">
              <a:spcBef>
                <a:spcPts val="751"/>
              </a:spcBef>
              <a:buClr>
                <a:srgbClr val="e3e3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زدياد صدور الصحف والمجلات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 algn="r" rtl="1">
              <a:spcBef>
                <a:spcPts val="751"/>
              </a:spcBef>
              <a:buClr>
                <a:srgbClr val="e3e3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درك السعوديون ضرورة تكامل بناء القصة فنيا وليس كلاميا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e3e3ff"/>
                </a:solidFill>
                <a:latin typeface="Arial"/>
                <a:cs typeface="Traditional Arabic"/>
              </a:rPr>
              <a:t>النثر السعودي المعاصر</a:t>
            </a:r>
            <a:br>
              <a:rPr sz="3500"/>
            </a:br>
            <a:r>
              <a:rPr b="0" lang="hi-IN" sz="3500" spc="-1" strike="noStrike">
                <a:solidFill>
                  <a:srgbClr val="e3e3ff"/>
                </a:solidFill>
                <a:latin typeface="Arial"/>
                <a:cs typeface="Traditional Arabic"/>
              </a:rPr>
              <a:t>أنواعه واتجاهاته الفنية</a:t>
            </a:r>
            <a:br>
              <a:rPr sz="3500"/>
            </a:br>
            <a:r>
              <a:rPr b="0" lang="hi-IN" sz="3500" spc="-1" strike="noStrike">
                <a:solidFill>
                  <a:srgbClr val="e3e3ff"/>
                </a:solidFill>
                <a:latin typeface="Arial"/>
                <a:cs typeface="Traditional Arabic"/>
              </a:rPr>
              <a:t>صفحة </a:t>
            </a:r>
            <a:r>
              <a:rPr b="0" lang="en-US" sz="3500" spc="-1" strike="noStrike">
                <a:solidFill>
                  <a:srgbClr val="e3e3ff"/>
                </a:solidFill>
                <a:latin typeface="Arial"/>
                <a:ea typeface="Traditional Arabic"/>
              </a:rPr>
              <a:t>66</a:t>
            </a:r>
            <a:endParaRPr b="0" lang="en-US" sz="35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ابع </a:t>
            </a:r>
            <a:r>
              <a:rPr b="1" lang="hi-IN" sz="4000" spc="-1" strike="noStrike">
                <a:solidFill>
                  <a:srgbClr val="00ffcc"/>
                </a:solidFill>
                <a:latin typeface="Arial"/>
                <a:cs typeface="Traditional Arabic"/>
              </a:rPr>
              <a:t>المرحلة الثانية - ما بعد الحرب العالمية الثانية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876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0" lang="en-US" sz="3500" spc="-1" strike="noStrike">
                <a:solidFill>
                  <a:srgbClr val="ff0000"/>
                </a:solidFill>
                <a:latin typeface="Arial"/>
                <a:ea typeface="Traditional Arabic"/>
              </a:rPr>
              <a:t>- رائد الفن القصصي حامد دمنهوري 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r" rtl="1">
              <a:spcBef>
                <a:spcPts val="751"/>
              </a:spcBef>
              <a:buClr>
                <a:srgbClr val="e3e3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ولد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raditional Arabic"/>
              </a:rPr>
              <a:t>1340</a:t>
            </a:r>
            <a:r>
              <a:rPr b="0" lang="hi-IN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ـ ومات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raditional Arabic"/>
              </a:rPr>
              <a:t>1385</a:t>
            </a:r>
            <a:r>
              <a:rPr b="0" lang="hi-IN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r" rtl="1">
              <a:spcBef>
                <a:spcPts val="751"/>
              </a:spcBef>
              <a:buClr>
                <a:srgbClr val="e3e3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ffffff"/>
                </a:solidFill>
                <a:latin typeface="Arial"/>
                <a:cs typeface="Traditional Arabic"/>
              </a:rPr>
              <a:t>كتب روايتين هما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raditional Arabic"/>
              </a:rPr>
              <a:t>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 algn="r" rtl="1">
              <a:spcBef>
                <a:spcPts val="649"/>
              </a:spcBef>
              <a:buClr>
                <a:srgbClr val="e3e3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ثمن التضحية نشرت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raditional Arabic"/>
              </a:rPr>
              <a:t>1379</a:t>
            </a: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209680" indent="-380880" algn="r" rtl="1">
              <a:spcBef>
                <a:spcPts val="649"/>
              </a:spcBef>
              <a:buClr>
                <a:srgbClr val="e3e3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مرت الأيام نشرت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raditional Arabic"/>
              </a:rPr>
              <a:t>1383</a:t>
            </a:r>
            <a:r>
              <a:rPr b="0" lang="hi-IN" sz="26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النثر السعودي المعاصر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أنواعه واتجاهاته الفنية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صفحة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  <a:ea typeface="Traditional Arabic"/>
              </a:rPr>
              <a:t>66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ابع </a:t>
            </a:r>
            <a:r>
              <a:rPr b="1" lang="hi-IN" sz="4000" spc="-1" strike="noStrike">
                <a:solidFill>
                  <a:srgbClr val="00ffcc"/>
                </a:solidFill>
                <a:latin typeface="Arial"/>
                <a:cs typeface="Traditional Arabic"/>
              </a:rPr>
              <a:t>المرحلة الثانية - ما بعد الحرب العالمية الثانية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قصة في العشرين السنة الأخيرة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434160" algn="r" rtl="1">
              <a:spcBef>
                <a:spcPts val="751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ظهرت قيم حديثة لدى المجتم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434160" algn="r" rtl="1">
              <a:spcBef>
                <a:spcPts val="751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جدد الكتاب كتاباته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434160" algn="r" rtl="1">
              <a:spcBef>
                <a:spcPts val="751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حملت الصحف عبء التغيي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302840" indent="-434160" algn="r" rtl="1">
              <a:spcBef>
                <a:spcPts val="751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كان الباعث على ذلك الاستقرار السياسي والاقتصادي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النثر السعودي المعاصر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أنواعه واتجاهاته الفنية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صفحة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  <a:ea typeface="Traditional Arabic"/>
              </a:rPr>
              <a:t>66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r" rtl="1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cc"/>
                </a:solidFill>
                <a:latin typeface="Arial"/>
                <a:cs typeface="Traditional Arabic"/>
              </a:rPr>
              <a:t>تابع </a:t>
            </a:r>
            <a:r>
              <a:rPr b="1" lang="ar-SA" sz="4000" spc="-1" strike="noStrike">
                <a:solidFill>
                  <a:srgbClr val="00ffcc"/>
                </a:solidFill>
                <a:latin typeface="Arial"/>
                <a:cs typeface="Traditional Arabic"/>
              </a:rPr>
              <a:t>المرحلة الثانية - ما بعد الحرب العالمية الثانية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93040" indent="0" algn="r" rtl="1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خصائص القصة في هذه المرحلة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524600" indent="-331200" algn="r" rtl="1">
              <a:spcBef>
                <a:spcPts val="7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خلصت من الأسلوب السطحي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24600" indent="-331200" algn="r" rtl="1">
              <a:spcBef>
                <a:spcPts val="7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تجهت إلى الأسلوب التصوير الإنساني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24600" indent="-331200" algn="r" rtl="1">
              <a:spcBef>
                <a:spcPts val="7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لم تتخل عن المضامين الاجتماعي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24600" indent="-331200" algn="r" rtl="1">
              <a:spcBef>
                <a:spcPts val="7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نوعت اتجاهاتها إلى رومانسي وواقعي وتاريخي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524600" indent="-331200" algn="r" rtl="1">
              <a:spcBef>
                <a:spcPts val="7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raditional Arabic"/>
              </a:rPr>
              <a:t>اعتمد بعضها على الرمز الاسطوري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النثر السعودي المعاصر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أنواعه واتجاهاته الفنية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صفحة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  <a:ea typeface="Traditional Arabic"/>
              </a:rPr>
              <a:t>66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 algn="r" rtl="1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cc"/>
                </a:solidFill>
                <a:latin typeface="Arial"/>
                <a:cs typeface="Traditional Arabic"/>
              </a:rPr>
              <a:t>تابع </a:t>
            </a:r>
            <a:r>
              <a:rPr b="1" lang="ar-SA" sz="4000" spc="-1" strike="noStrike">
                <a:solidFill>
                  <a:srgbClr val="00ffcc"/>
                </a:solidFill>
                <a:latin typeface="Arial"/>
                <a:cs typeface="Traditional Arabic"/>
              </a:rPr>
              <a:t>المرحلة الثانية - ما بعد الحرب العالمية الثانية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 algn="r" rtl="1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نماذج من قصص هذه المرحلة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37476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شبح من فلسطين ودعوة إلى الآخرة لسعد البوارد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37476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عروس من القاهرة لغالب أبي الفرج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37476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أرض بلا مطر مجموعة قصصية لإبراهيم الناص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37476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تضحية والمتسولة لأمين الريحان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النثر السعودي المعاصر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أنواعه واتجاهاته الفنية</a:t>
            </a:r>
            <a:br>
              <a:rPr sz="2800"/>
            </a:br>
            <a:r>
              <a:rPr b="0" lang="hi-IN" sz="2800" spc="-1" strike="noStrike">
                <a:solidFill>
                  <a:srgbClr val="e3e3ff"/>
                </a:solidFill>
                <a:latin typeface="Arial"/>
                <a:cs typeface="Traditional Arabic"/>
              </a:rPr>
              <a:t>صفحة 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  <a:ea typeface="Traditional Arabic"/>
              </a:rPr>
              <a:t>66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ffcc"/>
                </a:solidFill>
                <a:latin typeface="Arial"/>
                <a:cs typeface="Traditional Arabic"/>
              </a:rPr>
              <a:t>تابع المرحلة الثانية - ما بعد الحرب العالمية الثانية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مستقبل القصة السعودية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316520" indent="-4388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أمامها مستقبل كبي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6520" indent="-4388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شهد الآن إقبالا لم تشهده من قب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6520" indent="-4388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قتحمت المرأة هذا الميدان وأسهمت في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05:31:06Z</dcterms:created>
  <dc:creator>ناصر الصقعبي</dc:creator>
  <dc:description/>
  <dc:language>en-US</dc:language>
  <cp:lastModifiedBy>ناصر الصقعبي</cp:lastModifiedBy>
  <dcterms:modified xsi:type="dcterms:W3CDTF">2014-04-28T05:59:13Z</dcterms:modified>
  <cp:revision>33</cp:revision>
  <dc:subject/>
  <dc:title>النثر السعودي المعاصر أنواعه واتجاهاته الفنية صفحة 66</dc:title>
</cp:coreProperties>
</file>