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134-B7ED-45DF-A476-1A5D62B7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263-D93C-4FE0-931A-B85993C5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3F9-A135-4E21-9D95-A100661B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95C-E26B-4E9A-82A2-090EB6A3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DF31-9575-40A8-B4E1-9543103C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D302-CED7-4BBC-85BF-2EFECC42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D596-A9B4-4B75-B8C0-AE173682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EFF2-737B-4B72-A79A-37FE22F9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317E-1B0F-439A-A146-594E768C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5EBE-9FC2-4C59-9627-60BC8A03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D458-3AAF-47F7-9EF8-825BA2AA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084-5FB2-4C3E-AD96-24160687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5E87-429A-4006-95B6-B391085D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FE04-1730-427B-BFFA-860862D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B9F9-592A-441A-B7F1-B3BE2391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710A-71C0-431F-92D3-68377774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8287-7ED1-4632-9F1B-5CFB8475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AC4-77C3-431B-A953-F2D5EE73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C84-BCA9-4939-845E-EE171A6D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641-350B-40EB-8445-32168ACB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083-B48B-4164-B5B9-F0318911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338-13A4-46AB-BC16-9398A89B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D69-FD68-4BEA-A4BD-D7D60975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EF3-9B06-4C47-9898-10DD3D53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7416-F6BC-4FED-9D99-36FB9F900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28A0-EE64-4BC3-AEBD-E462FDA21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cc0000"/>
                </a:solidFill>
                <a:latin typeface="Tahoma"/>
              </a:rPr>
              <a:t>تفسير لائحة تقويم الاداء الوظيفي</a:t>
            </a:r>
            <a:endParaRPr b="0" lang="en-US" sz="8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86532"/>
                </a:solidFill>
                <a:latin typeface="Tahoma"/>
              </a:rPr>
              <a:t>اعدا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عــــــــا مر  عـــواد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8800"/>
                </a:solidFill>
                <a:latin typeface="Tahoma"/>
              </a:rPr>
              <a:t>العنص الثالث</a:t>
            </a:r>
            <a:r>
              <a:rPr b="0" lang="ar-SA" sz="44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400"/>
            </a:b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اهتمام بالنمو المعرفي  (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         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   مدى استفادة المعلم من الممارسات التعليمية في تحقيق النمو المهني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حافظ على التعلم المستمر 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ستفيد من الأدبيات المهنية والفرص التطويرية الأخرى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نمي وعيه الثقافي والاجتماعي والاقتصادي بمجتمع التلاميذ وأسرهم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تعاون مع زملائه لتطوير الممارسات المهنية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·              يوازن بين المسؤوليات المهنية والمحافظة على الواقعية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وتلاحظ هذه النقطة من خلال تنوع مصادر المعرفة العلمية والتربوية  في المجال العلمي واستفادة المعلم من هذه المصادر ويتضح ذلك من خلال تدوين المعلم بعض المراجع  في دفتر التحضير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رابع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المحافظة على اوقات الدوام ( 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يلاحظ ذلك من خلال التزام المعلم في دوامة حضورا وانصرافا ،والتزامة بدخول الحصص في وقتها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خامس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إلمام بالأسس التربوية في إعداد الدروس وتطبيقها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حديد أهدافاً تربوية مناسبة للتلاميذ 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نمية مهارات التلاميذ في التفكير الناقد والتفكير الابداعي وحل المشكلات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ربط معارف التلاميذ السابقة وميولهم وقدراتهم وخبراتهم بالأهداف التربوي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امة وتمكنة من صياغة اهداف سلوكية اجرائية لكل درس وتدوينها في كراس التحضير وقابلة للقياس ، وقدرته على ربط افكار الدرس وتنظيمها  وابراز هذه العناصثر الاساسية في الدرس والربط بينها بشكمنظمواستخدام اساليب تساعد على تطبيقها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سادس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تمكن من المادة العلمية والقدرة على تحقيق أهدافها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تقان مادته وتمكنة الجيد من تخصصة ومحتواها من حقائق علمية ومتقن ما يتصل بها من مهارات وتحقيقها اهدافها  من  خلال الاساليب المستخدمة لشد انتباه التلاميذ واثارتهم وربط  الاهداف بالمحتوى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درته على اختيار مصادر المعرفة المناسبة للتلاميذ بما يساعد على تحقيق الأهداف التربوية لديه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درتة على تنوع في الخبرات التعليمية بما يتناسب والأساليب المختلفة لتعلم التلامي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سابع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اهتمام بالتقويم المستمر ومراعاة الفروق الفردية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يلاحظ هذا من خلال ابراز المعلم وتوظيف  قدرات الطلاب المتفوقين  اثناء عرضة الدرسوتقديم البرامج الاثرائية لتعزيز تفوقهم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رعاية الطلاب المتأخرين دراسيا وتحفيزهم اثناء عرض الدرس  وتقديم برامج علاجية لرفع مستواهموان يراعي استخدام اساليب اساليب واهداف الدرس ومراعاة  مابين الطلاب من فوار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استخدام أساليب متنوعة لتقويم تعلم التلاميذ  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وفير فرصاً كافية  لتشجيع التلاميذ على التعلم بمختلف مستوياتهم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ة على وضع برامج علاجية لبعض المشكلات مثل الضعف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من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توزيع المنهج وملاءمة ما نفذ منه للزمن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يلاحظ ذلك من خلال توزيع المعلم المقررالدراسي على اسابيع وايام الفصل الدراسي  ,ومن خلال تحضيرة اليومي  الكتابي والذهن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قدرته على ان يحدد طرق التدريس العامة 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قدرته على تحديد الاهداف ومتوياتها  وعلاقتها بما يدر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تاسع </a:t>
            </a:r>
            <a:br>
              <a:rPr sz="4000"/>
            </a:br>
            <a:r>
              <a:rPr b="1" lang="ar-SA" sz="4000" spc="-1" strike="noStrike">
                <a:solidFill>
                  <a:srgbClr val="827f4c"/>
                </a:solidFill>
                <a:latin typeface="Tahoma"/>
              </a:rPr>
              <a:t>توظيف الوسائل التعليمية وارتباطها بالدرس تربويا وفنيا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درته على توضح مفهوم الوسيلة التعليمية 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اختيارالوسائل المستخدمة مناسبة لتحقيق اهداف الدرس ومراعية للشروط والواجب توافرها في الوسيلة ، مع اهمية وقته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ان يكون متفهما  لاثر الوسائل التعليمية في عملية التعل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ن يكون ملما بتصنيفات و قواعد اختيار واستخدام الوسيلة التعليمي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عا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مهارة في عرض الدروس وإدارة الفصل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وفر بيئة تعليمية آمنة لتحقيق عملية التعل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درتة على ان يستثمر الوقت التعليمي بطريقة فاعل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ة المعلم على تحقيق الانظباط  للطلاب في الفصل وتوظيفة لصالح الدرس من خلال ،هدوء وتفاعل الطلاب مع الدرس ، تنظيم مشاركات الطلاب في الدرس، وقدرته هذه تكون  عن طريق التنويع في الاساليب في التدريس وطرح اسئلة تثير دوافع التفكير والخيا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حادي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مستوى تحصيل الطلاب العلمي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48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ن  يكون  مستوى طلابة مناسب  ، لمستويات الاسئلة التي وضعت  ، ويتناسب مع مستوى المرحلة ، وذلك  عن طريق تحليل نتائج الاختبار ومعرفة نقاط القوة والضعف وعمل العلاج ل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الاستفادة من نتائج التقويم في توجيه عمليتي التعليم والتعلم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درته على توصيل المعلومة بطريقة سهلة للطلب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ني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تطبيقات والواجبات المنزلية ودقة تصويبها     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مناسبة الواجبات والتطبيقات كما وكيفا لما قطع من المنهج ، ومتابعتة تصيبها ودقتها  ،ومتابعتها بأستمرا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معرفة مدى تفهمة للهدف من الواجبات المدرسي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c0000"/>
                </a:solidFill>
                <a:latin typeface="Tahoma"/>
              </a:rPr>
              <a:t>مصادر إعداد التقرير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ملف الموظف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سجل تدوين ملاحظات الرئيس المباشر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تقرير النجاز الشهري للموظف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دفتر الدوام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1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00"/>
                </a:solidFill>
                <a:latin typeface="Tahoma"/>
              </a:rPr>
              <a:t>أي مصادر أخرى تساعد في دقة التقويم</a:t>
            </a:r>
            <a:r>
              <a:rPr b="0" lang="ar-SA" sz="4400" spc="-1" strike="noStrike">
                <a:solidFill>
                  <a:srgbClr val="aaa57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لث عشر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سلوك العام ( القدوة الحسنة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التزام بسلوكيات المجتمع الاسلامي ،وأخلاقة وأدابة وكونة قدوة حسنة قولا وعملا في تعاملة  وسماته الشخصي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رابع عشر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تقدير المسؤولية 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مدى الشعور والجدية لمسؤوليات عملة ،وواجباته وحماسة  في أدائه ووفائه بالالتزامات التعليمية والتربوي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خامس عشر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تقبل التوجيهات 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سمع لمسئوليه ويتقبل منهم توجيهات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ينفذ ما يتم التوجيه بما يتفق مع سياسة التعليم والمصلحة العا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سادس عشر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حسن التصرف (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قدرته على التعامل بشكل سليم مع المواقف الحساسه  وايجاد الحلول المناسبه له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سابع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علاقات المدرس مع الرؤساء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قيامه بواجباته وتفهمه لرؤوسا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، وتقبله توجيهاته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من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علاقة المدرس مع الزملاء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شاعة روح المحبه والاخاء بين زملائه المعلمين ويكون على خلق ومعاملة حسنه معه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تاسع عشر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علاقات المدرس مع الطلاب وأولياء الأمور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عامل بلطف وبشاشة  ومعاملة ابوية مع التلاميذ وتفهمة مع اولياء الامور والتعاون معه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cc0000"/>
                </a:solidFill>
                <a:latin typeface="Tahoma"/>
              </a:rPr>
              <a:t>الموظف الجديد في سنة التجربة</a:t>
            </a:r>
            <a:endParaRPr b="0" lang="en-US" sz="6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86532"/>
                </a:solidFill>
                <a:latin typeface="Tahoma"/>
              </a:rPr>
              <a:t>أهداف فترة التجرب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د فترة التجربة من أهم المراحل في حياة الموظف الوظيفية باعتبارها فترة تهيئة واختبار تستهدف الجوانب التالي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هيئة الموظف عملياً لممارسة مهام الوظيفة    المرشح له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رسيخ المفاهيم لاأساسية للخدمة المدني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كشف عن قدراته وميوله العملي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تحقق من مدى صلاحيته لشغل الوظيفه المعين عليها تمهيداً لتثبيته عليها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9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تعبئة خانات المعلومات الاساسية عن الموظف والوظيفة والمعلومات الاخرى الموضحة بالصفحة الاولى من النموذج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اعطاء الدرجة المناسبة عن كل عنصر من عناصر التقويم المحددة بالصفحة الثانية من النموذج حسب الفترة المعد عنها التقرير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تحديد المجموع الكلي للدرجات ومن ثم التقرير النهائي الذي حصل عليه الموظف في الحقل المخصص لذلك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تدوين ملاحظاته وتوصياته لتطوير قدرات الموظف (إن وجدت) في الحقل المخصص لذل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يوضح نعتمد التقرير رأيه ومدى موافقته على ما ورد به ، ومن ثم اعتماده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في حالة حصول الموظف في الفترة الأولى على مجموع درجات أقل من (</a:t>
            </a: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30</a:t>
            </a: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) درجة فيجب على الادارة لها لفت نظره حول تدني أدائه وذلك خلال شهرين من تاريخ انتهاء الفتر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 يحفظ التقرير في ملف الموظف لحين موعد إعداد التقرير عن الفترة الثاني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بعد اعتماد اللتقرير في الفترة الثانية يتم إطلاع الموظف عليه لمعرفة وجهة نظر الادارة حول أدائه ولتحسين وضعه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 algn="r" rtl="1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Tahoma"/>
              </a:rPr>
              <a:t>يحال التقرير لإدارة شؤون المعلمين  لعرضه على صاحب الصلاحية قبل مضي أحد عشر شهراً من تاريخ مباشرة الموظف عمله ،(عدا فترة الانقطاع 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86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خواني  هذا ما استطعت ان اقدمه لكم عن هذا الموضوع فمن رأي اضافة او تعديل له الحق ولست انا افهم منك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لكم مني الدعاء بالتوفيق والعدل بين معلميكم ومراعاة الله في الانصاف بينهم ومصارحتهم بعيوبه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Tahoma"/>
              </a:rPr>
              <a:t>                              اخوكم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         عــــــــــامر  عوا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من تعليم محافظة القري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c0000"/>
                </a:solidFill>
                <a:latin typeface="Tahoma"/>
              </a:rPr>
              <a:t>ما تتضمنة اللا ئحة  من تفسيرات</a:t>
            </a:r>
            <a:r>
              <a:rPr b="0" lang="ar-SA" sz="44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د تقارير تقويم الاداء الوظيفي للموظفين سنويا، ويستثنى منهم شاغلو الوظائف القيادية ممن هم في مرتبة الوكلاء والوكلاء المساعدين ومن في مستواهم الوظيفي ومن ترى الجهة المعنية استثناءه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كون التقارير وفقا للنماذج المقررة والواجبات والمسئوليات المحددة لكل موظف ويقدر اداؤه باحد التقديرات  (ممتاز، جيد جدا، جيد، مرضي، غير مرض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cc0000"/>
                </a:solidFill>
                <a:latin typeface="Tahoma"/>
              </a:rPr>
              <a:t>ملاحظة هامة لجميع الاخوة المدراء</a:t>
            </a:r>
            <a:endParaRPr b="0" lang="en-US" sz="6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15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86532"/>
                </a:solidFill>
                <a:latin typeface="Tahoma"/>
              </a:rPr>
              <a:t>  للموظف حق الاطلاع على تقرير الاداء المعد عنه وابداء وجهة نظره فيه مع رئيسه</a:t>
            </a:r>
            <a:r>
              <a:rPr b="0" lang="en-US" sz="6000" spc="-1" strike="noStrike">
                <a:solidFill>
                  <a:srgbClr val="686532"/>
                </a:solidFill>
                <a:latin typeface="Tahom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c0000"/>
                </a:solidFill>
                <a:latin typeface="Tahoma"/>
              </a:rPr>
              <a:t>مصطلحات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86532"/>
                </a:solidFill>
                <a:latin typeface="Tahoma"/>
              </a:rPr>
              <a:t>اسم معد التقرير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، وظيفته، توقيعه وتاريخ الاعدا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               وصف هذه المعلوما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86532"/>
                </a:solidFill>
                <a:latin typeface="Tahoma"/>
              </a:rPr>
              <a:t>معد التقرير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: هومدير المدرسة او من ينوب عنة ومعطى الصلاحية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86532"/>
                </a:solidFill>
                <a:latin typeface="Tahoma"/>
              </a:rPr>
              <a:t>وظيفتة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 مدير المدرسة او من ينوب عنة في حالة كونه في دورة او مايمنعة من التواج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86532"/>
                </a:solidFill>
                <a:latin typeface="Tahoma"/>
              </a:rPr>
              <a:t>تاريخ الاعداد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: وهو تاريخ اعتمادها من قبل مدير المدرسة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ahoma"/>
              </a:rPr>
              <a:t>اسم معتمد التقرير، وظيفته، توقيعه وتاريخ الاعتماد</a:t>
            </a: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                 اسم معتمد التقري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b8800"/>
                </a:solidFill>
                <a:latin typeface="Tahoma"/>
              </a:rPr>
              <a:t>ان معتمد التقرير هو رئيس الاشراف التربوي اومن ينوب عن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hi-IN" sz="3200" spc="-1" strike="noStrike">
                <a:solidFill>
                  <a:srgbClr val="cc0000"/>
                </a:solidFill>
                <a:latin typeface="Tahoma"/>
              </a:rPr>
              <a:t>وظيفت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b8800"/>
                </a:solidFill>
                <a:latin typeface="Tahoma"/>
              </a:rPr>
              <a:t>رئيس الاشراف اومن ينوب عنه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0000"/>
                </a:solidFill>
                <a:latin typeface="Tahoma"/>
              </a:rPr>
              <a:t>ملاحظة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Tahoma"/>
              </a:rPr>
              <a:t>مدير المدرسة  :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يقيمه مشرف الادارة المدرس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Tahoma"/>
              </a:rPr>
              <a:t>مدير المدرسة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يقيم جميع معلمية ووكيلة والمرشد الطلابي ومحضر المختب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ليس من صلاحيات مدير المدرسة حجب معلمية عن الاطلا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على ماحصلوا علية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اول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التزام باستخدام اللغة الفصحى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هو استخدام المعلم لغة فصيحة مناسبة  لمستوى الطلاب ،ولطبيعة موضوع الدر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3808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b8800"/>
                </a:solidFill>
                <a:latin typeface="Tahoma"/>
              </a:rPr>
              <a:t>العنص الثاني</a:t>
            </a: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827f4c"/>
                </a:solidFill>
                <a:latin typeface="Tahoma"/>
              </a:rPr>
              <a:t>الحرص على تنظيم النشاط المدرسي وتقبله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)  درجات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3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ar-SA" sz="5400" spc="-1" strike="noStrike">
                <a:solidFill>
                  <a:srgbClr val="cc0000"/>
                </a:solidFill>
                <a:latin typeface="Tahoma"/>
              </a:rPr>
              <a:t>وصف العنص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يلاحظ ذلك من خلال مشاركة المعلم في الانشطة المدرسية وقدرتة على الاستفادة من الفرص والامكانات الموجودة وتوظيفها لتفعيل النشاطالمدرسي من خلال "جماعات النشاط—والاذاعة .. والمسبقات .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1:30:05Z</dcterms:created>
  <dc:creator>A</dc:creator>
  <dc:description/>
  <dc:language>en-US</dc:language>
  <cp:lastModifiedBy>A</cp:lastModifiedBy>
  <dcterms:modified xsi:type="dcterms:W3CDTF">2005-01-07T23:29:42Z</dcterms:modified>
  <cp:revision>51</cp:revision>
  <dc:subject/>
  <dc:title>تفسير لائحة تقويم الاداء الوظيفي</dc:title>
</cp:coreProperties>
</file>