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EBB1A-FCFC-407D-83CF-9D2A4425B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B9232-7C40-4052-AF0F-72B3896C8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E226D5-376B-493D-92A7-7086E3CA2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96032-2121-40D4-B9C2-8B57CA836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A9869-30EC-473C-8D12-313FFFCAC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BB7D6-F65B-4005-892E-F6A2C87D3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CEB45-FD80-4011-901D-C062A2F7C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376E5-ED0B-423B-BFC0-4C50B616C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ADE33-24AB-4D51-918B-DBBDDD97D6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3FB007-A9CC-4A12-B47B-A4F713FBEC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6F726-1083-4CDA-97C9-B1EDB0F36A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2789E-1FA7-4B38-A186-51F19728A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12A20-7EB5-49CE-85BB-959062536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B577C-B916-431A-A65F-A6061521B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25DE1-0AE4-40AC-ADE2-95E1A0FA0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AF046-3E8E-46B6-98A8-96D79B4BD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A7F00-3EAE-43E5-8BCB-ED512E660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77093-9572-47A3-B31C-C9054BC84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7CA5A-5A2A-46F9-A96D-66D320498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2F10C-D979-48CC-A195-FE11DA059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FE474-33FE-41F2-9AA5-CEC64D76A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24E44-AAC5-4A18-9BB8-839F5D10C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2EABE-78AE-4793-BD64-F782A362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5DA2F-B967-407C-889A-B1592F7C9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14B08-F366-4F4D-82BE-9EB9FEDE1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74D7E-7967-469C-84AB-D38E6F108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36B0A5-8A9B-4FD4-82D4-5CA402B35F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05DA7-595B-44FC-813D-5D12B4FB7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75928-5E6D-477C-825A-793684768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69783-5801-471A-8271-7861EEBCB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96BF8-A5F3-4CD6-BA29-37D3802F8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D3DAB-A95D-4B5C-BA38-C2EC64F0B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03853-045C-470C-8CBF-ED80AAC36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B09D0-A633-41F6-86A8-FDA81421D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02FBB-6B24-442B-8579-D87F9580C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B0D08-8380-4A23-850F-E3C4A2A20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7223E-4A22-4BFF-96FF-AC53A8D82E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AECCF-5721-42EF-9645-639BC58ED9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F7128-6AD8-4BC3-B4FF-E2C65739FF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B7D0E-3211-4001-8248-A0AB50A87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0BEC3-904B-4682-B77A-03E1A799A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5AD49-B4AF-4657-9BBA-BB128948F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5D51-A53F-4C9F-8721-83DBC98E8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8A76B-D20B-4CB1-BEAB-8B7F7AC44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D3DC1-2537-4436-BE64-3DD9A218C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9A9CF-3E51-4735-94EF-F6550E16D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6B776-37EF-40B3-91C7-D3D71A93D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D4C1F-D86D-4071-96AC-14710069D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2B038-DADC-421A-A959-EB5D9ABA2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3F7D1-4A49-4405-B4A1-8559EEF0F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00F77-5268-499B-A49A-2DA9A6006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49848B-EE73-4F98-95F4-6C703E0B5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5EF3D-E842-47C5-847D-EE3F6A61C3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849C-5689-42E2-9D49-2E31DC7F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5625B-AF40-4398-8D63-B86FBD73F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4DDE0-AA11-47C7-9A91-00B1E6E8F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A45BE-4D19-4ECE-8C16-08DA7CC44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59B24-4AB6-418E-A3A4-5E49D63CA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84FE7-3417-4850-B9A3-11FFB645F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2C259-B121-4395-9CBC-7C4B86C1F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630D4-5194-4535-8E38-BCDAED373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BB5C8-34DE-4BB9-A3F4-743A5847A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C5146-5C88-4565-A9C9-AC34077F1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5724DF-1FB9-49F3-8F46-94E9C5636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EBC5-0115-46D7-B933-46B340F7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FEA97F-CBA1-4F5B-ABA9-6EB61EFFFD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B5C93D-84DE-46E0-B3D4-7B1700C1E8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70BD1-D5EF-48BA-95C8-16C268A34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310D5-31BD-44A8-8272-B8BC8F9D9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1BB70-1326-48C1-9DBD-5544DECD7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8FB30-3B7B-4591-AB35-0E68B0B285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D2290-14F0-4B45-A6E2-956D0A176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381FC3-9707-46DC-A9EB-7CD92FFB3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446DB-DD59-4423-B5E4-6C27DAC77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F7B87-C95E-452A-A324-A8B5EF6B1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1FBEA-13C6-441E-8EE1-B0C7809F8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7256C-A103-446D-B40A-774AE85DB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046198-7370-4081-84B5-E2C68D13F9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0D2D35-CE23-4D67-8476-C2AB63D89F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71051E-8E78-4A75-A5DD-746662E89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900ACB-2063-46D6-A936-C20711DD2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2F50B-27DE-4013-83AC-CA637B874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8CFC4-C44B-4D40-ABDF-ACA50F906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F381F-29D9-4F28-A036-C607AA6DA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BAA85-1599-456B-A82C-8E688EF34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5067A-BEF2-47A0-AEBB-738D9C13E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AB82-BD19-485A-8E68-23CF7F26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A9BA1-E498-4E78-8E3D-BD3E37006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502C6-7EBA-46A1-BBB9-B124F7145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06B55-B92C-4034-B297-9769C9509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BF3C2D-0984-4096-9570-019572997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6C8C08-2030-4541-87F8-12D9699F37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36FEC7-D283-421A-8201-7F9392B6C9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07587-5B9A-4756-971E-993FBAD3B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9D6BF-F7F6-416A-AE72-009B8787C1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D21E5-DB15-4AB8-A0A6-5AA807F72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55D28-C63A-439E-A4AF-9E8D689B7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453A-DB69-4599-97DF-A6AFA04B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B9722-5951-4888-9D29-2669DF390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9A8B2-533A-4B13-981D-6CDC2DC16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F7391-FF9A-45F7-84D2-93B7FF925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64F77-A2AC-4ABB-9AED-C07CA6E68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DE96E-1CEC-4425-8CF6-5B7F61842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2DA382-7AC0-4154-ABEB-70754D389C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0B127E-2511-4648-A285-84BB814993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68C55-E08B-4C3F-9AC6-3F966C5A87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D37185-4C0B-4813-8801-2487F307B8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AD4FF-BC1A-4CA4-94FF-BC22685020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E487-D7AB-40D3-A0F6-E86ACEF4F3DD}"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9DA4-250A-4099-AE3A-B7C3AB3C9E7D}"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0BAA-2081-4E02-99AF-24B22EB1F1D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976B-393B-4DBD-96C8-86148F498C26}"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614B-7052-4136-9071-68075F2A529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91AE-AA79-480B-912A-937DE3A224B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8BEB-5A3C-4437-8665-95496CB13687}"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0F12-D262-4585-9B90-6B2DBB12DFD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8134-51A8-45B8-9AB3-A6417505B35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142920" y="281160"/>
            <a:ext cx="8893080" cy="7700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FS_Kofi_Ahram_Stripe2"/>
              </a:rPr>
              <a:t>التعريف بالكاتب</a:t>
            </a:r>
            <a:r>
              <a:rPr b="1" lang="ar-SA" sz="2800" spc="-1" strike="noStrike">
                <a:solidFill>
                  <a:srgbClr val="000000"/>
                </a:solidFill>
                <a:latin typeface="Arial"/>
                <a:ea typeface="Traditional Arabic"/>
              </a:rPr>
              <a:t>:</a:t>
            </a:r>
            <a:endParaRPr b="0" lang="en-US" sz="2800" spc="-1" strike="noStrike">
              <a:solidFill>
                <a:srgbClr val="000000"/>
              </a:solidFill>
              <a:latin typeface="Franklin Gothic Book"/>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سمه ومولده ونسبه: عبدالله بن المقفَّع، ولد سنة </a:t>
            </a:r>
            <a:r>
              <a:rPr b="1" lang="ar-SA" sz="2400" spc="-1" strike="noStrike">
                <a:solidFill>
                  <a:srgbClr val="000000"/>
                </a:solidFill>
                <a:latin typeface="Arial"/>
                <a:ea typeface="Traditional Arabic"/>
              </a:rPr>
              <a:t>106</a:t>
            </a:r>
            <a:r>
              <a:rPr b="1" lang="ar-SA" sz="2400" spc="-1" strike="noStrike">
                <a:solidFill>
                  <a:srgbClr val="000000"/>
                </a:solidFill>
                <a:latin typeface="Arial"/>
                <a:cs typeface="Traditional Arabic"/>
              </a:rPr>
              <a:t>هـ من أب مجوسي كان يعمل في دواوين الخراج للحجاج بن يوسف.</a:t>
            </a:r>
            <a:endParaRPr b="0" lang="en-US" sz="2400" spc="-1" strike="noStrike">
              <a:solidFill>
                <a:srgbClr val="000000"/>
              </a:solidFill>
              <a:latin typeface="Franklin Gothic Book"/>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سمي المقفَّع لأن والده خان الحجاج فضربه الحجاج ضرباً مبرحاً تفقَّعت منه يداه، أي يبستا، فلقب بالمقفَّع.</a:t>
            </a:r>
            <a:endParaRPr b="0" lang="en-US" sz="2400" spc="-1" strike="noStrike">
              <a:solidFill>
                <a:srgbClr val="000000"/>
              </a:solidFill>
              <a:latin typeface="Franklin Gothic Book"/>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FS_Kofi_Ahram_Stripe2"/>
              </a:rPr>
              <a:t>تعليمه وشهرته</a:t>
            </a:r>
            <a:r>
              <a:rPr b="1" lang="ar-SA" sz="2800" spc="-1" strike="noStrike">
                <a:solidFill>
                  <a:srgbClr val="000000"/>
                </a:solidFill>
                <a:latin typeface="Arial"/>
                <a:ea typeface="Traditional Arabic"/>
              </a:rPr>
              <a:t>:</a:t>
            </a:r>
            <a:endParaRPr b="0" lang="en-US" sz="2800" spc="-1" strike="noStrike">
              <a:solidFill>
                <a:srgbClr val="000000"/>
              </a:solidFill>
              <a:latin typeface="Franklin Gothic Book"/>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عُني والده بتأديبه وتعليمه العربية، واشتغل بالكتابة لبعض الولاة في الدولة الأموية ثم العباسية. وكان نبيل الخلق، يأخذ نفسه بخصال المروءة، كما اشتهر بالسخاء. قيل له من أدبك؟ قال: نفسي، إذا رأيت من غيري قبيحاً أبيته، وإن رأيت حسناً أتيته، ويُعدُّ رأس الطبقة الأولى من الكتاب في العصر العباسي، وقد استخلص طريقة كتاباته من الأدبين العربي والفارسي عُرفت به وأُخذت عنه.</a:t>
            </a:r>
            <a:endParaRPr b="0" lang="en-US" sz="2400" spc="-1" strike="noStrike">
              <a:solidFill>
                <a:srgbClr val="000000"/>
              </a:solidFill>
              <a:latin typeface="Franklin Gothic Book"/>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FS_Kofi_Ahram_Stripe2"/>
              </a:rPr>
              <a:t>وفاته ومؤلفاته</a:t>
            </a:r>
            <a:r>
              <a:rPr b="1" lang="ar-SA" sz="2800" spc="-1" strike="noStrike">
                <a:solidFill>
                  <a:srgbClr val="000000"/>
                </a:solidFill>
                <a:latin typeface="Arial"/>
                <a:ea typeface="Traditional Arabic"/>
              </a:rPr>
              <a:t>:</a:t>
            </a:r>
            <a:endParaRPr b="0" lang="en-US" sz="2800" spc="-1" strike="noStrike">
              <a:solidFill>
                <a:srgbClr val="000000"/>
              </a:solidFill>
              <a:latin typeface="Franklin Gothic Book"/>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مات مقتولاً لخلافٍ مع المنصور سنة </a:t>
            </a:r>
            <a:r>
              <a:rPr b="1" lang="ar-SA" sz="2400" spc="-1" strike="noStrike">
                <a:solidFill>
                  <a:srgbClr val="000000"/>
                </a:solidFill>
                <a:latin typeface="Arial"/>
                <a:ea typeface="Traditional Arabic"/>
              </a:rPr>
              <a:t>145</a:t>
            </a:r>
            <a:r>
              <a:rPr b="1" lang="ar-SA" sz="2400" spc="-1" strike="noStrike">
                <a:solidFill>
                  <a:srgbClr val="000000"/>
                </a:solidFill>
                <a:latin typeface="Arial"/>
                <a:cs typeface="Traditional Arabic"/>
              </a:rPr>
              <a:t>هـ، الأدب الصغير، والأدب الكبير، وكليلة ودمن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250560" y="1485720"/>
            <a:ext cx="8785080" cy="5111640"/>
          </a:xfrm>
          <a:prstGeom prst="rect">
            <a:avLst/>
          </a:prstGeom>
          <a:noFill/>
          <a:ln w="0">
            <a:noFill/>
          </a:ln>
        </p:spPr>
        <p:txBody>
          <a:bodyPr lIns="90000" rIns="90000" tIns="46800" bIns="46800" anchor="t">
            <a:normAutofit fontScale="82000"/>
          </a:bodyPr>
          <a:p>
            <a:pPr marL="281160" indent="-281160"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e3b30"/>
                </a:solidFill>
                <a:latin typeface="Franklin Gothic Book"/>
                <a:cs typeface="FS_Kofi_Ahram_Stripe2"/>
              </a:rPr>
              <a:t>النص</a:t>
            </a:r>
            <a:r>
              <a:rPr b="1" lang="ar-SA" sz="4000" spc="-1" strike="noStrike">
                <a:solidFill>
                  <a:srgbClr val="4e3b30"/>
                </a:solidFill>
                <a:latin typeface="Franklin Gothic Book"/>
                <a:ea typeface="Traditional Arabic"/>
              </a:rPr>
              <a:t>:</a:t>
            </a:r>
            <a:endParaRPr b="0" lang="en-US" sz="4000" spc="-1" strike="noStrike">
              <a:solidFill>
                <a:srgbClr val="4e3b30"/>
              </a:solidFill>
              <a:latin typeface="Franklin Gothic Book"/>
            </a:endParaRPr>
          </a:p>
          <a:p>
            <a:pPr marL="281160" indent="-281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raditional Arabic"/>
              </a:rPr>
              <a:t>(( وإني مُخْبِرُك عن صاحبٍ لي، كان من أعظم الناس في عيني، وكان رأس ما أعظمه في عيني صغر الدنيا في عينه؛ كان خارجاً من سلطان بطنه، فلا يتشهَّى ما لا يجد، ولا يُكثِرْ إذا وجد. وكان خارجاً من سلطان لسانه، فلا يقول ما لا يعلم، ولا ينازع فيما يعلم. وكان خارجاً من سلطان الجهالة، فلا يُقدم أبداً إلَّا على ثقةٍ بمنفعةٍ.</a:t>
            </a:r>
            <a:endParaRPr b="0" lang="en-US" sz="2800" spc="-1" strike="noStrike">
              <a:solidFill>
                <a:srgbClr val="4e3b30"/>
              </a:solidFill>
              <a:latin typeface="Franklin Gothic Book"/>
            </a:endParaRPr>
          </a:p>
          <a:p>
            <a:pPr marL="281160" indent="-281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raditional Arabic"/>
              </a:rPr>
              <a:t>كان أكثر  دهره صامتاً، فإذا نطق بَذَّ الناطقين. كان يُرى مُتضاعفاً مُستضعفاً، فإذا  جاء الجد فهو الليث عادياً  كان لا يدخل في دعوى، ولا يشترك في مراء، ولا يُدلي بحجة حتى يرى قاضياً عدْلاً وشهوداً عُدُولاً. وكان لا يلوم أحداً على ما قد يكون العُذْرُ في مثله حتى يَعْلَمَ ما اعتذاره. وكان لا يشكو وَجَعاً إلا إلى من يرجو عنده البُرء. وكان لا يستشير صاحباً إلا من يرجو عنده النصيحة. وكان لا يَتَبَرَّم، ولا يتسخَّط، ولا يتشهَّى ولا يتشكَّى. وكان لا يَنقمُ على الوليّ. ولا يغفل عن العَدو، ولا يخص نفسه دون إخوانه بشيءٍ من اهتمامه وحِلته وقُوَّتِه.</a:t>
            </a:r>
            <a:endParaRPr b="0" lang="en-US" sz="2800" spc="-1" strike="noStrike">
              <a:solidFill>
                <a:srgbClr val="4e3b30"/>
              </a:solidFill>
              <a:latin typeface="Franklin Gothic Book"/>
            </a:endParaRPr>
          </a:p>
          <a:p>
            <a:pPr marL="281160" indent="-281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raditional Arabic"/>
              </a:rPr>
              <a:t>فعليك بهذه الأخلاق إن أطقت – ولن تطيق – ولكن أخذ القليل خيرٌ من ترك الجميع )) .</a:t>
            </a:r>
            <a:endParaRPr b="0" lang="en-US" sz="2800" spc="-1" strike="noStrike">
              <a:solidFill>
                <a:srgbClr val="4e3b30"/>
              </a:solidFill>
              <a:latin typeface="Franklin Gothic Book"/>
            </a:endParaRPr>
          </a:p>
        </p:txBody>
      </p:sp>
      <p:sp>
        <p:nvSpPr>
          <p:cNvPr id="401" name="Text Box 3"/>
          <p:cNvSpPr/>
          <p:nvPr/>
        </p:nvSpPr>
        <p:spPr>
          <a:xfrm>
            <a:off x="1619280" y="333360"/>
            <a:ext cx="58323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99ff"/>
                </a:solidFill>
                <a:latin typeface="Arial"/>
                <a:ea typeface="MCS Modern S_U normal."/>
              </a:rPr>
              <a:t>2</a:t>
            </a:r>
            <a:r>
              <a:rPr b="0" lang="ar-SA" sz="3600" spc="-1" strike="noStrike">
                <a:solidFill>
                  <a:srgbClr val="6699ff"/>
                </a:solidFill>
                <a:latin typeface="Arial"/>
                <a:ea typeface="MCS Modern S_U normal."/>
              </a:rPr>
              <a:t> – وصف الصديق لابن المقفَّع</a:t>
            </a:r>
            <a:endParaRPr b="0" lang="en-US" sz="3600" spc="-1" strike="noStrike">
              <a:solidFill>
                <a:srgbClr val="000000"/>
              </a:solidFill>
              <a:latin typeface="Franklin Gothic Boo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51">
                                  <p:stCondLst>
                                    <p:cond delay="0"/>
                                  </p:stCondLst>
                                  <p:childTnLst>
                                    <p:set>
                                      <p:cBhvr>
                                        <p:cTn id="12" dur="1" fill="hold">
                                          <p:stCondLst>
                                            <p:cond delay="0"/>
                                          </p:stCondLst>
                                        </p:cTn>
                                        <p:tgtEl>
                                          <p:spTgt spid="401"/>
                                        </p:tgtEl>
                                        <p:attrNameLst>
                                          <p:attrName>style.visibility</p:attrName>
                                        </p:attrNameLst>
                                      </p:cBhvr>
                                      <p:to>
                                        <p:strVal val="visible"/>
                                      </p:to>
                                    </p:set>
                                    <p:animEffect filter="fade" transition="in">
                                      <p:cBhvr additive="repl">
                                        <p:cTn id="13" dur="770"/>
                                        <p:tgtEl>
                                          <p:spTgt spid="401"/>
                                        </p:tgtEl>
                                      </p:cBhvr>
                                    </p:animEffect>
                                    <p:animScale>
                                      <p:cBhvr>
                                        <p:cTn id="14" dur="770" fill="hold"/>
                                        <p:tgtEl>
                                          <p:spTgt spid="401"/>
                                        </p:tgtEl>
                                      </p:cBhvr>
                                      <p:from x="10000" y="10000"/>
                                      <p:to x="200000" y="450000"/>
                                    </p:animScale>
                                    <p:animScale>
                                      <p:cBhvr>
                                        <p:cTn id="15" dur="1230" fill="hold">
                                          <p:stCondLst>
                                            <p:cond delay="770"/>
                                          </p:stCondLst>
                                        </p:cTn>
                                        <p:tgtEl>
                                          <p:spTgt spid="401"/>
                                        </p:tgtEl>
                                      </p:cBhvr>
                                      <p:from x="200000" y="450000"/>
                                      <p:to x="100000" y="100000"/>
                                    </p:animScale>
                                    <p:set>
                                      <p:cBhvr>
                                        <p:cTn id="16" dur="770" fill="hold"/>
                                        <p:tgtEl>
                                          <p:spTgt spid="401"/>
                                        </p:tgtEl>
                                        <p:attrNameLst>
                                          <p:attrName>ppt_x</p:attrName>
                                        </p:attrNameLst>
                                      </p:cBhvr>
                                      <p:to>
                                        <p:strVal val="(0.5)"/>
                                      </p:to>
                                    </p:set>
                                    <p:anim calcmode="lin" valueType="num" from="(0.5)" to="(#ppt_x)">
                                      <p:cBhvr additive="repl">
                                        <p:cTn id="17" dur="1230" fill="hold">
                                          <p:stCondLst>
                                            <p:cond delay="770"/>
                                          </p:stCondLst>
                                        </p:cTn>
                                        <p:tgtEl>
                                          <p:spTgt spid="401"/>
                                        </p:tgtEl>
                                        <p:attrNameLst>
                                          <p:attrName>ppt_x</p:attrName>
                                        </p:attrNameLst>
                                      </p:cBhvr>
                                    </p:anim>
                                    <p:set>
                                      <p:cBhvr>
                                        <p:cTn id="18" dur="770" fill="hold"/>
                                        <p:tgtEl>
                                          <p:spTgt spid="401"/>
                                        </p:tgtEl>
                                        <p:attrNameLst>
                                          <p:attrName>ppt_y</p:attrName>
                                        </p:attrNameLst>
                                      </p:cBhvr>
                                      <p:to>
                                        <p:strVal val="(#ppt_y+0.4)"/>
                                      </p:to>
                                    </p:set>
                                    <p:anim calcmode="lin" valueType="num" from="(#ppt_y+0.4)" to="(#ppt_y)">
                                      <p:cBhvr additive="repl">
                                        <p:cTn id="19" dur="1230" fill="hold">
                                          <p:stCondLst>
                                            <p:cond delay="770"/>
                                          </p:stCondLst>
                                        </p:cTn>
                                        <p:tgtEl>
                                          <p:spTgt spid="401"/>
                                        </p:tgtEl>
                                        <p:attrNameLst>
                                          <p:attrName>ppt_y</p:attrName>
                                        </p:attrNameLst>
                                      </p:cBhvr>
                                    </p:anim>
                                  </p:childTnLst>
                                </p:cTn>
                              </p:par>
                            </p:childTnLst>
                          </p:cTn>
                        </p:par>
                        <p:par>
                          <p:cTn id="20" fill="hold">
                            <p:stCondLst>
                              <p:cond delay="2000"/>
                            </p:stCondLst>
                            <p:childTnLst>
                              <p:par>
                                <p:cTn id="21" nodeType="afterEffect" fill="hold" presetClass="entr" presetID="1">
                                  <p:stCondLst>
                                    <p:cond delay="0"/>
                                  </p:stCondLst>
                                  <p:childTnLst>
                                    <p:set>
                                      <p:cBhvr>
                                        <p:cTn id="22" dur="1" fill="hold">
                                          <p:stCondLst>
                                            <p:cond delay="0"/>
                                          </p:stCondLst>
                                        </p:cTn>
                                        <p:tgtEl>
                                          <p:spTgt spid="400">
                                            <p:txEl>
                                              <p:pRg st="0" end="0"/>
                                            </p:txEl>
                                          </p:spTgt>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1">
                                  <p:stCondLst>
                                    <p:cond delay="0"/>
                                  </p:stCondLst>
                                  <p:childTnLst>
                                    <p:set>
                                      <p:cBhvr>
                                        <p:cTn id="25" dur="1" fill="hold">
                                          <p:stCondLst>
                                            <p:cond delay="0"/>
                                          </p:stCondLst>
                                        </p:cTn>
                                        <p:tgtEl>
                                          <p:spTgt spid="400">
                                            <p:txEl>
                                              <p:pRg st="1" end="1"/>
                                            </p:txEl>
                                          </p:spTgt>
                                        </p:tgtEl>
                                        <p:attrNameLst>
                                          <p:attrName>style.visibility</p:attrName>
                                        </p:attrNameLst>
                                      </p:cBhvr>
                                      <p:to>
                                        <p:strVal val="visible"/>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400">
                                            <p:txEl>
                                              <p:pRg st="2" end="2"/>
                                            </p:txEl>
                                          </p:spTgt>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1T12:06:59Z</dcterms:created>
  <dc:creator>Screen</dc:creator>
  <dc:description/>
  <dc:language>en-US</dc:language>
  <cp:lastModifiedBy>Screen</cp:lastModifiedBy>
  <dcterms:modified xsi:type="dcterms:W3CDTF">2013-10-31T12:10:40Z</dcterms:modified>
  <cp:revision>1</cp:revision>
  <dc:subject/>
  <dc:title>الشريحة 1</dc:title>
</cp:coreProperties>
</file>